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0D87-0A37-43D8-9BE1-FD9E7CF9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97B6-4CCB-4870-BA49-C75AEF59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5CDF-FA27-4868-BD92-45FC8587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CF82-BCC2-4E61-9429-868BA711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0B1D-6297-4060-8C9D-629CB321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FE8-2C01-46A8-B16A-EEE5CAF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A91E-713B-4986-BE11-9F7A78D3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990B-18C8-4180-AAE4-7B8964A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A0D4-43E4-4486-8C0D-2E0C268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0EE2-4F15-4CA2-A601-C39953D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BB27-0561-4520-9A42-8D1B097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8F66-D1FC-496D-A825-7BE9531F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4619-1B48-45E1-AB7A-A75D716D8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33760" y="974880"/>
            <a:ext cx="1938240" cy="1768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Nuclear - chromosome comp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5181480"/>
            <a:ext cx="9015480" cy="1038240"/>
            <a:chOff x="685800" y="5181480"/>
            <a:chExt cx="9015480" cy="1038240"/>
          </a:xfrm>
        </p:grpSpPr>
        <p:sp>
          <p:nvSpPr>
            <p:cNvPr id="46" name=""/>
            <p:cNvSpPr/>
            <p:nvPr/>
          </p:nvSpPr>
          <p:spPr>
            <a:xfrm>
              <a:off x="736560" y="5448240"/>
              <a:ext cx="8890200" cy="7495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685800" y="5181480"/>
            <a:ext cx="9015480" cy="103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5181480"/>
                      <a:ext cx="9015480" cy="10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" name=""/>
          <p:cNvGrpSpPr/>
          <p:nvPr/>
        </p:nvGrpSpPr>
        <p:grpSpPr>
          <a:xfrm>
            <a:off x="4514040" y="6283440"/>
            <a:ext cx="3786120" cy="275040"/>
            <a:chOff x="4514040" y="6283440"/>
            <a:chExt cx="3786120" cy="275040"/>
          </a:xfrm>
        </p:grpSpPr>
        <p:sp>
          <p:nvSpPr>
            <p:cNvPr id="50" name=""/>
            <p:cNvSpPr/>
            <p:nvPr/>
          </p:nvSpPr>
          <p:spPr>
            <a:xfrm>
              <a:off x="4521240" y="6284880"/>
              <a:ext cx="3720960" cy="2430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14040" y="6283440"/>
              <a:ext cx="378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action by chromosome scaffold / nuclear matr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95480" y="2895480"/>
            <a:ext cx="1035000" cy="201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099120" y="1019160"/>
            <a:ext cx="2916360" cy="172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103800" y="2906640"/>
            <a:ext cx="2373480" cy="201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2600" y="2308320"/>
            <a:ext cx="1939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osomosom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622160" y="4975200"/>
            <a:ext cx="534240" cy="305640"/>
            <a:chOff x="1622160" y="4975200"/>
            <a:chExt cx="534240" cy="305640"/>
          </a:xfrm>
        </p:grpSpPr>
        <p:sp>
          <p:nvSpPr>
            <p:cNvPr id="57" name=""/>
            <p:cNvSpPr/>
            <p:nvPr/>
          </p:nvSpPr>
          <p:spPr>
            <a:xfrm>
              <a:off x="1622160" y="4975200"/>
              <a:ext cx="53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85880" y="5000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6200000">
            <a:off x="1990800" y="3761640"/>
            <a:ext cx="68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05000" y="30146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0520" y="4932360"/>
            <a:ext cx="92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oma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92600" y="2914560"/>
            <a:ext cx="1266120" cy="2392920"/>
            <a:chOff x="2892600" y="2914560"/>
            <a:chExt cx="1266120" cy="239292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3192480" y="2914560"/>
              <a:ext cx="9604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36040" y="5032440"/>
              <a:ext cx="92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romat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59320" y="4954680"/>
              <a:ext cx="68040" cy="120600"/>
            </a:xfrm>
            <a:prstGeom prst="upArrow">
              <a:avLst>
                <a:gd name="adj1" fmla="val 50000"/>
                <a:gd name="adj2" fmla="val 8861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7000" y="4954680"/>
              <a:ext cx="68040" cy="120600"/>
            </a:xfrm>
            <a:prstGeom prst="upArrow">
              <a:avLst>
                <a:gd name="adj1" fmla="val 50000"/>
                <a:gd name="adj2" fmla="val 8861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2187000" y="379008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tic chrom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40560" y="3446640"/>
            <a:ext cx="1958760" cy="1293120"/>
            <a:chOff x="3940560" y="3446640"/>
            <a:chExt cx="1958760" cy="1293120"/>
          </a:xfrm>
        </p:grpSpPr>
        <p:grpSp>
          <p:nvGrpSpPr>
            <p:cNvPr id="69" name=""/>
            <p:cNvGrpSpPr/>
            <p:nvPr/>
          </p:nvGrpSpPr>
          <p:grpSpPr>
            <a:xfrm>
              <a:off x="3940560" y="3740040"/>
              <a:ext cx="1958760" cy="999720"/>
              <a:chOff x="3940560" y="3740040"/>
              <a:chExt cx="1958760" cy="999720"/>
            </a:xfrm>
          </p:grpSpPr>
          <p:sp>
            <p:nvSpPr>
              <p:cNvPr id="70" name=""/>
              <p:cNvSpPr/>
              <p:nvPr/>
            </p:nvSpPr>
            <p:spPr>
              <a:xfrm>
                <a:off x="4616280" y="3740040"/>
                <a:ext cx="1283040" cy="139680"/>
              </a:xfrm>
              <a:prstGeom prst="rightArrow">
                <a:avLst>
                  <a:gd name="adj1" fmla="val 50000"/>
                  <a:gd name="adj2" fmla="val 459321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40560" y="3825720"/>
                <a:ext cx="13708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635720" y="3446640"/>
              <a:ext cx="1041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2M N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94120" y="4246560"/>
              <a:ext cx="91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ist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929400" y="1306440"/>
            <a:ext cx="1958760" cy="1293480"/>
            <a:chOff x="3929400" y="1306440"/>
            <a:chExt cx="1958760" cy="1293480"/>
          </a:xfrm>
        </p:grpSpPr>
        <p:grpSp>
          <p:nvGrpSpPr>
            <p:cNvPr id="75" name=""/>
            <p:cNvGrpSpPr/>
            <p:nvPr/>
          </p:nvGrpSpPr>
          <p:grpSpPr>
            <a:xfrm>
              <a:off x="3929400" y="1600200"/>
              <a:ext cx="1958760" cy="999720"/>
              <a:chOff x="3929400" y="1600200"/>
              <a:chExt cx="1958760" cy="999720"/>
            </a:xfrm>
          </p:grpSpPr>
          <p:sp>
            <p:nvSpPr>
              <p:cNvPr id="76" name=""/>
              <p:cNvSpPr/>
              <p:nvPr/>
            </p:nvSpPr>
            <p:spPr>
              <a:xfrm>
                <a:off x="4605480" y="1600200"/>
                <a:ext cx="1282680" cy="139680"/>
              </a:xfrm>
              <a:prstGeom prst="rightArrow">
                <a:avLst>
                  <a:gd name="adj1" fmla="val 50000"/>
                  <a:gd name="adj2" fmla="val 459192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29400" y="1685880"/>
                <a:ext cx="13708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4624560" y="1306440"/>
              <a:ext cx="1041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2M N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82960" y="2106720"/>
              <a:ext cx="91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ist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rot="900000">
            <a:off x="3849480" y="2389680"/>
            <a:ext cx="76428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9" y="235"/>
                </a:moveTo>
                <a:arcTo wR="10800" hR="10800" stAng="-4682216" swAng="8733547"/>
                <a:lnTo>
                  <a:pt x="10800" y="10800"/>
                </a:lnTo>
                <a:close/>
              </a:path>
              <a:path fill="none" w="21600" h="21600">
                <a:moveTo>
                  <a:pt x="13039" y="235"/>
                </a:moveTo>
                <a:arcTo wR="10800" hR="10800" stAng="-4682216" swAng="8733547"/>
              </a:path>
            </a:pathLst>
          </a:custGeom>
          <a:noFill/>
          <a:ln cap="rnd"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84320" y="2666880"/>
            <a:ext cx="91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Black"/>
              </a:rPr>
              <a:t>Mi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55040" y="2917800"/>
            <a:ext cx="103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9720" y="2115360"/>
            <a:ext cx="2327400" cy="111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43" y="669"/>
                </a:moveTo>
                <a:arcTo wR="10800" hR="10800" stAng="-4183254" swAng="6007069"/>
                <a:lnTo>
                  <a:pt x="10800" y="10800"/>
                </a:lnTo>
                <a:close/>
              </a:path>
              <a:path fill="none" w="21600" h="21600">
                <a:moveTo>
                  <a:pt x="14543" y="669"/>
                </a:moveTo>
                <a:arcTo wR="10800" hR="10800" stAng="-4183254" swAng="600706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6936480" y="2878920"/>
            <a:ext cx="226620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9" y="16256"/>
                </a:moveTo>
                <a:arcTo wR="10800" hR="10800" stAng="8979490" swAng="6001021"/>
                <a:lnTo>
                  <a:pt x="10800" y="10800"/>
                </a:lnTo>
                <a:close/>
              </a:path>
              <a:path fill="none" w="21600" h="21600">
                <a:moveTo>
                  <a:pt x="1479" y="16256"/>
                </a:moveTo>
                <a:arcTo wR="10800" hR="10800" stAng="8979490" swAng="6001021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38:12Z</dcterms:modified>
  <cp:revision>15</cp:revision>
  <dc:subject/>
  <dc:title>CHROMATIN</dc:title>
</cp:coreProperties>
</file>