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79E0-C422-4069-B205-9FF7A94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8D50-65BB-4804-B19A-BDA0747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D43D-9FE8-4D13-975E-AB297EF4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51B9-3E57-4B04-B032-BAE17EC2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9D06-0C4E-47C2-8942-C0FF18F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5E69-62EA-4286-BC84-7395813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5578-1259-4E94-AD32-469BD16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E9B1-39D8-481E-8647-E9190D0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2023-F8DB-49F8-B678-55EDBE72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9FE5-848A-4502-B17A-4253F26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7BAE-E956-46F6-ACED-67D4D4F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9B12-BF6B-4FDA-882D-8ED18E93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BBC0-03AC-416C-96B8-9436993D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9920" y="27432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re Hist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79480" y="223920"/>
            <a:ext cx="571032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05400" y="2286000"/>
            <a:ext cx="3843360" cy="42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1480" y="3475080"/>
            <a:ext cx="3789000" cy="228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structure of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histones is the s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long hydrophobic alpha-helix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hort hydrophobic alpha hel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rm p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A - H2B and H3 - H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nte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480" y="5913360"/>
            <a:ext cx="429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udrianakis et al. PNAS 88, 10138 (199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NAS 90, 10489 (1993); PNAS 92, 11170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40:09Z</dcterms:modified>
  <cp:revision>15</cp:revision>
  <dc:subject/>
  <dc:title>CHROMATIN</dc:title>
</cp:coreProperties>
</file>