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77AC-20A1-448A-BAC5-20DB9B2B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B882-69A6-4C87-B44D-E3C354BB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75AD-6226-4DBD-9D74-015531C2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8DEC-19F0-4F7C-91F8-AEA04D2F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502D-FFA1-4FD8-92A6-DC05B6DB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8534-BFBF-4CAC-8923-C29A4D4E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4519-ACA8-4CCC-9641-B26E4D4C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522D-AACA-4B90-A061-B2D08F66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D119-AF18-4D5B-B251-C4DA4FE8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4BAC-0824-48D3-8429-3A3568D6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C720-73AD-4769-B943-10FD8637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7175-464A-4F1D-A165-D54C5970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22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84D5-E68C-4D40-B686-62F12DA1E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4224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Histone octamer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25520" y="1116000"/>
            <a:ext cx="1408320" cy="1874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160" y="1341360"/>
            <a:ext cx="997200" cy="1270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0560" y="3625920"/>
            <a:ext cx="2532240" cy="234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852040" y="1179360"/>
            <a:ext cx="804600" cy="220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058160" y="1760400"/>
            <a:ext cx="1342800" cy="1041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658280" y="3927600"/>
            <a:ext cx="1361880" cy="219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rcRect l="10807" t="0" r="0" b="0"/>
          <a:stretch/>
        </p:blipFill>
        <p:spPr>
          <a:xfrm>
            <a:off x="3952800" y="3670200"/>
            <a:ext cx="2698920" cy="2862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5360" y="3984480"/>
            <a:ext cx="899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3-H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tra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27600" y="4137120"/>
            <a:ext cx="954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2A-H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08800" y="3710160"/>
            <a:ext cx="1072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a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740000">
            <a:off x="8654760" y="3206880"/>
            <a:ext cx="139680" cy="596880"/>
          </a:xfrm>
          <a:prstGeom prst="downArrow">
            <a:avLst>
              <a:gd name="adj1" fmla="val 50000"/>
              <a:gd name="adj2" fmla="val 201730"/>
            </a:avLst>
          </a:prstGeom>
          <a:solidFill>
            <a:srgbClr val="ffff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680000">
            <a:off x="7968960" y="3206880"/>
            <a:ext cx="139680" cy="596880"/>
          </a:xfrm>
          <a:prstGeom prst="downArrow">
            <a:avLst>
              <a:gd name="adj1" fmla="val 50000"/>
              <a:gd name="adj2" fmla="val 201730"/>
            </a:avLst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02280" y="4959360"/>
            <a:ext cx="597240" cy="139680"/>
          </a:xfrm>
          <a:prstGeom prst="leftArrow">
            <a:avLst>
              <a:gd name="adj1" fmla="val 50000"/>
              <a:gd name="adj2" fmla="val 201812"/>
            </a:avLst>
          </a:prstGeom>
          <a:solidFill>
            <a:srgbClr val="ffff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68720" y="4883040"/>
            <a:ext cx="596880" cy="139680"/>
          </a:xfrm>
          <a:prstGeom prst="rightArrow">
            <a:avLst>
              <a:gd name="adj1" fmla="val 50000"/>
              <a:gd name="adj2" fmla="val 201730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500000">
            <a:off x="2178000" y="2901960"/>
            <a:ext cx="139680" cy="596880"/>
          </a:xfrm>
          <a:prstGeom prst="downArrow">
            <a:avLst>
              <a:gd name="adj1" fmla="val 50000"/>
              <a:gd name="adj2" fmla="val 201730"/>
            </a:avLst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9980000">
            <a:off x="1111320" y="2825280"/>
            <a:ext cx="139680" cy="596880"/>
          </a:xfrm>
          <a:prstGeom prst="downArrow">
            <a:avLst>
              <a:gd name="adj1" fmla="val 50000"/>
              <a:gd name="adj2" fmla="val 201730"/>
            </a:avLst>
          </a:prstGeom>
          <a:solidFill>
            <a:srgbClr val="00cc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2880" y="3511440"/>
            <a:ext cx="2806920" cy="257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60640" y="3594240"/>
            <a:ext cx="2946600" cy="302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88080" y="3816360"/>
            <a:ext cx="1892520" cy="250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500000">
            <a:off x="2025720" y="2749680"/>
            <a:ext cx="139680" cy="596880"/>
          </a:xfrm>
          <a:prstGeom prst="downArrow">
            <a:avLst>
              <a:gd name="adj1" fmla="val 50000"/>
              <a:gd name="adj2" fmla="val 201730"/>
            </a:avLst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9980000">
            <a:off x="1263600" y="2673000"/>
            <a:ext cx="139680" cy="596880"/>
          </a:xfrm>
          <a:prstGeom prst="downArrow">
            <a:avLst>
              <a:gd name="adj1" fmla="val 50000"/>
              <a:gd name="adj2" fmla="val 201730"/>
            </a:avLst>
          </a:prstGeom>
          <a:solidFill>
            <a:srgbClr val="00cc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02280" y="5264280"/>
            <a:ext cx="597240" cy="139680"/>
          </a:xfrm>
          <a:prstGeom prst="leftArrow">
            <a:avLst>
              <a:gd name="adj1" fmla="val 50000"/>
              <a:gd name="adj2" fmla="val 201812"/>
            </a:avLst>
          </a:prstGeom>
          <a:solidFill>
            <a:srgbClr val="ffff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24:01Z</cp:lastPrinted>
  <dcterms:modified xsi:type="dcterms:W3CDTF">1999-03-24T05:40:56Z</dcterms:modified>
  <cp:revision>15</cp:revision>
  <dc:subject/>
  <dc:title>CHROMATIN</dc:title>
</cp:coreProperties>
</file>