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C66C-3541-4953-BFD2-7E85322F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D20B-EA88-45D7-87FF-2BC179D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C79D-D17F-43A7-AE7E-AC7016C5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718-0731-4652-B1C9-19E6AC1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3E29-618A-439D-BB60-F00606C6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8D61-ED30-4F30-9B67-FEBE863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071F-A1A5-4F46-BC56-DE151218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B2D0-ECDC-4EB4-9D70-2CED74D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AC5F-90FE-4007-AD53-E065036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87B3-911C-4CB8-B720-C4CAE91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F350-455F-44E3-BF63-A0E8A31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7DC5-A664-4A42-AC2E-B5C0A8E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723-212D-4158-A30D-9923FFDB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22824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tone octamer forms a ramp for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79640" y="984240"/>
            <a:ext cx="3911400" cy="396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72280" y="990720"/>
            <a:ext cx="3917880" cy="487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8640" y="5164200"/>
            <a:ext cx="181152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9200" y="6066000"/>
            <a:ext cx="427536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: + (arg, ly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n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H (ser, t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42:09Z</dcterms:modified>
  <cp:revision>15</cp:revision>
  <dc:subject/>
  <dc:title>CHROMATIN</dc:title>
</cp:coreProperties>
</file>