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1B80-725B-4E11-B87D-CD922082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A46F-C78E-4F9C-AEC9-81681283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E0D6-D8F5-4F15-8EC8-FF013F84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1170-7516-48DE-822B-B3102582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7E8D-A86B-4756-98AA-6AC9CA60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10D4-2AE5-4390-84A3-122F290B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85CD-12D1-43ED-B607-43740D49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F139-A107-48C9-B639-A0220EA4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B660-8755-4D53-9494-0C8D44E8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F11F-01C3-4B5C-9D7D-2D3EB0A5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7D6F-4FCF-4EF6-A9CC-8E28D604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2C30-CF95-4D90-A305-C8AB278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33EE-C120-491C-A627-C9CDD355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3080" y="457200"/>
            <a:ext cx="9524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Histone octamer organizes 145 bp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23920" y="1004760"/>
            <a:ext cx="2630520" cy="4884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11720" y="1004760"/>
            <a:ext cx="4879800" cy="257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21080" y="3801960"/>
            <a:ext cx="4878360" cy="20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re histone di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6 DNA binding su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organize 3 DNA tur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ne octa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s 145 bp of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 3/4 helical turn of D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 nm of DNA packaged in a disc of 6 x 11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440" y="5862600"/>
            <a:ext cx="217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       6 nm      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1652760" y="3274920"/>
            <a:ext cx="455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                      11 nm                       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4:01Z</cp:lastPrinted>
  <dcterms:modified xsi:type="dcterms:W3CDTF">1999-03-24T05:42:59Z</dcterms:modified>
  <cp:revision>15</cp:revision>
  <dc:subject/>
  <dc:title>CHROMATIN</dc:title>
</cp:coreProperties>
</file>