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A6B3-CB36-4CD5-90CB-C7E1C8E3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850E-F691-4682-A83A-349CD5B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5E20-7067-4F7F-8AE0-24089FC0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91C4-0761-4AB2-8EAD-9CCD1B73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F6C3-7485-42F9-A160-821E8F17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0B74-84E7-496C-813F-9DC49581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99A6-0581-42D7-AEFE-731B387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F7E6-699E-4114-8C1C-C5DC5E74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4A51-7707-41D7-8A1E-86A9AD3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AD6F-1F09-4A3B-9A8E-F579453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BCFB-DD46-4165-AFFC-FDE16BF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29D5-1C59-4549-B0CD-795BBCC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E5B-0F25-488D-A798-92A933E7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8560" y="4813200"/>
            <a:ext cx="4270680" cy="45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1/H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ular protein domai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inker histone H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0" r="0" b="1630"/>
          <a:stretch/>
        </p:blipFill>
        <p:spPr>
          <a:xfrm>
            <a:off x="5257800" y="841320"/>
            <a:ext cx="4043520" cy="390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5448" t="5242" r="5761" b="7841"/>
          <a:stretch/>
        </p:blipFill>
        <p:spPr>
          <a:xfrm>
            <a:off x="1066680" y="838080"/>
            <a:ext cx="3684600" cy="448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0080" y="5815080"/>
            <a:ext cx="7531200" cy="64116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histone H1 organizes exiting DNA (up to 168 - 200 bp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1 stabilizes interaction between nucleosomes in compacted chromat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379400">
            <a:off x="2478240" y="3745080"/>
            <a:ext cx="822240" cy="13953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9800" y="52858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n the OUTSIDE of the DNA gyr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6160" y="530676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symmetric between the DNA gyr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23920" y="5549040"/>
            <a:ext cx="25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hou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 395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02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15760" y="554904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lffe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4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6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450400" y="4115520"/>
            <a:ext cx="1317600" cy="122724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21600" h="21600">
                <a:moveTo>
                  <a:pt x="4685" y="15816"/>
                </a:moveTo>
                <a:arcTo wR="-7909" hR="-7909" stAng="8438323" swAng="-2934056"/>
                <a:lnTo>
                  <a:pt x="11128" y="5"/>
                </a:lnTo>
                <a:arcTo wR="10800" hR="10800" stAng="-5295733" swAng="2934056"/>
                <a:lnTo>
                  <a:pt x="21238" y="2238"/>
                </a:lnTo>
                <a:lnTo>
                  <a:pt x="20662" y="8072"/>
                </a:lnTo>
                <a:lnTo>
                  <a:pt x="14827" y="74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475880" y="4044960"/>
            <a:ext cx="1095480" cy="1343160"/>
          </a:xfrm>
          <a:custGeom>
            <a:avLst/>
            <a:gdLst>
              <a:gd name="textAreaLeft" fmla="*/ -360 w 1095480"/>
              <a:gd name="textAreaRight" fmla="*/ 1095480 w 109548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21600" h="21600">
                <a:moveTo>
                  <a:pt x="7420" y="17558"/>
                </a:moveTo>
                <a:arcTo wR="-7556" hR="-7556" stAng="6994309" swAng="-6994309"/>
                <a:lnTo>
                  <a:pt x="0" y="10800"/>
                </a:lnTo>
                <a:arcTo wR="10800" hR="10800" stAng="10800000" swAng="6994309"/>
                <a:lnTo>
                  <a:pt x="16839" y="-1274"/>
                </a:lnTo>
                <a:lnTo>
                  <a:pt x="18771" y="4525"/>
                </a:lnTo>
                <a:lnTo>
                  <a:pt x="12972" y="6457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0840" y="4564080"/>
            <a:ext cx="1187280" cy="1461960"/>
          </a:xfrm>
          <a:custGeom>
            <a:avLst/>
            <a:gdLst>
              <a:gd name="textAreaLeft" fmla="*/ 0 w 1187280"/>
              <a:gd name="textAreaRight" fmla="*/ 1187280 w 118728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1600" h="21600">
                <a:moveTo>
                  <a:pt x="11493" y="18786"/>
                </a:moveTo>
                <a:arcTo wR="-8016" hR="-8016" stAng="5102428" swAng="-5102428"/>
                <a:lnTo>
                  <a:pt x="0" y="10800"/>
                </a:lnTo>
                <a:arcTo wR="10800" hR="10800" stAng="10800000" swAng="5102428"/>
                <a:lnTo>
                  <a:pt x="9633" y="-2649"/>
                </a:lnTo>
                <a:lnTo>
                  <a:pt x="14063" y="1073"/>
                </a:lnTo>
                <a:lnTo>
                  <a:pt x="10340" y="5504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7:55Z</cp:lastPrinted>
  <dcterms:modified xsi:type="dcterms:W3CDTF">1999-03-24T06:32:57Z</dcterms:modified>
  <cp:revision>15</cp:revision>
  <dc:subject/>
  <dc:title>CHROMATIN</dc:title>
</cp:coreProperties>
</file>