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9F47-ADB6-4396-BEFF-4EA139FD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EDE28-E327-4E1F-B426-53C26DF4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38E61-64CB-4CB3-B3F7-ABF559D3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EF09-960E-436A-8861-EF9FA384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F3A5B-DB5C-4A46-8A69-6733A17F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8FC2F-02C3-4881-A931-1932FFAE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EF8B6-ED08-4AC7-A1A2-37F6F2B6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D2734-DFEE-44E4-AADC-BCFFA0F9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94BCB-FC69-4FAD-B154-24F7EBA7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5D70-E485-4E6D-A461-2BCD834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8D234-2C69-4B49-843C-C8B93930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4C60-D202-4E2C-B8A8-77BB2E3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572320" y="6477120"/>
            <a:ext cx="94284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9527760" y="6382800"/>
            <a:ext cx="422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69D-7203-4CD6-957C-18C39B289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247680" y="6259680"/>
            <a:ext cx="1390680" cy="4251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630360" y="6480000"/>
            <a:ext cx="55080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742240" y="5310000"/>
            <a:ext cx="282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yright 1999, J.H.Waterborg, UMK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66400" y="380520"/>
            <a:ext cx="9753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Where are the N-termini of the core histone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924360" y="1506600"/>
            <a:ext cx="6092640" cy="3674880"/>
            <a:chOff x="3924360" y="1506600"/>
            <a:chExt cx="6092640" cy="3674880"/>
          </a:xfrm>
        </p:grpSpPr>
        <p:pic>
          <p:nvPicPr>
            <p:cNvPr id="45" name="" descr=""/>
            <p:cNvPicPr/>
            <p:nvPr/>
          </p:nvPicPr>
          <p:blipFill>
            <a:blip r:embed="rId1"/>
            <a:stretch/>
          </p:blipFill>
          <p:spPr>
            <a:xfrm>
              <a:off x="3924360" y="1506600"/>
              <a:ext cx="3249720" cy="348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7162920" y="1620720"/>
              <a:ext cx="2854080" cy="3560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39760" y="1552680"/>
            <a:ext cx="3522600" cy="3705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24280" y="5307120"/>
            <a:ext cx="273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uger, Mad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ichmond, Sargent &amp; Richm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ature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9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, 251-26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80760" y="5767560"/>
            <a:ext cx="5311800" cy="64116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 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What is the function of histone N-termini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uestion 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re all N-termini functionally equivalen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JH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3-99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5T20:57:39Z</dcterms:created>
  <dc:creator>Jakob H. Waterborg</dc:creator>
  <dc:description/>
  <dc:language>en-US</dc:language>
  <cp:lastModifiedBy>Jakob H. Waterborg</cp:lastModifiedBy>
  <cp:lastPrinted>1999-03-10T03:27:55Z</cp:lastPrinted>
  <dcterms:modified xsi:type="dcterms:W3CDTF">1999-03-24T06:34:31Z</dcterms:modified>
  <cp:revision>15</cp:revision>
  <dc:subject/>
  <dc:title>CHROMATIN</dc:title>
</cp:coreProperties>
</file>