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06526-D8E6-4A20-876B-FD81E89F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6B754-E7E9-41F4-A4E4-7EF2FEFC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1DB81-85FE-403A-913E-460646AB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D48B9-05C7-4107-ADB9-0713DCA8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F7C4F-42F2-4D76-AFC2-7F417665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63712-2734-48A8-A3A7-EE6F63B6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C46EB-BB09-4839-AD21-80CF0BD1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F1731-6142-43F6-9E46-0AB86DDE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25A92-CA45-4830-8885-834B5971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A7856-3D65-41F3-AE14-FE030990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771FE-9CBB-4227-AEA5-BAB8A3AB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AEC16-2A82-41B7-B1B6-3F5E6BA7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72320" y="6477120"/>
            <a:ext cx="942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527760" y="6382800"/>
            <a:ext cx="422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87B7-1386-4F93-8600-6E8F2CFB1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47680" y="6259680"/>
            <a:ext cx="1390680" cy="425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30360" y="6480000"/>
            <a:ext cx="550800" cy="2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742240" y="5310000"/>
            <a:ext cx="282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1999, J.H.Waterborg, UMK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hromatosome%20Nuc29b%20+GH5%201x%20small" descr=""/>
          <p:cNvPicPr/>
          <p:nvPr/>
        </p:nvPicPr>
        <p:blipFill>
          <a:blip r:embed="rId1"/>
          <a:stretch/>
        </p:blipFill>
        <p:spPr>
          <a:xfrm>
            <a:off x="314280" y="436680"/>
            <a:ext cx="4146480" cy="5792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86240" y="360000"/>
            <a:ext cx="492120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romatos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103720" y="1503360"/>
            <a:ext cx="4451040" cy="3096720"/>
            <a:chOff x="5103720" y="1503360"/>
            <a:chExt cx="4451040" cy="3096720"/>
          </a:xfrm>
        </p:grpSpPr>
        <p:grpSp>
          <p:nvGrpSpPr>
            <p:cNvPr id="46" name=""/>
            <p:cNvGrpSpPr/>
            <p:nvPr/>
          </p:nvGrpSpPr>
          <p:grpSpPr>
            <a:xfrm>
              <a:off x="6530760" y="1503360"/>
              <a:ext cx="3024000" cy="3085920"/>
              <a:chOff x="6530760" y="1503360"/>
              <a:chExt cx="3024000" cy="308592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6533280" y="3095280"/>
                <a:ext cx="3021480" cy="1494000"/>
                <a:chOff x="6533280" y="3095280"/>
                <a:chExt cx="3021480" cy="1494000"/>
              </a:xfrm>
            </p:grpSpPr>
            <p:pic>
              <p:nvPicPr>
                <p:cNvPr id="48" name="chromatin%20zigzag%20VanHolde89%20f7-11b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533280" y="3095280"/>
                  <a:ext cx="3021480" cy="1494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" name=""/>
                <p:cNvSpPr/>
                <p:nvPr/>
              </p:nvSpPr>
              <p:spPr>
                <a:xfrm>
                  <a:off x="8027280" y="3723120"/>
                  <a:ext cx="480960" cy="254520"/>
                </a:xfrm>
                <a:custGeom>
                  <a:avLst/>
                  <a:gdLst/>
                  <a:ahLst/>
                  <a:rect l="l" t="t" r="r" b="b"/>
                  <a:pathLst>
                    <a:path w="348" h="184">
                      <a:moveTo>
                        <a:pt x="0" y="184"/>
                      </a:moveTo>
                      <a:cubicBezTo>
                        <a:pt x="47" y="145"/>
                        <a:pt x="94" y="107"/>
                        <a:pt x="152" y="76"/>
                      </a:cubicBezTo>
                      <a:cubicBezTo>
                        <a:pt x="210" y="45"/>
                        <a:pt x="315" y="13"/>
                        <a:pt x="348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8127000" y="3701160"/>
                  <a:ext cx="92520" cy="387360"/>
                </a:xfrm>
                <a:custGeom>
                  <a:avLst/>
                  <a:gdLst/>
                  <a:ahLst/>
                  <a:rect l="l" t="t" r="r" b="b"/>
                  <a:pathLst>
                    <a:path w="67" h="280">
                      <a:moveTo>
                        <a:pt x="64" y="280"/>
                      </a:moveTo>
                      <a:cubicBezTo>
                        <a:pt x="65" y="225"/>
                        <a:pt x="67" y="171"/>
                        <a:pt x="56" y="124"/>
                      </a:cubicBezTo>
                      <a:cubicBezTo>
                        <a:pt x="45" y="77"/>
                        <a:pt x="9" y="2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8342640" y="3684600"/>
                  <a:ext cx="93960" cy="442440"/>
                </a:xfrm>
                <a:custGeom>
                  <a:avLst/>
                  <a:gdLst/>
                  <a:ahLst/>
                  <a:rect l="l" t="t" r="r" b="b"/>
                  <a:pathLst>
                    <a:path w="68" h="320">
                      <a:moveTo>
                        <a:pt x="0" y="0"/>
                      </a:moveTo>
                      <a:cubicBezTo>
                        <a:pt x="12" y="43"/>
                        <a:pt x="25" y="87"/>
                        <a:pt x="36" y="140"/>
                      </a:cubicBezTo>
                      <a:cubicBezTo>
                        <a:pt x="47" y="193"/>
                        <a:pt x="63" y="290"/>
                        <a:pt x="68" y="3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473960" y="3612600"/>
                  <a:ext cx="304200" cy="281880"/>
                </a:xfrm>
                <a:custGeom>
                  <a:avLst/>
                  <a:gdLst/>
                  <a:ahLst/>
                  <a:rect l="l" t="t" r="r" b="b"/>
                  <a:pathLst>
                    <a:path w="220" h="228">
                      <a:moveTo>
                        <a:pt x="0" y="0"/>
                      </a:moveTo>
                      <a:cubicBezTo>
                        <a:pt x="35" y="55"/>
                        <a:pt x="71" y="110"/>
                        <a:pt x="108" y="148"/>
                      </a:cubicBezTo>
                      <a:cubicBezTo>
                        <a:pt x="145" y="186"/>
                        <a:pt x="201" y="215"/>
                        <a:pt x="220" y="2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7612200" y="3634560"/>
                  <a:ext cx="375840" cy="209880"/>
                </a:xfrm>
                <a:custGeom>
                  <a:avLst/>
                  <a:gdLst/>
                  <a:ahLst/>
                  <a:rect l="l" t="t" r="r" b="b"/>
                  <a:pathLst>
                    <a:path w="272" h="152">
                      <a:moveTo>
                        <a:pt x="272" y="0"/>
                      </a:moveTo>
                      <a:cubicBezTo>
                        <a:pt x="234" y="37"/>
                        <a:pt x="197" y="75"/>
                        <a:pt x="152" y="100"/>
                      </a:cubicBezTo>
                      <a:cubicBezTo>
                        <a:pt x="107" y="125"/>
                        <a:pt x="25" y="145"/>
                        <a:pt x="0" y="15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407360" y="3629160"/>
                  <a:ext cx="287640" cy="259920"/>
                </a:xfrm>
                <a:custGeom>
                  <a:avLst/>
                  <a:gdLst/>
                  <a:ahLst/>
                  <a:rect l="l" t="t" r="r" b="b"/>
                  <a:pathLst>
                    <a:path w="208" h="188">
                      <a:moveTo>
                        <a:pt x="208" y="0"/>
                      </a:moveTo>
                      <a:cubicBezTo>
                        <a:pt x="121" y="78"/>
                        <a:pt x="35" y="157"/>
                        <a:pt x="0" y="18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530760" y="1503360"/>
                <a:ext cx="3021480" cy="1493640"/>
                <a:chOff x="6530760" y="1503360"/>
                <a:chExt cx="3021480" cy="1493640"/>
              </a:xfrm>
            </p:grpSpPr>
            <p:pic>
              <p:nvPicPr>
                <p:cNvPr id="56" name="chromatin%20zigzag%20VanHolde89%20f7-11a'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530760" y="1503360"/>
                  <a:ext cx="3021480" cy="1493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" name=""/>
                <p:cNvSpPr/>
                <p:nvPr/>
              </p:nvSpPr>
              <p:spPr>
                <a:xfrm>
                  <a:off x="8759520" y="2143440"/>
                  <a:ext cx="95040" cy="340200"/>
                </a:xfrm>
                <a:custGeom>
                  <a:avLst/>
                  <a:gdLst/>
                  <a:ahLst/>
                  <a:rect l="l" t="t" r="r" b="b"/>
                  <a:pathLst>
                    <a:path w="69" h="246">
                      <a:moveTo>
                        <a:pt x="0" y="0"/>
                      </a:moveTo>
                      <a:cubicBezTo>
                        <a:pt x="20" y="42"/>
                        <a:pt x="40" y="85"/>
                        <a:pt x="51" y="126"/>
                      </a:cubicBezTo>
                      <a:cubicBezTo>
                        <a:pt x="62" y="167"/>
                        <a:pt x="66" y="226"/>
                        <a:pt x="69" y="24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8444160" y="2048040"/>
                  <a:ext cx="145080" cy="485280"/>
                </a:xfrm>
                <a:custGeom>
                  <a:avLst/>
                  <a:gdLst/>
                  <a:ahLst/>
                  <a:rect l="l" t="t" r="r" b="b"/>
                  <a:pathLst>
                    <a:path w="105" h="351">
                      <a:moveTo>
                        <a:pt x="105" y="351"/>
                      </a:moveTo>
                      <a:cubicBezTo>
                        <a:pt x="79" y="287"/>
                        <a:pt x="53" y="223"/>
                        <a:pt x="36" y="165"/>
                      </a:cubicBezTo>
                      <a:cubicBezTo>
                        <a:pt x="19" y="107"/>
                        <a:pt x="6" y="27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8958960" y="2089440"/>
                  <a:ext cx="63360" cy="431280"/>
                </a:xfrm>
                <a:custGeom>
                  <a:avLst/>
                  <a:gdLst/>
                  <a:ahLst/>
                  <a:rect l="l" t="t" r="r" b="b"/>
                  <a:pathLst>
                    <a:path w="46" h="312">
                      <a:moveTo>
                        <a:pt x="42" y="312"/>
                      </a:moveTo>
                      <a:cubicBezTo>
                        <a:pt x="44" y="257"/>
                        <a:pt x="46" y="202"/>
                        <a:pt x="39" y="150"/>
                      </a:cubicBezTo>
                      <a:cubicBezTo>
                        <a:pt x="32" y="98"/>
                        <a:pt x="6" y="25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9058320" y="2081160"/>
                  <a:ext cx="178200" cy="423000"/>
                </a:xfrm>
                <a:custGeom>
                  <a:avLst/>
                  <a:gdLst/>
                  <a:ahLst/>
                  <a:rect l="l" t="t" r="r" b="b"/>
                  <a:pathLst>
                    <a:path w="129" h="306">
                      <a:moveTo>
                        <a:pt x="129" y="306"/>
                      </a:moveTo>
                      <a:cubicBezTo>
                        <a:pt x="126" y="262"/>
                        <a:pt x="123" y="219"/>
                        <a:pt x="102" y="168"/>
                      </a:cubicBezTo>
                      <a:cubicBezTo>
                        <a:pt x="81" y="117"/>
                        <a:pt x="17" y="28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8080200" y="2014920"/>
                  <a:ext cx="185400" cy="464760"/>
                </a:xfrm>
                <a:custGeom>
                  <a:avLst/>
                  <a:gdLst/>
                  <a:ahLst/>
                  <a:rect l="l" t="t" r="r" b="b"/>
                  <a:pathLst>
                    <a:path w="134" h="336">
                      <a:moveTo>
                        <a:pt x="134" y="0"/>
                      </a:moveTo>
                      <a:cubicBezTo>
                        <a:pt x="87" y="21"/>
                        <a:pt x="40" y="43"/>
                        <a:pt x="20" y="99"/>
                      </a:cubicBezTo>
                      <a:cubicBezTo>
                        <a:pt x="0" y="155"/>
                        <a:pt x="15" y="297"/>
                        <a:pt x="14" y="33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" name=""/>
            <p:cNvGrpSpPr/>
            <p:nvPr/>
          </p:nvGrpSpPr>
          <p:grpSpPr>
            <a:xfrm>
              <a:off x="5270400" y="3281400"/>
              <a:ext cx="1150920" cy="765000"/>
              <a:chOff x="5270400" y="3281400"/>
              <a:chExt cx="1150920" cy="76500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5312880" y="3330720"/>
                <a:ext cx="1067760" cy="688680"/>
                <a:chOff x="5312880" y="3330720"/>
                <a:chExt cx="1067760" cy="68868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5910480" y="3330720"/>
                  <a:ext cx="271080" cy="274680"/>
                </a:xfrm>
                <a:prstGeom prst="ellipse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5715360" y="3736440"/>
                  <a:ext cx="270720" cy="274320"/>
                </a:xfrm>
                <a:prstGeom prst="ellipse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5511960" y="3335040"/>
                  <a:ext cx="271080" cy="274320"/>
                </a:xfrm>
                <a:prstGeom prst="ellipse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312880" y="3715920"/>
                  <a:ext cx="271080" cy="274320"/>
                </a:xfrm>
                <a:prstGeom prst="ellipse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109560" y="3744720"/>
                  <a:ext cx="271080" cy="274680"/>
                </a:xfrm>
                <a:prstGeom prst="ellipse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" name=""/>
              <p:cNvSpPr/>
              <p:nvPr/>
            </p:nvSpPr>
            <p:spPr>
              <a:xfrm>
                <a:off x="5270400" y="3281400"/>
                <a:ext cx="1150920" cy="765000"/>
              </a:xfrm>
              <a:custGeom>
                <a:avLst/>
                <a:gdLst/>
                <a:ahLst/>
                <a:rect l="l" t="t" r="r" b="b"/>
                <a:pathLst>
                  <a:path w="832" h="554">
                    <a:moveTo>
                      <a:pt x="72" y="180"/>
                    </a:moveTo>
                    <a:cubicBezTo>
                      <a:pt x="89" y="200"/>
                      <a:pt x="145" y="264"/>
                      <a:pt x="174" y="297"/>
                    </a:cubicBezTo>
                    <a:cubicBezTo>
                      <a:pt x="203" y="330"/>
                      <a:pt x="239" y="347"/>
                      <a:pt x="246" y="381"/>
                    </a:cubicBezTo>
                    <a:cubicBezTo>
                      <a:pt x="253" y="415"/>
                      <a:pt x="246" y="480"/>
                      <a:pt x="216" y="504"/>
                    </a:cubicBezTo>
                    <a:cubicBezTo>
                      <a:pt x="186" y="528"/>
                      <a:pt x="98" y="546"/>
                      <a:pt x="63" y="525"/>
                    </a:cubicBezTo>
                    <a:cubicBezTo>
                      <a:pt x="28" y="504"/>
                      <a:pt x="0" y="420"/>
                      <a:pt x="6" y="381"/>
                    </a:cubicBezTo>
                    <a:cubicBezTo>
                      <a:pt x="12" y="342"/>
                      <a:pt x="49" y="312"/>
                      <a:pt x="99" y="291"/>
                    </a:cubicBezTo>
                    <a:cubicBezTo>
                      <a:pt x="149" y="270"/>
                      <a:pt x="260" y="271"/>
                      <a:pt x="309" y="252"/>
                    </a:cubicBezTo>
                    <a:cubicBezTo>
                      <a:pt x="358" y="233"/>
                      <a:pt x="382" y="204"/>
                      <a:pt x="393" y="174"/>
                    </a:cubicBezTo>
                    <a:cubicBezTo>
                      <a:pt x="404" y="144"/>
                      <a:pt x="390" y="98"/>
                      <a:pt x="375" y="72"/>
                    </a:cubicBezTo>
                    <a:cubicBezTo>
                      <a:pt x="360" y="46"/>
                      <a:pt x="334" y="19"/>
                      <a:pt x="303" y="15"/>
                    </a:cubicBezTo>
                    <a:cubicBezTo>
                      <a:pt x="272" y="11"/>
                      <a:pt x="212" y="22"/>
                      <a:pt x="186" y="45"/>
                    </a:cubicBezTo>
                    <a:cubicBezTo>
                      <a:pt x="160" y="68"/>
                      <a:pt x="139" y="114"/>
                      <a:pt x="147" y="150"/>
                    </a:cubicBezTo>
                    <a:cubicBezTo>
                      <a:pt x="155" y="186"/>
                      <a:pt x="192" y="236"/>
                      <a:pt x="234" y="261"/>
                    </a:cubicBezTo>
                    <a:cubicBezTo>
                      <a:pt x="276" y="286"/>
                      <a:pt x="357" y="288"/>
                      <a:pt x="399" y="300"/>
                    </a:cubicBezTo>
                    <a:cubicBezTo>
                      <a:pt x="441" y="312"/>
                      <a:pt x="466" y="312"/>
                      <a:pt x="489" y="333"/>
                    </a:cubicBezTo>
                    <a:cubicBezTo>
                      <a:pt x="512" y="354"/>
                      <a:pt x="538" y="395"/>
                      <a:pt x="540" y="426"/>
                    </a:cubicBezTo>
                    <a:cubicBezTo>
                      <a:pt x="542" y="457"/>
                      <a:pt x="531" y="503"/>
                      <a:pt x="504" y="522"/>
                    </a:cubicBezTo>
                    <a:cubicBezTo>
                      <a:pt x="477" y="541"/>
                      <a:pt x="408" y="549"/>
                      <a:pt x="378" y="543"/>
                    </a:cubicBezTo>
                    <a:cubicBezTo>
                      <a:pt x="348" y="537"/>
                      <a:pt x="333" y="510"/>
                      <a:pt x="321" y="483"/>
                    </a:cubicBezTo>
                    <a:cubicBezTo>
                      <a:pt x="309" y="456"/>
                      <a:pt x="300" y="405"/>
                      <a:pt x="309" y="378"/>
                    </a:cubicBezTo>
                    <a:cubicBezTo>
                      <a:pt x="318" y="351"/>
                      <a:pt x="339" y="333"/>
                      <a:pt x="375" y="318"/>
                    </a:cubicBezTo>
                    <a:cubicBezTo>
                      <a:pt x="411" y="303"/>
                      <a:pt x="486" y="299"/>
                      <a:pt x="528" y="285"/>
                    </a:cubicBezTo>
                    <a:cubicBezTo>
                      <a:pt x="570" y="271"/>
                      <a:pt x="601" y="258"/>
                      <a:pt x="627" y="234"/>
                    </a:cubicBezTo>
                    <a:cubicBezTo>
                      <a:pt x="653" y="210"/>
                      <a:pt x="676" y="171"/>
                      <a:pt x="681" y="141"/>
                    </a:cubicBezTo>
                    <a:cubicBezTo>
                      <a:pt x="686" y="111"/>
                      <a:pt x="673" y="76"/>
                      <a:pt x="657" y="54"/>
                    </a:cubicBezTo>
                    <a:cubicBezTo>
                      <a:pt x="641" y="32"/>
                      <a:pt x="612" y="15"/>
                      <a:pt x="588" y="9"/>
                    </a:cubicBezTo>
                    <a:cubicBezTo>
                      <a:pt x="564" y="3"/>
                      <a:pt x="537" y="0"/>
                      <a:pt x="513" y="15"/>
                    </a:cubicBezTo>
                    <a:cubicBezTo>
                      <a:pt x="489" y="30"/>
                      <a:pt x="452" y="69"/>
                      <a:pt x="444" y="102"/>
                    </a:cubicBezTo>
                    <a:cubicBezTo>
                      <a:pt x="436" y="135"/>
                      <a:pt x="435" y="190"/>
                      <a:pt x="462" y="216"/>
                    </a:cubicBezTo>
                    <a:cubicBezTo>
                      <a:pt x="489" y="242"/>
                      <a:pt x="552" y="235"/>
                      <a:pt x="606" y="255"/>
                    </a:cubicBezTo>
                    <a:cubicBezTo>
                      <a:pt x="660" y="275"/>
                      <a:pt x="753" y="302"/>
                      <a:pt x="789" y="339"/>
                    </a:cubicBezTo>
                    <a:cubicBezTo>
                      <a:pt x="825" y="376"/>
                      <a:pt x="832" y="442"/>
                      <a:pt x="822" y="477"/>
                    </a:cubicBezTo>
                    <a:cubicBezTo>
                      <a:pt x="812" y="512"/>
                      <a:pt x="762" y="544"/>
                      <a:pt x="726" y="549"/>
                    </a:cubicBezTo>
                    <a:cubicBezTo>
                      <a:pt x="690" y="554"/>
                      <a:pt x="627" y="539"/>
                      <a:pt x="606" y="510"/>
                    </a:cubicBezTo>
                    <a:cubicBezTo>
                      <a:pt x="585" y="481"/>
                      <a:pt x="589" y="409"/>
                      <a:pt x="600" y="375"/>
                    </a:cubicBezTo>
                    <a:cubicBezTo>
                      <a:pt x="611" y="341"/>
                      <a:pt x="646" y="331"/>
                      <a:pt x="675" y="306"/>
                    </a:cubicBezTo>
                    <a:cubicBezTo>
                      <a:pt x="704" y="281"/>
                      <a:pt x="751" y="243"/>
                      <a:pt x="774" y="222"/>
                    </a:cubicBezTo>
                    <a:cubicBezTo>
                      <a:pt x="797" y="201"/>
                      <a:pt x="805" y="190"/>
                      <a:pt x="813" y="180"/>
                    </a:cubicBezTo>
                  </a:path>
                </a:pathLst>
              </a:custGeom>
              <a:noFill/>
              <a:ln w="63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5943960" y="429300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 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39280" y="27086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 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5103720" y="1754280"/>
              <a:ext cx="1347840" cy="831600"/>
              <a:chOff x="5103720" y="1754280"/>
              <a:chExt cx="1347840" cy="83160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5139720" y="1800000"/>
                <a:ext cx="1262880" cy="738360"/>
                <a:chOff x="5139720" y="1800000"/>
                <a:chExt cx="1262880" cy="73836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5915880" y="1800000"/>
                  <a:ext cx="271080" cy="274320"/>
                </a:xfrm>
                <a:prstGeom prst="ellipse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654160" y="2251440"/>
                  <a:ext cx="271080" cy="274320"/>
                </a:xfrm>
                <a:prstGeom prst="ellipse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5359680" y="1816560"/>
                  <a:ext cx="271080" cy="274320"/>
                </a:xfrm>
                <a:prstGeom prst="ellipse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139720" y="2251440"/>
                  <a:ext cx="271080" cy="274320"/>
                </a:xfrm>
                <a:prstGeom prst="ellipse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131520" y="2263680"/>
                  <a:ext cx="271080" cy="274680"/>
                </a:xfrm>
                <a:prstGeom prst="ellipse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5103720" y="1754280"/>
                <a:ext cx="1347840" cy="831600"/>
              </a:xfrm>
              <a:custGeom>
                <a:avLst/>
                <a:gdLst/>
                <a:ahLst/>
                <a:rect l="l" t="t" r="r" b="b"/>
                <a:pathLst>
                  <a:path w="974" h="602">
                    <a:moveTo>
                      <a:pt x="64" y="273"/>
                    </a:moveTo>
                    <a:cubicBezTo>
                      <a:pt x="39" y="326"/>
                      <a:pt x="15" y="379"/>
                      <a:pt x="10" y="426"/>
                    </a:cubicBezTo>
                    <a:cubicBezTo>
                      <a:pt x="5" y="473"/>
                      <a:pt x="6" y="530"/>
                      <a:pt x="34" y="555"/>
                    </a:cubicBezTo>
                    <a:cubicBezTo>
                      <a:pt x="62" y="580"/>
                      <a:pt x="139" y="592"/>
                      <a:pt x="175" y="579"/>
                    </a:cubicBezTo>
                    <a:cubicBezTo>
                      <a:pt x="211" y="566"/>
                      <a:pt x="248" y="517"/>
                      <a:pt x="250" y="480"/>
                    </a:cubicBezTo>
                    <a:cubicBezTo>
                      <a:pt x="252" y="443"/>
                      <a:pt x="221" y="374"/>
                      <a:pt x="190" y="354"/>
                    </a:cubicBezTo>
                    <a:cubicBezTo>
                      <a:pt x="159" y="334"/>
                      <a:pt x="94" y="343"/>
                      <a:pt x="64" y="357"/>
                    </a:cubicBezTo>
                    <a:cubicBezTo>
                      <a:pt x="34" y="371"/>
                      <a:pt x="18" y="411"/>
                      <a:pt x="10" y="438"/>
                    </a:cubicBezTo>
                    <a:cubicBezTo>
                      <a:pt x="2" y="465"/>
                      <a:pt x="0" y="498"/>
                      <a:pt x="13" y="522"/>
                    </a:cubicBezTo>
                    <a:cubicBezTo>
                      <a:pt x="26" y="546"/>
                      <a:pt x="56" y="582"/>
                      <a:pt x="91" y="585"/>
                    </a:cubicBezTo>
                    <a:cubicBezTo>
                      <a:pt x="126" y="588"/>
                      <a:pt x="201" y="571"/>
                      <a:pt x="226" y="543"/>
                    </a:cubicBezTo>
                    <a:cubicBezTo>
                      <a:pt x="251" y="515"/>
                      <a:pt x="249" y="462"/>
                      <a:pt x="241" y="417"/>
                    </a:cubicBezTo>
                    <a:cubicBezTo>
                      <a:pt x="233" y="372"/>
                      <a:pt x="191" y="328"/>
                      <a:pt x="178" y="273"/>
                    </a:cubicBezTo>
                    <a:cubicBezTo>
                      <a:pt x="165" y="218"/>
                      <a:pt x="148" y="130"/>
                      <a:pt x="166" y="87"/>
                    </a:cubicBezTo>
                    <a:cubicBezTo>
                      <a:pt x="184" y="44"/>
                      <a:pt x="245" y="12"/>
                      <a:pt x="283" y="15"/>
                    </a:cubicBezTo>
                    <a:cubicBezTo>
                      <a:pt x="321" y="18"/>
                      <a:pt x="386" y="66"/>
                      <a:pt x="397" y="105"/>
                    </a:cubicBezTo>
                    <a:cubicBezTo>
                      <a:pt x="408" y="144"/>
                      <a:pt x="377" y="228"/>
                      <a:pt x="346" y="249"/>
                    </a:cubicBezTo>
                    <a:cubicBezTo>
                      <a:pt x="315" y="270"/>
                      <a:pt x="241" y="252"/>
                      <a:pt x="211" y="234"/>
                    </a:cubicBezTo>
                    <a:cubicBezTo>
                      <a:pt x="181" y="216"/>
                      <a:pt x="161" y="172"/>
                      <a:pt x="163" y="138"/>
                    </a:cubicBezTo>
                    <a:cubicBezTo>
                      <a:pt x="165" y="104"/>
                      <a:pt x="191" y="44"/>
                      <a:pt x="223" y="27"/>
                    </a:cubicBezTo>
                    <a:cubicBezTo>
                      <a:pt x="255" y="10"/>
                      <a:pt x="328" y="20"/>
                      <a:pt x="358" y="36"/>
                    </a:cubicBezTo>
                    <a:cubicBezTo>
                      <a:pt x="388" y="52"/>
                      <a:pt x="395" y="92"/>
                      <a:pt x="400" y="123"/>
                    </a:cubicBezTo>
                    <a:cubicBezTo>
                      <a:pt x="405" y="154"/>
                      <a:pt x="392" y="182"/>
                      <a:pt x="388" y="222"/>
                    </a:cubicBezTo>
                    <a:cubicBezTo>
                      <a:pt x="384" y="262"/>
                      <a:pt x="378" y="316"/>
                      <a:pt x="376" y="363"/>
                    </a:cubicBezTo>
                    <a:cubicBezTo>
                      <a:pt x="374" y="410"/>
                      <a:pt x="354" y="472"/>
                      <a:pt x="376" y="507"/>
                    </a:cubicBezTo>
                    <a:cubicBezTo>
                      <a:pt x="398" y="542"/>
                      <a:pt x="469" y="578"/>
                      <a:pt x="508" y="576"/>
                    </a:cubicBezTo>
                    <a:cubicBezTo>
                      <a:pt x="547" y="574"/>
                      <a:pt x="599" y="529"/>
                      <a:pt x="613" y="495"/>
                    </a:cubicBezTo>
                    <a:cubicBezTo>
                      <a:pt x="627" y="461"/>
                      <a:pt x="622" y="398"/>
                      <a:pt x="595" y="372"/>
                    </a:cubicBezTo>
                    <a:cubicBezTo>
                      <a:pt x="568" y="346"/>
                      <a:pt x="488" y="330"/>
                      <a:pt x="451" y="342"/>
                    </a:cubicBezTo>
                    <a:cubicBezTo>
                      <a:pt x="414" y="354"/>
                      <a:pt x="373" y="408"/>
                      <a:pt x="370" y="444"/>
                    </a:cubicBezTo>
                    <a:cubicBezTo>
                      <a:pt x="367" y="480"/>
                      <a:pt x="394" y="543"/>
                      <a:pt x="430" y="561"/>
                    </a:cubicBezTo>
                    <a:cubicBezTo>
                      <a:pt x="466" y="579"/>
                      <a:pt x="554" y="574"/>
                      <a:pt x="583" y="552"/>
                    </a:cubicBezTo>
                    <a:cubicBezTo>
                      <a:pt x="612" y="530"/>
                      <a:pt x="606" y="472"/>
                      <a:pt x="607" y="429"/>
                    </a:cubicBezTo>
                    <a:cubicBezTo>
                      <a:pt x="608" y="386"/>
                      <a:pt x="598" y="342"/>
                      <a:pt x="592" y="291"/>
                    </a:cubicBezTo>
                    <a:cubicBezTo>
                      <a:pt x="586" y="240"/>
                      <a:pt x="568" y="165"/>
                      <a:pt x="574" y="120"/>
                    </a:cubicBezTo>
                    <a:cubicBezTo>
                      <a:pt x="580" y="75"/>
                      <a:pt x="598" y="35"/>
                      <a:pt x="631" y="21"/>
                    </a:cubicBezTo>
                    <a:cubicBezTo>
                      <a:pt x="664" y="7"/>
                      <a:pt x="746" y="14"/>
                      <a:pt x="775" y="36"/>
                    </a:cubicBezTo>
                    <a:cubicBezTo>
                      <a:pt x="804" y="58"/>
                      <a:pt x="817" y="121"/>
                      <a:pt x="808" y="156"/>
                    </a:cubicBezTo>
                    <a:cubicBezTo>
                      <a:pt x="799" y="191"/>
                      <a:pt x="753" y="236"/>
                      <a:pt x="718" y="246"/>
                    </a:cubicBezTo>
                    <a:cubicBezTo>
                      <a:pt x="683" y="256"/>
                      <a:pt x="622" y="244"/>
                      <a:pt x="598" y="216"/>
                    </a:cubicBezTo>
                    <a:cubicBezTo>
                      <a:pt x="574" y="188"/>
                      <a:pt x="560" y="110"/>
                      <a:pt x="571" y="75"/>
                    </a:cubicBezTo>
                    <a:cubicBezTo>
                      <a:pt x="582" y="40"/>
                      <a:pt x="628" y="6"/>
                      <a:pt x="664" y="3"/>
                    </a:cubicBezTo>
                    <a:cubicBezTo>
                      <a:pt x="700" y="0"/>
                      <a:pt x="768" y="24"/>
                      <a:pt x="790" y="57"/>
                    </a:cubicBezTo>
                    <a:cubicBezTo>
                      <a:pt x="812" y="90"/>
                      <a:pt x="802" y="157"/>
                      <a:pt x="796" y="201"/>
                    </a:cubicBezTo>
                    <a:cubicBezTo>
                      <a:pt x="790" y="245"/>
                      <a:pt x="766" y="273"/>
                      <a:pt x="754" y="324"/>
                    </a:cubicBezTo>
                    <a:cubicBezTo>
                      <a:pt x="742" y="375"/>
                      <a:pt x="705" y="462"/>
                      <a:pt x="724" y="507"/>
                    </a:cubicBezTo>
                    <a:cubicBezTo>
                      <a:pt x="743" y="552"/>
                      <a:pt x="831" y="602"/>
                      <a:pt x="871" y="597"/>
                    </a:cubicBezTo>
                    <a:cubicBezTo>
                      <a:pt x="911" y="592"/>
                      <a:pt x="954" y="511"/>
                      <a:pt x="964" y="474"/>
                    </a:cubicBezTo>
                    <a:cubicBezTo>
                      <a:pt x="974" y="437"/>
                      <a:pt x="959" y="395"/>
                      <a:pt x="931" y="375"/>
                    </a:cubicBezTo>
                    <a:cubicBezTo>
                      <a:pt x="903" y="355"/>
                      <a:pt x="828" y="338"/>
                      <a:pt x="793" y="351"/>
                    </a:cubicBezTo>
                    <a:cubicBezTo>
                      <a:pt x="758" y="364"/>
                      <a:pt x="722" y="414"/>
                      <a:pt x="724" y="453"/>
                    </a:cubicBezTo>
                    <a:cubicBezTo>
                      <a:pt x="726" y="492"/>
                      <a:pt x="770" y="572"/>
                      <a:pt x="808" y="585"/>
                    </a:cubicBezTo>
                    <a:cubicBezTo>
                      <a:pt x="846" y="598"/>
                      <a:pt x="931" y="578"/>
                      <a:pt x="949" y="531"/>
                    </a:cubicBezTo>
                    <a:cubicBezTo>
                      <a:pt x="967" y="484"/>
                      <a:pt x="923" y="346"/>
                      <a:pt x="916" y="303"/>
                    </a:cubicBezTo>
                    <a:cubicBezTo>
                      <a:pt x="909" y="260"/>
                      <a:pt x="906" y="264"/>
                      <a:pt x="907" y="273"/>
                    </a:cubicBezTo>
                  </a:path>
                </a:pathLst>
              </a:custGeom>
              <a:noFill/>
              <a:ln w="572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"/>
          <p:cNvSpPr/>
          <p:nvPr/>
        </p:nvSpPr>
        <p:spPr>
          <a:xfrm>
            <a:off x="4763880" y="4713120"/>
            <a:ext cx="4775760" cy="11912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ker Histone and histone ter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 linker DNA entry/exi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romatosome in chromatin fi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0400" y="964440"/>
            <a:ext cx="697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re histone octamer + 1 Linker Histone + 2 full turns of DNA (168 b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6600" y="2469240"/>
            <a:ext cx="5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31120" y="1867320"/>
            <a:ext cx="5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38560" y="15674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68640" y="865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00" y="2751480"/>
            <a:ext cx="5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702080" y="6224040"/>
            <a:ext cx="5690520" cy="459000"/>
            <a:chOff x="1702080" y="6224040"/>
            <a:chExt cx="5690520" cy="459000"/>
          </a:xfrm>
        </p:grpSpPr>
        <p:sp>
          <p:nvSpPr>
            <p:cNvPr id="88" name=""/>
            <p:cNvSpPr/>
            <p:nvPr/>
          </p:nvSpPr>
          <p:spPr>
            <a:xfrm>
              <a:off x="1702080" y="6224040"/>
              <a:ext cx="304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Zhou, Gerchman, Ramakrishnan, Travers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Muyldermans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ture 395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402 (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80600" y="6224040"/>
              <a:ext cx="2412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An, Leuba, van Holde, Zlatan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NAS 95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3396 (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H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5T20:57:39Z</dcterms:created>
  <dc:creator>Jakob H. Waterborg</dc:creator>
  <dc:description/>
  <dc:language>en-US</dc:language>
  <cp:lastModifiedBy>Jakob H. Waterborg</cp:lastModifiedBy>
  <cp:lastPrinted>1999-03-10T03:27:55Z</cp:lastPrinted>
  <dcterms:modified xsi:type="dcterms:W3CDTF">1999-03-24T06:35:38Z</dcterms:modified>
  <cp:revision>15</cp:revision>
  <dc:subject/>
  <dc:title>CHROMATIN</dc:title>
</cp:coreProperties>
</file>