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D921-F8F5-4039-A3CF-A8D3BCC0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2B96-9658-4205-A3DA-68D43288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52C3-900B-4433-92AC-6AA2F69F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6D2C-04FA-4A82-8A3B-61E81D34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ECE6-46F7-44EA-A9F9-10E704AE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0AC6-F9A0-4817-8E58-EAD44083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39D8-79B6-478E-A531-262F8AEE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EF39-9897-474D-97AD-D96A4A6C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2B35D-7FAC-45AB-B4E4-E876F96E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02DF-356A-4D00-B742-4D1E098D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1CEB-837C-4D1D-B9E0-D4746A32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7080-6308-430B-942B-460D9F45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0065-FEFD-4ACB-A8D4-BA43470E6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" y="159840"/>
            <a:ext cx="9626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nteraction of H4 N-terminus with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66720" y="6251400"/>
            <a:ext cx="2885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ry, Crane-Robinson, Bradbury, Dix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. J. Biochem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37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23720" y="3033720"/>
            <a:ext cx="5742000" cy="3195720"/>
            <a:chOff x="423720" y="3033720"/>
            <a:chExt cx="5742000" cy="3195720"/>
          </a:xfrm>
        </p:grpSpPr>
        <p:sp>
          <p:nvSpPr>
            <p:cNvPr id="46" name=""/>
            <p:cNvSpPr/>
            <p:nvPr/>
          </p:nvSpPr>
          <p:spPr>
            <a:xfrm>
              <a:off x="423720" y="3033720"/>
              <a:ext cx="5742000" cy="319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441360" y="3192480"/>
              <a:ext cx="5705280" cy="30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00280" y="3259080"/>
              <a:ext cx="212400" cy="212760"/>
            </a:xfrm>
            <a:prstGeom prst="star5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14800" y="3471840"/>
              <a:ext cx="162000" cy="16200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66920" y="3382920"/>
              <a:ext cx="189000" cy="18900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3200 h 189000"/>
                <a:gd name="textAreaBottom" fmla="*/ 145800 h 1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0520" y="360684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48000" y="367344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27560" y="370836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95840" y="3036960"/>
              <a:ext cx="212760" cy="212760"/>
            </a:xfrm>
            <a:prstGeom prst="star5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6080" y="4141800"/>
              <a:ext cx="162000" cy="16200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0800000">
              <a:off x="2504160" y="3803760"/>
              <a:ext cx="183960" cy="126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0800000">
              <a:off x="5144040" y="3517560"/>
              <a:ext cx="183960" cy="12708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0160" y="3646440"/>
              <a:ext cx="174600" cy="174600"/>
            </a:xfrm>
            <a:prstGeom prst="diamond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11720" y="3490920"/>
              <a:ext cx="174600" cy="174600"/>
            </a:xfrm>
            <a:prstGeom prst="diamond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87080" y="3038400"/>
              <a:ext cx="65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4-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73280" y="3051000"/>
              <a:ext cx="65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1-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001880" y="2479680"/>
            <a:ext cx="6259320" cy="510840"/>
            <a:chOff x="1001880" y="2479680"/>
            <a:chExt cx="6259320" cy="510840"/>
          </a:xfrm>
        </p:grpSpPr>
        <p:sp>
          <p:nvSpPr>
            <p:cNvPr id="63" name=""/>
            <p:cNvSpPr/>
            <p:nvPr/>
          </p:nvSpPr>
          <p:spPr>
            <a:xfrm>
              <a:off x="1001880" y="2479680"/>
              <a:ext cx="625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Ac-S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 G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 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 G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 K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 G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 G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 K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 G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  L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 G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 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G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G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 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73440" y="2638440"/>
              <a:ext cx="451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A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92520" y="2646360"/>
              <a:ext cx="451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A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46400" y="2651040"/>
              <a:ext cx="509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A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73640" y="2655720"/>
              <a:ext cx="509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A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6438960" y="2619360"/>
              <a:ext cx="616680" cy="334800"/>
              <a:chOff x="6438960" y="2619360"/>
              <a:chExt cx="616680" cy="334800"/>
            </a:xfrm>
          </p:grpSpPr>
          <p:sp>
            <p:nvSpPr>
              <p:cNvPr id="69" name=""/>
              <p:cNvSpPr/>
              <p:nvPr/>
            </p:nvSpPr>
            <p:spPr>
              <a:xfrm>
                <a:off x="6507720" y="2619360"/>
                <a:ext cx="5479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Arial"/>
                  </a:rPr>
                  <a:t>m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438960" y="2655720"/>
                <a:ext cx="1839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385920" y="758880"/>
            <a:ext cx="7529400" cy="1669680"/>
            <a:chOff x="385920" y="758880"/>
            <a:chExt cx="7529400" cy="1669680"/>
          </a:xfrm>
        </p:grpSpPr>
        <p:sp>
          <p:nvSpPr>
            <p:cNvPr id="72" name=""/>
            <p:cNvSpPr/>
            <p:nvPr/>
          </p:nvSpPr>
          <p:spPr>
            <a:xfrm flipV="1">
              <a:off x="571680" y="149868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932080" y="1663560"/>
              <a:ext cx="3240" cy="487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97640" y="2055960"/>
              <a:ext cx="438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12000" y="1650960"/>
              <a:ext cx="3240" cy="463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77200" y="1981080"/>
              <a:ext cx="438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-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88880" y="1590840"/>
              <a:ext cx="460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46120" y="149508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800" y="1536840"/>
              <a:ext cx="716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760" y="1406520"/>
              <a:ext cx="102960" cy="954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0200" y="1614600"/>
              <a:ext cx="69840" cy="6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280" y="1695600"/>
              <a:ext cx="3960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5280" y="1589040"/>
              <a:ext cx="41400" cy="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48400" y="1587600"/>
              <a:ext cx="493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9840" y="1587600"/>
              <a:ext cx="493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02440" y="1587600"/>
              <a:ext cx="48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1587600"/>
              <a:ext cx="493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62600" y="1590840"/>
              <a:ext cx="48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32240" y="1587600"/>
              <a:ext cx="493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97200" y="1590840"/>
              <a:ext cx="507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73320" y="1592280"/>
              <a:ext cx="507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57360" y="1590840"/>
              <a:ext cx="493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36720" y="1590840"/>
              <a:ext cx="493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16080" y="1587600"/>
              <a:ext cx="493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92080" y="1585800"/>
              <a:ext cx="684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31800" y="1525680"/>
              <a:ext cx="298440" cy="274680"/>
              <a:chOff x="631800" y="1525680"/>
              <a:chExt cx="298440" cy="274680"/>
            </a:xfrm>
          </p:grpSpPr>
          <p:sp>
            <p:nvSpPr>
              <p:cNvPr id="97" name=""/>
              <p:cNvSpPr/>
              <p:nvPr/>
            </p:nvSpPr>
            <p:spPr>
              <a:xfrm>
                <a:off x="804960" y="1573200"/>
                <a:ext cx="4608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695160" y="1580760"/>
                <a:ext cx="5112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2320" y="1692360"/>
                <a:ext cx="3996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41240" y="1525680"/>
                <a:ext cx="71640" cy="69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31800" y="1592280"/>
                <a:ext cx="87480" cy="8712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828720" y="1596960"/>
                <a:ext cx="101520" cy="203400"/>
                <a:chOff x="828720" y="1596960"/>
                <a:chExt cx="101520" cy="2034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888840" y="1663560"/>
                  <a:ext cx="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70120" y="1668600"/>
                  <a:ext cx="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41320" y="1596960"/>
                  <a:ext cx="71640" cy="74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28720" y="1701720"/>
                  <a:ext cx="101520" cy="98640"/>
                </a:xfrm>
                <a:prstGeom prst="ellipse">
                  <a:avLst/>
                </a:prstGeom>
                <a:solidFill>
                  <a:srgbClr val="ff3300"/>
                </a:soli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760320" y="1608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942840" y="1409760"/>
              <a:ext cx="300240" cy="272880"/>
              <a:chOff x="942840" y="1409760"/>
              <a:chExt cx="300240" cy="27288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1116000" y="1598400"/>
                <a:ext cx="46080" cy="3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06560" y="1590840"/>
                <a:ext cx="5076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63720" y="147492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52640" y="1614600"/>
                <a:ext cx="71280" cy="68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42840" y="1530360"/>
                <a:ext cx="88920" cy="842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1139760" y="1409760"/>
                <a:ext cx="103320" cy="199800"/>
                <a:chOff x="1139760" y="1409760"/>
                <a:chExt cx="103320" cy="199800"/>
              </a:xfrm>
            </p:grpSpPr>
            <p:sp>
              <p:nvSpPr>
                <p:cNvPr id="115" name=""/>
                <p:cNvSpPr/>
                <p:nvPr/>
              </p:nvSpPr>
              <p:spPr>
                <a:xfrm flipV="1">
                  <a:off x="1201680" y="1498680"/>
                  <a:ext cx="0" cy="4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1181160" y="1495080"/>
                  <a:ext cx="0" cy="4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154160" y="153972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39760" y="1409760"/>
                  <a:ext cx="103320" cy="96840"/>
                </a:xfrm>
                <a:prstGeom prst="ellipse">
                  <a:avLst/>
                </a:prstGeom>
                <a:solidFill>
                  <a:srgbClr val="ff3300"/>
                </a:soli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1071720" y="156204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249200" y="1413000"/>
              <a:ext cx="609840" cy="390240"/>
              <a:chOff x="1249200" y="1413000"/>
              <a:chExt cx="609840" cy="39024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1509840" y="1587600"/>
                <a:ext cx="680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1249200" y="1528920"/>
                <a:ext cx="298440" cy="274320"/>
                <a:chOff x="1249200" y="1528920"/>
                <a:chExt cx="298440" cy="2743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422360" y="1574640"/>
                  <a:ext cx="47520" cy="3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1314360" y="1582560"/>
                  <a:ext cx="4932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270080" y="1695600"/>
                  <a:ext cx="396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59000" y="1528920"/>
                  <a:ext cx="7128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249200" y="1593720"/>
                  <a:ext cx="88920" cy="874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1446120" y="1603440"/>
                  <a:ext cx="101520" cy="199800"/>
                  <a:chOff x="1446120" y="1603440"/>
                  <a:chExt cx="101520" cy="1998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1506600" y="166680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486080" y="1671480"/>
                    <a:ext cx="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459080" y="1603440"/>
                    <a:ext cx="7128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446120" y="1704960"/>
                    <a:ext cx="101520" cy="98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" name=""/>
                <p:cNvSpPr/>
                <p:nvPr/>
              </p:nvSpPr>
              <p:spPr>
                <a:xfrm>
                  <a:off x="1378080" y="1611360"/>
                  <a:ext cx="39600" cy="38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560600" y="1413000"/>
                <a:ext cx="298440" cy="272880"/>
                <a:chOff x="1560600" y="1413000"/>
                <a:chExt cx="298440" cy="272880"/>
              </a:xfrm>
            </p:grpSpPr>
            <p:sp>
              <p:nvSpPr>
                <p:cNvPr id="135" name=""/>
                <p:cNvSpPr/>
                <p:nvPr/>
              </p:nvSpPr>
              <p:spPr>
                <a:xfrm flipV="1">
                  <a:off x="1733400" y="1601640"/>
                  <a:ext cx="4788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625760" y="1592280"/>
                  <a:ext cx="4896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81120" y="1476360"/>
                  <a:ext cx="39600" cy="42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670040" y="1617840"/>
                  <a:ext cx="7308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560600" y="1531800"/>
                  <a:ext cx="88920" cy="860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1758960" y="1413000"/>
                  <a:ext cx="100080" cy="198360"/>
                  <a:chOff x="1758960" y="1413000"/>
                  <a:chExt cx="100080" cy="1983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V="1">
                    <a:off x="1817640" y="1501560"/>
                    <a:ext cx="0" cy="45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V="1">
                    <a:off x="1798560" y="149688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770120" y="1542960"/>
                    <a:ext cx="7128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758960" y="1413000"/>
                    <a:ext cx="100080" cy="968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" name=""/>
                <p:cNvSpPr/>
                <p:nvPr/>
              </p:nvSpPr>
              <p:spPr>
                <a:xfrm>
                  <a:off x="1689120" y="1563840"/>
                  <a:ext cx="39600" cy="4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1870200" y="1413000"/>
              <a:ext cx="609480" cy="390240"/>
              <a:chOff x="1870200" y="1413000"/>
              <a:chExt cx="609480" cy="39024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2130480" y="1587600"/>
                <a:ext cx="666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870200" y="1528920"/>
                <a:ext cx="298440" cy="274320"/>
                <a:chOff x="1870200" y="1528920"/>
                <a:chExt cx="298440" cy="2743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41560" y="1574640"/>
                  <a:ext cx="47520" cy="3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1933560" y="1582560"/>
                  <a:ext cx="4932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889280" y="1695600"/>
                  <a:ext cx="4104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79640" y="1528920"/>
                  <a:ext cx="7128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870200" y="1593720"/>
                  <a:ext cx="88920" cy="874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2066760" y="1603440"/>
                  <a:ext cx="101880" cy="199800"/>
                  <a:chOff x="2066760" y="1603440"/>
                  <a:chExt cx="101880" cy="1998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2127240" y="166680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106720" y="1671480"/>
                    <a:ext cx="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079720" y="1603440"/>
                    <a:ext cx="7128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066760" y="1704960"/>
                    <a:ext cx="101880" cy="98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1996920" y="1611360"/>
                  <a:ext cx="39960" cy="38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181240" y="1413000"/>
                <a:ext cx="298440" cy="272880"/>
                <a:chOff x="2181240" y="1413000"/>
                <a:chExt cx="298440" cy="272880"/>
              </a:xfrm>
            </p:grpSpPr>
            <p:sp>
              <p:nvSpPr>
                <p:cNvPr id="161" name=""/>
                <p:cNvSpPr/>
                <p:nvPr/>
              </p:nvSpPr>
              <p:spPr>
                <a:xfrm flipV="1">
                  <a:off x="2354400" y="1601640"/>
                  <a:ext cx="4752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246400" y="1592280"/>
                  <a:ext cx="4896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200320" y="1476360"/>
                  <a:ext cx="41400" cy="42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90680" y="1617840"/>
                  <a:ext cx="7164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81240" y="1531800"/>
                  <a:ext cx="88920" cy="860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" name=""/>
                <p:cNvGrpSpPr/>
                <p:nvPr/>
              </p:nvGrpSpPr>
              <p:grpSpPr>
                <a:xfrm>
                  <a:off x="2378160" y="1413000"/>
                  <a:ext cx="101520" cy="198360"/>
                  <a:chOff x="2378160" y="1413000"/>
                  <a:chExt cx="101520" cy="19836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V="1">
                    <a:off x="2438280" y="1501560"/>
                    <a:ext cx="0" cy="45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>
                    <a:off x="2417760" y="149688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2390760" y="1542960"/>
                    <a:ext cx="7128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378160" y="1413000"/>
                    <a:ext cx="101520" cy="968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2308320" y="1563840"/>
                  <a:ext cx="41040" cy="4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486160" y="1413000"/>
              <a:ext cx="610920" cy="390240"/>
              <a:chOff x="2486160" y="1413000"/>
              <a:chExt cx="610920" cy="390240"/>
            </a:xfrm>
          </p:grpSpPr>
          <p:sp>
            <p:nvSpPr>
              <p:cNvPr id="173" name=""/>
              <p:cNvSpPr/>
              <p:nvPr/>
            </p:nvSpPr>
            <p:spPr>
              <a:xfrm flipV="1">
                <a:off x="2747880" y="1587600"/>
                <a:ext cx="666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2486160" y="1528920"/>
                <a:ext cx="299880" cy="274320"/>
                <a:chOff x="2486160" y="1528920"/>
                <a:chExt cx="299880" cy="2743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658960" y="1574640"/>
                  <a:ext cx="47880" cy="3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2550960" y="1582560"/>
                  <a:ext cx="4932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506680" y="1695600"/>
                  <a:ext cx="414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597040" y="1528920"/>
                  <a:ext cx="716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86160" y="1593720"/>
                  <a:ext cx="88920" cy="874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2684520" y="1603440"/>
                  <a:ext cx="101520" cy="199800"/>
                  <a:chOff x="2684520" y="1603440"/>
                  <a:chExt cx="101520" cy="1998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2744640" y="166680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724120" y="1671480"/>
                    <a:ext cx="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695680" y="1603440"/>
                    <a:ext cx="7308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684520" y="1704960"/>
                    <a:ext cx="101520" cy="98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2614680" y="1611360"/>
                  <a:ext cx="39600" cy="38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798640" y="1413000"/>
                <a:ext cx="298440" cy="272880"/>
                <a:chOff x="2798640" y="1413000"/>
                <a:chExt cx="298440" cy="2728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2970360" y="1601640"/>
                  <a:ext cx="4752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862360" y="1592280"/>
                  <a:ext cx="4896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19520" y="1476360"/>
                  <a:ext cx="39600" cy="42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908440" y="1617840"/>
                  <a:ext cx="7128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798640" y="1531800"/>
                  <a:ext cx="88920" cy="860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2995560" y="1413000"/>
                  <a:ext cx="101520" cy="198360"/>
                  <a:chOff x="2995560" y="1413000"/>
                  <a:chExt cx="101520" cy="1983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V="1">
                    <a:off x="3057480" y="1501560"/>
                    <a:ext cx="0" cy="45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V="1">
                    <a:off x="3035160" y="149688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008160" y="1542960"/>
                    <a:ext cx="7164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995560" y="1413000"/>
                    <a:ext cx="101520" cy="968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>
                  <a:off x="2925720" y="1563840"/>
                  <a:ext cx="39600" cy="4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3112920" y="1413000"/>
              <a:ext cx="609840" cy="390240"/>
              <a:chOff x="3112920" y="1413000"/>
              <a:chExt cx="609840" cy="390240"/>
            </a:xfrm>
          </p:grpSpPr>
          <p:sp>
            <p:nvSpPr>
              <p:cNvPr id="199" name=""/>
              <p:cNvSpPr/>
              <p:nvPr/>
            </p:nvSpPr>
            <p:spPr>
              <a:xfrm flipV="1">
                <a:off x="3375000" y="1587600"/>
                <a:ext cx="666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3112920" y="1528920"/>
                <a:ext cx="298440" cy="274320"/>
                <a:chOff x="3112920" y="1528920"/>
                <a:chExt cx="298440" cy="2743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284640" y="1574640"/>
                  <a:ext cx="48960" cy="3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3176640" y="1582560"/>
                  <a:ext cx="5076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32000" y="1695600"/>
                  <a:ext cx="414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224160" y="152892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12920" y="1593720"/>
                  <a:ext cx="88920" cy="874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3309840" y="1603440"/>
                  <a:ext cx="101520" cy="199800"/>
                  <a:chOff x="3309840" y="1603440"/>
                  <a:chExt cx="101520" cy="1998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3371760" y="166680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349800" y="1671480"/>
                    <a:ext cx="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322800" y="1603440"/>
                    <a:ext cx="7128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309840" y="1704960"/>
                    <a:ext cx="101520" cy="98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3240000" y="1611360"/>
                  <a:ext cx="39600" cy="38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424320" y="1413000"/>
                <a:ext cx="298440" cy="272880"/>
                <a:chOff x="3424320" y="1413000"/>
                <a:chExt cx="298440" cy="272880"/>
              </a:xfrm>
            </p:grpSpPr>
            <p:sp>
              <p:nvSpPr>
                <p:cNvPr id="213" name=""/>
                <p:cNvSpPr/>
                <p:nvPr/>
              </p:nvSpPr>
              <p:spPr>
                <a:xfrm flipV="1">
                  <a:off x="3597120" y="1601640"/>
                  <a:ext cx="4788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89480" y="1592280"/>
                  <a:ext cx="4896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444840" y="1476360"/>
                  <a:ext cx="41400" cy="42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35200" y="1617840"/>
                  <a:ext cx="7164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424320" y="1531800"/>
                  <a:ext cx="88920" cy="860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3621240" y="1413000"/>
                  <a:ext cx="101520" cy="198360"/>
                  <a:chOff x="3621240" y="1413000"/>
                  <a:chExt cx="101520" cy="1983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V="1">
                    <a:off x="3683160" y="1501560"/>
                    <a:ext cx="0" cy="45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V="1">
                    <a:off x="3662280" y="149688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633840" y="1542960"/>
                    <a:ext cx="7308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621240" y="1413000"/>
                    <a:ext cx="101520" cy="968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3552840" y="1563840"/>
                  <a:ext cx="39600" cy="4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735360" y="1409760"/>
              <a:ext cx="611280" cy="390600"/>
              <a:chOff x="3735360" y="1409760"/>
              <a:chExt cx="611280" cy="39060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3997440" y="1585800"/>
                <a:ext cx="6660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735360" y="1525680"/>
                <a:ext cx="300240" cy="274680"/>
                <a:chOff x="3735360" y="1525680"/>
                <a:chExt cx="300240" cy="2746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908520" y="1573200"/>
                  <a:ext cx="4752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3800520" y="1580760"/>
                  <a:ext cx="4932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755880" y="1692360"/>
                  <a:ext cx="41400" cy="4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46600" y="1525680"/>
                  <a:ext cx="7128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735360" y="1592280"/>
                  <a:ext cx="88920" cy="8712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3933720" y="1596960"/>
                  <a:ext cx="101880" cy="203400"/>
                  <a:chOff x="3933720" y="1596960"/>
                  <a:chExt cx="101880" cy="20340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3994200" y="166356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973680" y="166860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946680" y="1596960"/>
                    <a:ext cx="71280" cy="74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933720" y="1701720"/>
                    <a:ext cx="101880" cy="986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3863880" y="1608120"/>
                  <a:ext cx="3996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048200" y="1409760"/>
                <a:ext cx="298440" cy="272880"/>
                <a:chOff x="4048200" y="1409760"/>
                <a:chExt cx="298440" cy="27288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4219560" y="1598400"/>
                  <a:ext cx="47520" cy="3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111560" y="1590840"/>
                  <a:ext cx="4932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67280" y="1474920"/>
                  <a:ext cx="41040" cy="4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159080" y="1614600"/>
                  <a:ext cx="7020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48200" y="1530360"/>
                  <a:ext cx="8892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4245120" y="1409760"/>
                  <a:ext cx="101520" cy="199800"/>
                  <a:chOff x="4245120" y="1409760"/>
                  <a:chExt cx="101520" cy="1998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V="1">
                    <a:off x="4307040" y="149868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4284720" y="1495080"/>
                    <a:ext cx="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4257720" y="1539720"/>
                    <a:ext cx="71280" cy="69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245120" y="1409760"/>
                    <a:ext cx="101520" cy="968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"/>
                <p:cNvSpPr/>
                <p:nvPr/>
              </p:nvSpPr>
              <p:spPr>
                <a:xfrm>
                  <a:off x="4175280" y="1562040"/>
                  <a:ext cx="396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376880" y="1407960"/>
              <a:ext cx="609480" cy="392400"/>
              <a:chOff x="4376880" y="1407960"/>
              <a:chExt cx="609480" cy="39240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4637160" y="1584360"/>
                <a:ext cx="6660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376880" y="1523880"/>
                <a:ext cx="298440" cy="276480"/>
                <a:chOff x="4376880" y="1523880"/>
                <a:chExt cx="298440" cy="2764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548240" y="1571760"/>
                  <a:ext cx="4752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4438800" y="1579320"/>
                  <a:ext cx="5076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395960" y="1692360"/>
                  <a:ext cx="396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486320" y="1523880"/>
                  <a:ext cx="69840" cy="7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376880" y="1590840"/>
                  <a:ext cx="87120" cy="8712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4572000" y="1596960"/>
                  <a:ext cx="103320" cy="203400"/>
                  <a:chOff x="4572000" y="1596960"/>
                  <a:chExt cx="103320" cy="2034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4633920" y="1662120"/>
                    <a:ext cx="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613400" y="1666800"/>
                    <a:ext cx="0" cy="44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586400" y="1596960"/>
                    <a:ext cx="6984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572000" y="1700280"/>
                    <a:ext cx="103320" cy="1000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4503600" y="1608120"/>
                  <a:ext cx="39960" cy="38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687920" y="1407960"/>
                <a:ext cx="298440" cy="273240"/>
                <a:chOff x="4687920" y="1407960"/>
                <a:chExt cx="298440" cy="273240"/>
              </a:xfrm>
            </p:grpSpPr>
            <p:sp>
              <p:nvSpPr>
                <p:cNvPr id="265" name=""/>
                <p:cNvSpPr/>
                <p:nvPr/>
              </p:nvSpPr>
              <p:spPr>
                <a:xfrm flipV="1">
                  <a:off x="4861080" y="1596960"/>
                  <a:ext cx="4572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51280" y="1589040"/>
                  <a:ext cx="5076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708440" y="1473120"/>
                  <a:ext cx="39600" cy="4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797360" y="1612800"/>
                  <a:ext cx="6984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687920" y="1528920"/>
                  <a:ext cx="87120" cy="838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4883040" y="1407960"/>
                  <a:ext cx="103320" cy="200160"/>
                  <a:chOff x="4883040" y="1407960"/>
                  <a:chExt cx="103320" cy="20016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V="1">
                    <a:off x="4944960" y="1496520"/>
                    <a:ext cx="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V="1">
                    <a:off x="4924440" y="1493640"/>
                    <a:ext cx="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4897440" y="1538280"/>
                    <a:ext cx="71280" cy="69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883040" y="1407960"/>
                    <a:ext cx="103320" cy="954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5" name=""/>
                <p:cNvSpPr/>
                <p:nvPr/>
              </p:nvSpPr>
              <p:spPr>
                <a:xfrm>
                  <a:off x="4816440" y="1560600"/>
                  <a:ext cx="396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4992840" y="1411200"/>
              <a:ext cx="610920" cy="390600"/>
              <a:chOff x="4992840" y="1411200"/>
              <a:chExt cx="610920" cy="39060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5253120" y="1585440"/>
                <a:ext cx="6804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92840" y="1527120"/>
                <a:ext cx="299880" cy="274680"/>
                <a:chOff x="4992840" y="1527120"/>
                <a:chExt cx="299880" cy="2746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165640" y="1573200"/>
                  <a:ext cx="4788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5057640" y="1582560"/>
                  <a:ext cx="49320" cy="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13360" y="1693800"/>
                  <a:ext cx="396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102280" y="1527120"/>
                  <a:ext cx="7308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992840" y="1592280"/>
                  <a:ext cx="88920" cy="8712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5191200" y="1598760"/>
                  <a:ext cx="101520" cy="203040"/>
                  <a:chOff x="5191200" y="1598760"/>
                  <a:chExt cx="101520" cy="20304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5249880" y="166536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230800" y="167004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202360" y="1598760"/>
                    <a:ext cx="7128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191200" y="1703520"/>
                    <a:ext cx="101520" cy="98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>
                  <a:off x="5121360" y="1609560"/>
                  <a:ext cx="39600" cy="3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305320" y="1411200"/>
                <a:ext cx="298440" cy="273240"/>
                <a:chOff x="5305320" y="1411200"/>
                <a:chExt cx="298440" cy="273240"/>
              </a:xfrm>
            </p:grpSpPr>
            <p:sp>
              <p:nvSpPr>
                <p:cNvPr id="291" name=""/>
                <p:cNvSpPr/>
                <p:nvPr/>
              </p:nvSpPr>
              <p:spPr>
                <a:xfrm flipV="1">
                  <a:off x="5477040" y="1600200"/>
                  <a:ext cx="4752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369040" y="1590840"/>
                  <a:ext cx="48960" cy="3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324400" y="1476360"/>
                  <a:ext cx="39600" cy="4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15120" y="1616040"/>
                  <a:ext cx="7128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305320" y="1531800"/>
                  <a:ext cx="8892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5502240" y="1411200"/>
                  <a:ext cx="101520" cy="198360"/>
                  <a:chOff x="5502240" y="1411200"/>
                  <a:chExt cx="101520" cy="1983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V="1">
                    <a:off x="5562720" y="150012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V="1">
                    <a:off x="5541840" y="149544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14840" y="1541520"/>
                    <a:ext cx="6984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502240" y="1411200"/>
                    <a:ext cx="101520" cy="968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1" name=""/>
                <p:cNvSpPr/>
                <p:nvPr/>
              </p:nvSpPr>
              <p:spPr>
                <a:xfrm>
                  <a:off x="5432400" y="1562040"/>
                  <a:ext cx="39600" cy="4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5613480" y="1411200"/>
              <a:ext cx="611280" cy="390600"/>
              <a:chOff x="5613480" y="1411200"/>
              <a:chExt cx="611280" cy="39060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5873760" y="1585440"/>
                <a:ext cx="6840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5613480" y="1527120"/>
                <a:ext cx="298440" cy="274680"/>
                <a:chOff x="5613480" y="1527120"/>
                <a:chExt cx="298440" cy="2746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786280" y="1573200"/>
                  <a:ext cx="4788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5678640" y="1582560"/>
                  <a:ext cx="48960" cy="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634000" y="1693800"/>
                  <a:ext cx="414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722920" y="1527120"/>
                  <a:ext cx="7128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613480" y="1592280"/>
                  <a:ext cx="88920" cy="8712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" name=""/>
                <p:cNvGrpSpPr/>
                <p:nvPr/>
              </p:nvGrpSpPr>
              <p:grpSpPr>
                <a:xfrm>
                  <a:off x="5810400" y="1598760"/>
                  <a:ext cx="101520" cy="203040"/>
                  <a:chOff x="5810400" y="1598760"/>
                  <a:chExt cx="101520" cy="2030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870520" y="166536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851440" y="167004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823000" y="1598760"/>
                    <a:ext cx="7308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5810400" y="1703520"/>
                    <a:ext cx="101520" cy="98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5" name=""/>
                <p:cNvSpPr/>
                <p:nvPr/>
              </p:nvSpPr>
              <p:spPr>
                <a:xfrm>
                  <a:off x="5742000" y="1609560"/>
                  <a:ext cx="39600" cy="3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924520" y="1411200"/>
                <a:ext cx="300240" cy="273240"/>
                <a:chOff x="5924520" y="1411200"/>
                <a:chExt cx="300240" cy="273240"/>
              </a:xfrm>
            </p:grpSpPr>
            <p:sp>
              <p:nvSpPr>
                <p:cNvPr id="317" name=""/>
                <p:cNvSpPr/>
                <p:nvPr/>
              </p:nvSpPr>
              <p:spPr>
                <a:xfrm flipV="1">
                  <a:off x="6097680" y="1600200"/>
                  <a:ext cx="4752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989680" y="1590840"/>
                  <a:ext cx="49320" cy="3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945040" y="1476360"/>
                  <a:ext cx="41400" cy="4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33960" y="1616040"/>
                  <a:ext cx="7308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924520" y="1531800"/>
                  <a:ext cx="8892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6122880" y="1411200"/>
                  <a:ext cx="101880" cy="198360"/>
                  <a:chOff x="6122880" y="1411200"/>
                  <a:chExt cx="101880" cy="19836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V="1">
                    <a:off x="6181560" y="150012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V="1">
                    <a:off x="6162840" y="149544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134040" y="1541520"/>
                    <a:ext cx="7308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122880" y="1411200"/>
                    <a:ext cx="101880" cy="968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7" name=""/>
                <p:cNvSpPr/>
                <p:nvPr/>
              </p:nvSpPr>
              <p:spPr>
                <a:xfrm>
                  <a:off x="6053040" y="1562040"/>
                  <a:ext cx="39960" cy="4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8" name=""/>
            <p:cNvGrpSpPr/>
            <p:nvPr/>
          </p:nvGrpSpPr>
          <p:grpSpPr>
            <a:xfrm>
              <a:off x="6230880" y="1411200"/>
              <a:ext cx="609480" cy="390600"/>
              <a:chOff x="6230880" y="1411200"/>
              <a:chExt cx="609480" cy="39060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6492960" y="1585440"/>
                <a:ext cx="6660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6230880" y="1527120"/>
                <a:ext cx="298440" cy="274680"/>
                <a:chOff x="6230880" y="1527120"/>
                <a:chExt cx="298440" cy="2746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402240" y="1573200"/>
                  <a:ext cx="4932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6294600" y="1582560"/>
                  <a:ext cx="48960" cy="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249960" y="1693800"/>
                  <a:ext cx="414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342120" y="152712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230880" y="1592280"/>
                  <a:ext cx="88920" cy="8712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" name=""/>
                <p:cNvGrpSpPr/>
                <p:nvPr/>
              </p:nvGrpSpPr>
              <p:grpSpPr>
                <a:xfrm>
                  <a:off x="6427800" y="1598760"/>
                  <a:ext cx="101520" cy="203040"/>
                  <a:chOff x="6427800" y="1598760"/>
                  <a:chExt cx="101520" cy="2030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489720" y="166536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467400" y="167004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440400" y="1598760"/>
                    <a:ext cx="7164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427800" y="1703520"/>
                    <a:ext cx="101520" cy="98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6357960" y="1609560"/>
                  <a:ext cx="39600" cy="3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541920" y="1411200"/>
                <a:ext cx="298440" cy="273240"/>
                <a:chOff x="6541920" y="1411200"/>
                <a:chExt cx="298440" cy="273240"/>
              </a:xfrm>
            </p:grpSpPr>
            <p:sp>
              <p:nvSpPr>
                <p:cNvPr id="343" name=""/>
                <p:cNvSpPr/>
                <p:nvPr/>
              </p:nvSpPr>
              <p:spPr>
                <a:xfrm flipV="1">
                  <a:off x="6715080" y="1600200"/>
                  <a:ext cx="4752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07080" y="1590840"/>
                  <a:ext cx="49320" cy="3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62800" y="1476360"/>
                  <a:ext cx="41040" cy="4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53160" y="1616040"/>
                  <a:ext cx="6984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541920" y="1531800"/>
                  <a:ext cx="8892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6738840" y="1411200"/>
                  <a:ext cx="101520" cy="198360"/>
                  <a:chOff x="6738840" y="1411200"/>
                  <a:chExt cx="101520" cy="19836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V="1">
                    <a:off x="6800760" y="150012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V="1">
                    <a:off x="6780240" y="149544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751800" y="1541520"/>
                    <a:ext cx="7272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38840" y="1411200"/>
                    <a:ext cx="101520" cy="968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>
                  <a:off x="6670800" y="1562040"/>
                  <a:ext cx="39600" cy="4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6856560" y="1411200"/>
              <a:ext cx="610920" cy="390600"/>
              <a:chOff x="6856560" y="1411200"/>
              <a:chExt cx="610920" cy="39060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7118280" y="1585440"/>
                <a:ext cx="6660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6856560" y="1527120"/>
                <a:ext cx="298440" cy="274680"/>
                <a:chOff x="6856560" y="1527120"/>
                <a:chExt cx="298440" cy="2746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029360" y="1573200"/>
                  <a:ext cx="4788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6921360" y="1582560"/>
                  <a:ext cx="49320" cy="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877080" y="1693800"/>
                  <a:ext cx="414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67440" y="1527120"/>
                  <a:ext cx="716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56560" y="1592280"/>
                  <a:ext cx="88920" cy="8712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" name=""/>
                <p:cNvGrpSpPr/>
                <p:nvPr/>
              </p:nvGrpSpPr>
              <p:grpSpPr>
                <a:xfrm>
                  <a:off x="7054920" y="1598760"/>
                  <a:ext cx="100080" cy="203040"/>
                  <a:chOff x="7054920" y="1598760"/>
                  <a:chExt cx="100080" cy="20304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7115040" y="166536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7094520" y="1670040"/>
                    <a:ext cx="0" cy="42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066080" y="1598760"/>
                    <a:ext cx="7308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054920" y="1703520"/>
                    <a:ext cx="100080" cy="98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>
                  <a:off x="6985080" y="1609560"/>
                  <a:ext cx="39600" cy="3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7167600" y="1411200"/>
                <a:ext cx="299880" cy="273240"/>
                <a:chOff x="7167600" y="1411200"/>
                <a:chExt cx="299880" cy="273240"/>
              </a:xfrm>
            </p:grpSpPr>
            <p:sp>
              <p:nvSpPr>
                <p:cNvPr id="369" name=""/>
                <p:cNvSpPr/>
                <p:nvPr/>
              </p:nvSpPr>
              <p:spPr>
                <a:xfrm flipV="1">
                  <a:off x="7340760" y="1600200"/>
                  <a:ext cx="4752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232760" y="1590840"/>
                  <a:ext cx="48960" cy="3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188120" y="1476360"/>
                  <a:ext cx="41400" cy="4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278840" y="1616040"/>
                  <a:ext cx="7128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67600" y="1531800"/>
                  <a:ext cx="9036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7365960" y="1411200"/>
                  <a:ext cx="101520" cy="198360"/>
                  <a:chOff x="7365960" y="1411200"/>
                  <a:chExt cx="101520" cy="1983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V="1">
                    <a:off x="7427880" y="150012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V="1">
                    <a:off x="7405560" y="1495440"/>
                    <a:ext cx="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378560" y="1541520"/>
                    <a:ext cx="7164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365960" y="1411200"/>
                    <a:ext cx="101520" cy="968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7296120" y="1562040"/>
                  <a:ext cx="39600" cy="4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0" name=""/>
            <p:cNvSpPr/>
            <p:nvPr/>
          </p:nvSpPr>
          <p:spPr>
            <a:xfrm flipV="1">
              <a:off x="7742160" y="1584360"/>
              <a:ext cx="666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480440" y="1523880"/>
              <a:ext cx="298440" cy="276480"/>
              <a:chOff x="7480440" y="1523880"/>
              <a:chExt cx="298440" cy="276480"/>
            </a:xfrm>
          </p:grpSpPr>
          <p:sp>
            <p:nvSpPr>
              <p:cNvPr id="382" name=""/>
              <p:cNvSpPr/>
              <p:nvPr/>
            </p:nvSpPr>
            <p:spPr>
              <a:xfrm>
                <a:off x="7653240" y="1571760"/>
                <a:ext cx="478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7543800" y="1579320"/>
                <a:ext cx="5076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499520" y="1692360"/>
                <a:ext cx="4104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91320" y="1523880"/>
                <a:ext cx="6984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480440" y="1590840"/>
                <a:ext cx="88920" cy="8712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7677000" y="1596960"/>
                <a:ext cx="101880" cy="203400"/>
                <a:chOff x="7677000" y="1596960"/>
                <a:chExt cx="101880" cy="2034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7738920" y="1662120"/>
                  <a:ext cx="0" cy="4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716960" y="1666800"/>
                  <a:ext cx="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689960" y="159696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677000" y="1700280"/>
                  <a:ext cx="101880" cy="100080"/>
                </a:xfrm>
                <a:prstGeom prst="ellipse">
                  <a:avLst/>
                </a:prstGeom>
                <a:solidFill>
                  <a:srgbClr val="ff3300"/>
                </a:soli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7607160" y="1608120"/>
                <a:ext cx="399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582480" y="1582560"/>
              <a:ext cx="525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706320" y="1227240"/>
              <a:ext cx="228600" cy="317520"/>
              <a:chOff x="706320" y="1227240"/>
              <a:chExt cx="228600" cy="31752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782280" y="1359000"/>
                <a:ext cx="730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76160" y="1468440"/>
                <a:ext cx="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7" name=""/>
              <p:cNvGrpSpPr/>
              <p:nvPr/>
            </p:nvGrpSpPr>
            <p:grpSpPr>
              <a:xfrm>
                <a:off x="833400" y="1227240"/>
                <a:ext cx="101520" cy="150840"/>
                <a:chOff x="833400" y="1227240"/>
                <a:chExt cx="101520" cy="15084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833400" y="1282680"/>
                  <a:ext cx="101520" cy="95400"/>
                </a:xfrm>
                <a:prstGeom prst="ellipse">
                  <a:avLst/>
                </a:prstGeom>
                <a:solidFill>
                  <a:srgbClr val="ff3300"/>
                </a:soli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65080" y="1227240"/>
                  <a:ext cx="39960" cy="42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06320" y="1352520"/>
                <a:ext cx="106560" cy="120600"/>
                <a:chOff x="706320" y="1352520"/>
                <a:chExt cx="106560" cy="1206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41240" y="1405080"/>
                  <a:ext cx="7164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41240" y="1352520"/>
                  <a:ext cx="39960" cy="42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06320" y="1374840"/>
                  <a:ext cx="41400" cy="4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4" name=""/>
            <p:cNvSpPr/>
            <p:nvPr/>
          </p:nvSpPr>
          <p:spPr>
            <a:xfrm>
              <a:off x="661320" y="16462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02960" y="164952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19400" y="135900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75440" y="13557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25280" y="136044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5280" y="133668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68480" y="1695600"/>
              <a:ext cx="3960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89120" y="1698480"/>
              <a:ext cx="3960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08320" y="1698480"/>
              <a:ext cx="4104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08200" y="1473120"/>
              <a:ext cx="41400" cy="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40000" y="1473120"/>
              <a:ext cx="39600" cy="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60640" y="1473120"/>
              <a:ext cx="39960" cy="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02160" y="1471680"/>
              <a:ext cx="3960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19680" y="1695600"/>
              <a:ext cx="4140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891080" y="785880"/>
              <a:ext cx="302760" cy="750960"/>
              <a:chOff x="1891080" y="785880"/>
              <a:chExt cx="302760" cy="75096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1891080" y="785880"/>
                <a:ext cx="258120" cy="750960"/>
                <a:chOff x="1891080" y="785880"/>
                <a:chExt cx="258120" cy="7509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2031840" y="1076400"/>
                  <a:ext cx="6192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71720" y="1214280"/>
                  <a:ext cx="6984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978200" y="139716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073240" y="1306440"/>
                  <a:ext cx="7164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068560" y="1122480"/>
                  <a:ext cx="69840" cy="71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63800" y="1004760"/>
                  <a:ext cx="88920" cy="856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066760" y="1020600"/>
                  <a:ext cx="39960" cy="44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911240" y="1027080"/>
                  <a:ext cx="39960" cy="42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989000" y="947880"/>
                  <a:ext cx="39960" cy="42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891080" y="785880"/>
                  <a:ext cx="25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011320" y="1454040"/>
                  <a:ext cx="0" cy="8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2031840" y="1359000"/>
                  <a:ext cx="6192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027160" y="1265400"/>
                  <a:ext cx="55800" cy="5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2026800" y="1174680"/>
                  <a:ext cx="55800" cy="5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2143080" y="110160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147760" y="1154160"/>
                <a:ext cx="3996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922400" y="1201680"/>
                <a:ext cx="414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22400" y="1257480"/>
                <a:ext cx="414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154240" y="134784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154240" y="129528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927080" y="1390680"/>
                <a:ext cx="414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51200" y="1365120"/>
                <a:ext cx="41040" cy="3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198440" y="758880"/>
              <a:ext cx="379440" cy="766800"/>
              <a:chOff x="1198440" y="758880"/>
              <a:chExt cx="379440" cy="7668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1239840" y="758880"/>
                <a:ext cx="287280" cy="766800"/>
                <a:chOff x="1239840" y="758880"/>
                <a:chExt cx="287280" cy="766800"/>
              </a:xfrm>
            </p:grpSpPr>
            <p:sp>
              <p:nvSpPr>
                <p:cNvPr id="444" name=""/>
                <p:cNvSpPr/>
                <p:nvPr/>
              </p:nvSpPr>
              <p:spPr>
                <a:xfrm flipV="1">
                  <a:off x="1400040" y="961560"/>
                  <a:ext cx="5580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flipV="1">
                  <a:off x="1316160" y="964800"/>
                  <a:ext cx="4608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>
                  <a:off x="1399680" y="1049040"/>
                  <a:ext cx="558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V="1">
                  <a:off x="1397160" y="1157400"/>
                  <a:ext cx="5220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352520" y="1401840"/>
                  <a:ext cx="7164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433520" y="129528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351080" y="1201680"/>
                  <a:ext cx="7128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347840" y="1001880"/>
                  <a:ext cx="7128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434960" y="1084320"/>
                  <a:ext cx="8892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436760" y="892080"/>
                  <a:ext cx="90360" cy="856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239840" y="895320"/>
                  <a:ext cx="8892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265400" y="758880"/>
                  <a:ext cx="25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1393920" y="1457280"/>
                  <a:ext cx="0" cy="6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>
                  <a:off x="1403280" y="1356840"/>
                  <a:ext cx="4284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flipV="1">
                  <a:off x="1384200" y="1230120"/>
                  <a:ext cx="6840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347840" y="876240"/>
                  <a:ext cx="77400" cy="1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4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1311120" y="1182600"/>
                <a:ext cx="3996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05000" y="123840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504800" y="1273320"/>
                <a:ext cx="3996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38280" y="110952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512720" y="1327320"/>
                <a:ext cx="414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05000" y="139212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36680" y="136692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260360" y="843120"/>
                <a:ext cx="414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463760" y="84132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528920" y="88272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198440" y="880920"/>
                <a:ext cx="41400" cy="3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567400" y="763560"/>
              <a:ext cx="379440" cy="767880"/>
              <a:chOff x="5567400" y="763560"/>
              <a:chExt cx="379440" cy="76788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5608800" y="763560"/>
                <a:ext cx="287280" cy="767880"/>
                <a:chOff x="5608800" y="763560"/>
                <a:chExt cx="287280" cy="767880"/>
              </a:xfrm>
            </p:grpSpPr>
            <p:sp>
              <p:nvSpPr>
                <p:cNvPr id="473" name=""/>
                <p:cNvSpPr/>
                <p:nvPr/>
              </p:nvSpPr>
              <p:spPr>
                <a:xfrm flipV="1">
                  <a:off x="5769000" y="968400"/>
                  <a:ext cx="55440" cy="4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>
                  <a:off x="5683320" y="969480"/>
                  <a:ext cx="4752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769000" y="1054080"/>
                  <a:ext cx="5544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765760" y="1163160"/>
                  <a:ext cx="52560" cy="4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721480" y="1406520"/>
                  <a:ext cx="7128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802480" y="130032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719680" y="120636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16440" y="1006560"/>
                  <a:ext cx="7164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802480" y="1089000"/>
                  <a:ext cx="90360" cy="856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805360" y="898560"/>
                  <a:ext cx="9072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608800" y="900000"/>
                  <a:ext cx="88560" cy="874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632560" y="763560"/>
                  <a:ext cx="25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5762520" y="1463400"/>
                  <a:ext cx="0" cy="6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5772240" y="1362240"/>
                  <a:ext cx="4284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 flipV="1">
                  <a:off x="5752800" y="1236600"/>
                  <a:ext cx="6804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16440" y="882000"/>
                  <a:ext cx="77400" cy="10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5" y="10461"/>
                      </a:moveTo>
                      <a:arcTo wR="10800" hR="10800" stAng="-107945" swAng="1101157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5" y="10461"/>
                      </a:moveTo>
                      <a:arcTo wR="10800" hR="10800" stAng="-107945" swAng="1101157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4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5680080" y="1187280"/>
                <a:ext cx="39600" cy="43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673600" y="12445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73760" y="1281240"/>
                <a:ext cx="39600" cy="37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907240" y="111456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81680" y="1335240"/>
                <a:ext cx="41400" cy="37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73600" y="1401840"/>
                <a:ext cx="399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705640" y="1373040"/>
                <a:ext cx="39600" cy="3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629320" y="849240"/>
                <a:ext cx="414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32360" y="846000"/>
                <a:ext cx="3996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97520" y="888840"/>
                <a:ext cx="39600" cy="3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67400" y="885960"/>
                <a:ext cx="414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6184800" y="758880"/>
              <a:ext cx="378000" cy="766800"/>
              <a:chOff x="6184800" y="758880"/>
              <a:chExt cx="378000" cy="7668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6226200" y="758880"/>
                <a:ext cx="285840" cy="766800"/>
                <a:chOff x="6226200" y="758880"/>
                <a:chExt cx="285840" cy="766800"/>
              </a:xfrm>
            </p:grpSpPr>
            <p:sp>
              <p:nvSpPr>
                <p:cNvPr id="502" name=""/>
                <p:cNvSpPr/>
                <p:nvPr/>
              </p:nvSpPr>
              <p:spPr>
                <a:xfrm flipV="1">
                  <a:off x="6386400" y="961560"/>
                  <a:ext cx="5580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6300720" y="964800"/>
                  <a:ext cx="4608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6386040" y="1049040"/>
                  <a:ext cx="558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6383160" y="1157400"/>
                  <a:ext cx="5256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340320" y="1401840"/>
                  <a:ext cx="6984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418440" y="1295280"/>
                  <a:ext cx="7128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337440" y="1201680"/>
                  <a:ext cx="6984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334200" y="1001880"/>
                  <a:ext cx="6984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419880" y="1084320"/>
                  <a:ext cx="8892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423120" y="892080"/>
                  <a:ext cx="88920" cy="856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226200" y="895320"/>
                  <a:ext cx="8892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250320" y="758880"/>
                  <a:ext cx="25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6380280" y="1457280"/>
                  <a:ext cx="0" cy="6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6389640" y="1356840"/>
                  <a:ext cx="4284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 flipV="1">
                  <a:off x="6370560" y="1230120"/>
                  <a:ext cx="6840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335640" y="876240"/>
                  <a:ext cx="73800" cy="1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4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6296040" y="118260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91360" y="12384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91160" y="1273320"/>
                <a:ext cx="3996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23200" y="110952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500880" y="132732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291360" y="1392120"/>
                <a:ext cx="4104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3040" y="136692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46720" y="843120"/>
                <a:ext cx="3996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450120" y="84132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513480" y="882720"/>
                <a:ext cx="414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184800" y="880920"/>
                <a:ext cx="41400" cy="3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7432560" y="758880"/>
              <a:ext cx="378000" cy="766800"/>
              <a:chOff x="7432560" y="758880"/>
              <a:chExt cx="378000" cy="76680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7472520" y="758880"/>
                <a:ext cx="285480" cy="766800"/>
                <a:chOff x="7472520" y="758880"/>
                <a:chExt cx="285480" cy="766800"/>
              </a:xfrm>
            </p:grpSpPr>
            <p:sp>
              <p:nvSpPr>
                <p:cNvPr id="531" name=""/>
                <p:cNvSpPr/>
                <p:nvPr/>
              </p:nvSpPr>
              <p:spPr>
                <a:xfrm flipV="1">
                  <a:off x="7632720" y="961560"/>
                  <a:ext cx="5544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 flipV="1">
                  <a:off x="7547040" y="964800"/>
                  <a:ext cx="4752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 flipV="1">
                  <a:off x="7632720" y="1049040"/>
                  <a:ext cx="5544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V="1">
                  <a:off x="7629480" y="1157400"/>
                  <a:ext cx="5256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586640" y="1401840"/>
                  <a:ext cx="6984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664400" y="1295280"/>
                  <a:ext cx="716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583400" y="1201680"/>
                  <a:ext cx="6984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580160" y="1001880"/>
                  <a:ext cx="6984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666200" y="1084320"/>
                  <a:ext cx="9036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669080" y="892080"/>
                  <a:ext cx="88920" cy="856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472520" y="895320"/>
                  <a:ext cx="88920" cy="8424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496280" y="758880"/>
                  <a:ext cx="25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V="1">
                  <a:off x="7626240" y="1457280"/>
                  <a:ext cx="0" cy="6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7635960" y="1356840"/>
                  <a:ext cx="4428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flipV="1">
                  <a:off x="7616520" y="1230120"/>
                  <a:ext cx="6804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581960" y="876240"/>
                  <a:ext cx="73800" cy="1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4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7543800" y="118260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537320" y="1238400"/>
                <a:ext cx="414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37480" y="127332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769160" y="1109520"/>
                <a:ext cx="414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746840" y="1327320"/>
                <a:ext cx="3996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37320" y="1392120"/>
                <a:ext cx="414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69360" y="136692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494480" y="843120"/>
                <a:ext cx="3996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96080" y="841320"/>
                <a:ext cx="3996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761240" y="88272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432560" y="880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2812680" y="1677600"/>
              <a:ext cx="322560" cy="750960"/>
              <a:chOff x="2812680" y="1677600"/>
              <a:chExt cx="322560" cy="75096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2812680" y="1677600"/>
                <a:ext cx="273600" cy="750960"/>
                <a:chOff x="2812680" y="1677600"/>
                <a:chExt cx="273600" cy="750960"/>
              </a:xfrm>
            </p:grpSpPr>
            <p:sp>
              <p:nvSpPr>
                <p:cNvPr id="560" name=""/>
                <p:cNvSpPr/>
                <p:nvPr/>
              </p:nvSpPr>
              <p:spPr>
                <a:xfrm flipV="1">
                  <a:off x="2971800" y="2070000"/>
                  <a:ext cx="61920" cy="6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911320" y="193032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916360" y="1746360"/>
                  <a:ext cx="73080" cy="71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14640" y="1836720"/>
                  <a:ext cx="716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008160" y="2021040"/>
                  <a:ext cx="716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905200" y="2122560"/>
                  <a:ext cx="88920" cy="8712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006720" y="2151000"/>
                  <a:ext cx="414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851200" y="2146320"/>
                  <a:ext cx="41400" cy="38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930400" y="2225520"/>
                  <a:ext cx="39960" cy="3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 rot="10800000">
                  <a:off x="2812320" y="2183760"/>
                  <a:ext cx="25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V="1">
                  <a:off x="2952720" y="1677600"/>
                  <a:ext cx="0" cy="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971800" y="1806480"/>
                  <a:ext cx="61920" cy="4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V="1">
                  <a:off x="2967120" y="1891800"/>
                  <a:ext cx="55440" cy="5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 flipV="1">
                  <a:off x="2967120" y="1979280"/>
                  <a:ext cx="5544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4" name=""/>
              <p:cNvSpPr/>
              <p:nvPr/>
            </p:nvSpPr>
            <p:spPr>
              <a:xfrm>
                <a:off x="3083040" y="207324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89160" y="2019240"/>
                <a:ext cx="3996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862360" y="197316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862360" y="191448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95640" y="182556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95640" y="187812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68480" y="178128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92600" y="180972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052520" y="1677600"/>
              <a:ext cx="322560" cy="750960"/>
              <a:chOff x="4052520" y="1677600"/>
              <a:chExt cx="322560" cy="75096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4052520" y="1677600"/>
                <a:ext cx="273240" cy="750960"/>
                <a:chOff x="4052520" y="1677600"/>
                <a:chExt cx="273240" cy="750960"/>
              </a:xfrm>
            </p:grpSpPr>
            <p:sp>
              <p:nvSpPr>
                <p:cNvPr id="584" name=""/>
                <p:cNvSpPr/>
                <p:nvPr/>
              </p:nvSpPr>
              <p:spPr>
                <a:xfrm flipV="1">
                  <a:off x="4213080" y="2070000"/>
                  <a:ext cx="61920" cy="6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152960" y="1930320"/>
                  <a:ext cx="69840" cy="7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159080" y="1746360"/>
                  <a:ext cx="70200" cy="71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254480" y="1836720"/>
                  <a:ext cx="7128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249800" y="202104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145040" y="2122560"/>
                  <a:ext cx="88920" cy="8712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248000" y="2151000"/>
                  <a:ext cx="3996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092480" y="2146320"/>
                  <a:ext cx="39960" cy="38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170240" y="2225520"/>
                  <a:ext cx="39960" cy="3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rot="10800000">
                  <a:off x="4052160" y="2183760"/>
                  <a:ext cx="25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4192560" y="1677600"/>
                  <a:ext cx="0" cy="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213080" y="1806480"/>
                  <a:ext cx="61920" cy="4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V="1">
                  <a:off x="4208400" y="1891800"/>
                  <a:ext cx="55800" cy="5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flipV="1">
                  <a:off x="4208040" y="1979280"/>
                  <a:ext cx="5580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4324320" y="2073240"/>
                <a:ext cx="414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329000" y="2019240"/>
                <a:ext cx="414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103640" y="1973160"/>
                <a:ext cx="414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103640" y="1914480"/>
                <a:ext cx="414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335480" y="182556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335480" y="187812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110120" y="178128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32440" y="1809720"/>
                <a:ext cx="4104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5318640" y="1671120"/>
              <a:ext cx="321840" cy="747720"/>
              <a:chOff x="5318640" y="1671120"/>
              <a:chExt cx="321840" cy="74772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5318640" y="1671120"/>
                <a:ext cx="271080" cy="747720"/>
                <a:chOff x="5318640" y="1671120"/>
                <a:chExt cx="271080" cy="747720"/>
              </a:xfrm>
            </p:grpSpPr>
            <p:sp>
              <p:nvSpPr>
                <p:cNvPr id="608" name=""/>
                <p:cNvSpPr/>
                <p:nvPr/>
              </p:nvSpPr>
              <p:spPr>
                <a:xfrm flipV="1">
                  <a:off x="5477040" y="2066760"/>
                  <a:ext cx="61920" cy="6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416560" y="1922400"/>
                  <a:ext cx="71280" cy="74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421240" y="1743120"/>
                  <a:ext cx="7164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519880" y="183204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513400" y="201600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408640" y="2117880"/>
                  <a:ext cx="88920" cy="8712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511960" y="2146320"/>
                  <a:ext cx="39600" cy="38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356080" y="2139840"/>
                  <a:ext cx="39960" cy="4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435640" y="2220840"/>
                  <a:ext cx="396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 rot="10800000">
                  <a:off x="5318280" y="2174040"/>
                  <a:ext cx="25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5457960" y="167112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477040" y="1800360"/>
                  <a:ext cx="6192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5470560" y="1887120"/>
                  <a:ext cx="55440" cy="5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 flipV="1">
                  <a:off x="5470560" y="1974960"/>
                  <a:ext cx="55440" cy="56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587920" y="206532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594400" y="201456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67240" y="1968480"/>
                <a:ext cx="414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67240" y="1909800"/>
                <a:ext cx="414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99080" y="1820880"/>
                <a:ext cx="414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99080" y="1871640"/>
                <a:ext cx="414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73720" y="177480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397480" y="180324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6552720" y="1666440"/>
              <a:ext cx="322920" cy="747720"/>
              <a:chOff x="6552720" y="1666440"/>
              <a:chExt cx="322920" cy="74772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6552720" y="1666440"/>
                <a:ext cx="273600" cy="747720"/>
                <a:chOff x="6552720" y="1666440"/>
                <a:chExt cx="273600" cy="747720"/>
              </a:xfrm>
            </p:grpSpPr>
            <p:sp>
              <p:nvSpPr>
                <p:cNvPr id="632" name=""/>
                <p:cNvSpPr/>
                <p:nvPr/>
              </p:nvSpPr>
              <p:spPr>
                <a:xfrm flipV="1">
                  <a:off x="6713640" y="2058840"/>
                  <a:ext cx="61920" cy="6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651720" y="191916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56400" y="1738440"/>
                  <a:ext cx="7128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753240" y="1827360"/>
                  <a:ext cx="7308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748560" y="2011320"/>
                  <a:ext cx="7128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643800" y="2111400"/>
                  <a:ext cx="88920" cy="8892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746760" y="2139840"/>
                  <a:ext cx="39960" cy="4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591240" y="2133720"/>
                  <a:ext cx="39600" cy="4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670800" y="2214720"/>
                  <a:ext cx="39600" cy="39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rot="10800000">
                  <a:off x="6552360" y="2169360"/>
                  <a:ext cx="25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6691320" y="166644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713640" y="1795320"/>
                  <a:ext cx="61920" cy="4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6707160" y="1882800"/>
                  <a:ext cx="5544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flipV="1">
                  <a:off x="6707160" y="1969560"/>
                  <a:ext cx="5544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>
                <a:off x="6823080" y="206064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9560" y="200988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602400" y="1960560"/>
                <a:ext cx="414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602400" y="1905120"/>
                <a:ext cx="414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35680" y="1814400"/>
                <a:ext cx="3996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835680" y="1865160"/>
                <a:ext cx="3996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608880" y="177156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630840" y="1797120"/>
                <a:ext cx="414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3360600" y="1677960"/>
              <a:ext cx="311400" cy="409680"/>
              <a:chOff x="3360600" y="1677960"/>
              <a:chExt cx="311400" cy="409680"/>
            </a:xfrm>
          </p:grpSpPr>
          <p:sp>
            <p:nvSpPr>
              <p:cNvPr id="655" name=""/>
              <p:cNvSpPr/>
              <p:nvPr/>
            </p:nvSpPr>
            <p:spPr>
              <a:xfrm>
                <a:off x="3535200" y="1739880"/>
                <a:ext cx="71640" cy="69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43400" y="1851120"/>
                <a:ext cx="71280" cy="68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556080" y="1922400"/>
                <a:ext cx="69840" cy="69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11360" y="1971720"/>
                <a:ext cx="71640" cy="69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614760" y="176040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97120" y="1795320"/>
                <a:ext cx="3996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397320" y="1849320"/>
                <a:ext cx="39600" cy="3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75080" y="2031840"/>
                <a:ext cx="41400" cy="3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97320" y="2043000"/>
                <a:ext cx="39600" cy="44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360600" y="1989000"/>
                <a:ext cx="3996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568680" y="2001960"/>
                <a:ext cx="414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630600" y="1957320"/>
                <a:ext cx="414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19440" y="1893960"/>
                <a:ext cx="414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65440" y="1677960"/>
                <a:ext cx="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3497400" y="1797120"/>
                <a:ext cx="5544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3451320" y="1908000"/>
                <a:ext cx="1584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03520" y="1898640"/>
                <a:ext cx="6192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113600" y="1677960"/>
              <a:ext cx="311040" cy="409680"/>
              <a:chOff x="7113600" y="1677960"/>
              <a:chExt cx="311040" cy="409680"/>
            </a:xfrm>
          </p:grpSpPr>
          <p:sp>
            <p:nvSpPr>
              <p:cNvPr id="673" name=""/>
              <p:cNvSpPr/>
              <p:nvPr/>
            </p:nvSpPr>
            <p:spPr>
              <a:xfrm>
                <a:off x="7284960" y="1739880"/>
                <a:ext cx="73080" cy="69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194600" y="1851120"/>
                <a:ext cx="71280" cy="68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7280" y="1922400"/>
                <a:ext cx="69840" cy="69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62920" y="1971720"/>
                <a:ext cx="71280" cy="69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365960" y="176040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346880" y="1795320"/>
                <a:ext cx="414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148520" y="1849320"/>
                <a:ext cx="39600" cy="3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226280" y="2031840"/>
                <a:ext cx="41400" cy="3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148520" y="2043000"/>
                <a:ext cx="39600" cy="44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113600" y="198900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321680" y="200196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383600" y="1957320"/>
                <a:ext cx="4104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372440" y="189396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18440" y="1677960"/>
                <a:ext cx="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7246440" y="1797120"/>
                <a:ext cx="5724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7203960" y="1908000"/>
                <a:ext cx="129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256520" y="1898640"/>
                <a:ext cx="6192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6837480" y="1292400"/>
              <a:ext cx="336600" cy="258120"/>
              <a:chOff x="6837480" y="1292400"/>
              <a:chExt cx="336600" cy="258120"/>
            </a:xfrm>
          </p:grpSpPr>
          <p:sp>
            <p:nvSpPr>
              <p:cNvPr id="691" name=""/>
              <p:cNvSpPr/>
              <p:nvPr/>
            </p:nvSpPr>
            <p:spPr>
              <a:xfrm>
                <a:off x="6970680" y="1419120"/>
                <a:ext cx="73080" cy="69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58160" y="1327320"/>
                <a:ext cx="69840" cy="72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886440" y="1327320"/>
                <a:ext cx="69840" cy="72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993000" y="136836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942240" y="12924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862680" y="129384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837480" y="136044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32600" y="1292400"/>
                <a:ext cx="414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118280" y="130032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32680" y="1374840"/>
                <a:ext cx="41400" cy="39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002360" y="1468080"/>
                <a:ext cx="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6939000" y="1374480"/>
                <a:ext cx="4752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7042320" y="1386000"/>
                <a:ext cx="3492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064120" y="1357200"/>
              <a:ext cx="163440" cy="182160"/>
              <a:chOff x="5064120" y="1357200"/>
              <a:chExt cx="163440" cy="182160"/>
            </a:xfrm>
          </p:grpSpPr>
          <p:sp>
            <p:nvSpPr>
              <p:cNvPr id="705" name=""/>
              <p:cNvSpPr/>
              <p:nvPr/>
            </p:nvSpPr>
            <p:spPr>
              <a:xfrm>
                <a:off x="5106960" y="1409760"/>
                <a:ext cx="71640" cy="68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26040" y="135720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064120" y="138924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187960" y="139392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5140440" y="1456920"/>
                <a:ext cx="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5040" y="1671480"/>
              <a:ext cx="266400" cy="449640"/>
              <a:chOff x="5945040" y="1671480"/>
              <a:chExt cx="266400" cy="449640"/>
            </a:xfrm>
          </p:grpSpPr>
          <p:sp>
            <p:nvSpPr>
              <p:cNvPr id="711" name=""/>
              <p:cNvSpPr/>
              <p:nvPr/>
            </p:nvSpPr>
            <p:spPr>
              <a:xfrm flipV="1">
                <a:off x="6145200" y="1992240"/>
                <a:ext cx="1440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00920" y="1895400"/>
                <a:ext cx="3492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062760" y="2070000"/>
                <a:ext cx="4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86440" y="1973160"/>
                <a:ext cx="2052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121440" y="1916280"/>
                <a:ext cx="87120" cy="8712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32520" y="1738440"/>
                <a:ext cx="73080" cy="68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992920" y="178452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107040" y="178452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073920" y="1671480"/>
                <a:ext cx="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39000" y="1847880"/>
                <a:ext cx="72720" cy="68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945040" y="1906560"/>
                <a:ext cx="71640" cy="68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969160" y="2017800"/>
                <a:ext cx="90360" cy="8568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00920" y="2033640"/>
                <a:ext cx="71280" cy="68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953320" y="1876320"/>
                <a:ext cx="258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6003720" y="1892160"/>
                <a:ext cx="5076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073920" y="180324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565280" y="1639800"/>
              <a:ext cx="0" cy="370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500120" y="1863720"/>
              <a:ext cx="438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22360" y="1969920"/>
              <a:ext cx="196920" cy="181080"/>
            </a:xfrm>
            <a:prstGeom prst="star5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51480" y="974880"/>
              <a:ext cx="196560" cy="182520"/>
            </a:xfrm>
            <a:prstGeom prst="star5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5920" y="1655640"/>
              <a:ext cx="41040" cy="41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89560" y="1087560"/>
              <a:ext cx="142200" cy="41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37" y="17510"/>
                  </a:moveTo>
                  <a:arcTo wR="10800" hR="10800" stAng="8495494" swAng="76275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337" y="17510"/>
                  </a:moveTo>
                  <a:arcTo wR="10800" hR="10800" stAng="8495494" swAng="7627559"/>
                </a:path>
              </a:pathLst>
            </a:custGeom>
            <a:noFill/>
            <a:ln cap="rnd" w="12600">
              <a:solidFill>
                <a:srgbClr val="ff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1480" y="1095480"/>
              <a:ext cx="200160" cy="80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30" y="1"/>
                  </a:moveTo>
                  <a:arcTo wR="10800" hR="10800" stAng="-5454027" swAng="5440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30" y="1"/>
                  </a:moveTo>
                  <a:arcTo wR="10800" hR="10800" stAng="-5454027" swAng="5440358"/>
                </a:path>
              </a:pathLst>
            </a:custGeom>
            <a:noFill/>
            <a:ln cap="rnd" w="1260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324160" y="1561680"/>
              <a:ext cx="123480" cy="4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1398600"/>
              <a:ext cx="307800" cy="63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318" swAng="5417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318" swAng="5417318"/>
                </a:path>
              </a:pathLst>
            </a:custGeom>
            <a:noFill/>
            <a:ln cap="rnd" w="12600">
              <a:solidFill>
                <a:srgbClr val="ff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38560" y="852480"/>
              <a:ext cx="174960" cy="162000"/>
            </a:xfrm>
            <a:custGeom>
              <a:avLst/>
              <a:gdLst>
                <a:gd name="textAreaLeft" fmla="*/ 39960 w 174960"/>
                <a:gd name="textAreaRight" fmla="*/ 135000 w 17496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45120" y="1055520"/>
              <a:ext cx="0" cy="247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124080" y="2058840"/>
              <a:ext cx="158760" cy="150840"/>
            </a:xfrm>
            <a:prstGeom prst="diamond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61240" y="2054160"/>
              <a:ext cx="160200" cy="150840"/>
            </a:xfrm>
            <a:prstGeom prst="diamond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61000" y="2052720"/>
              <a:ext cx="160200" cy="149040"/>
            </a:xfrm>
            <a:prstGeom prst="diamond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35120" y="1941840"/>
              <a:ext cx="79380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34699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34699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0800000">
              <a:off x="4865400" y="2059200"/>
              <a:ext cx="1179000" cy="1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17" y="16429"/>
                  </a:moveTo>
                  <a:arcTo wR="10800" hR="10800" stAng="1884687" swAng="3515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17" y="16429"/>
                  </a:moveTo>
                  <a:arcTo wR="10800" hR="10800" stAng="1884687" swAng="35153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24600" y="1057320"/>
              <a:ext cx="149040" cy="139680"/>
            </a:xfrm>
            <a:custGeom>
              <a:avLst/>
              <a:gdLst>
                <a:gd name="textAreaLeft" fmla="*/ 33840 w 149040"/>
                <a:gd name="textAreaRight" fmla="*/ 115200 w 149040"/>
                <a:gd name="textAreaTop" fmla="*/ 31680 h 139680"/>
                <a:gd name="textAreaBottom" fmla="*/ 10800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38320" y="1139760"/>
              <a:ext cx="149040" cy="138240"/>
            </a:xfrm>
            <a:custGeom>
              <a:avLst/>
              <a:gdLst>
                <a:gd name="textAreaLeft" fmla="*/ 33840 w 149040"/>
                <a:gd name="textAreaRight" fmla="*/ 115200 w 149040"/>
                <a:gd name="textAreaTop" fmla="*/ 31320 h 138240"/>
                <a:gd name="textAreaBottom" fmla="*/ 10692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16720" y="1154520"/>
              <a:ext cx="43452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3" y="10408"/>
                  </a:moveTo>
                  <a:arcTo wR="10800" hR="10800" stAng="-124954" swAng="55249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3" y="10408"/>
                  </a:moveTo>
                  <a:arcTo wR="10800" hR="10800" stAng="-124954" swAng="5524954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30800" y="1162080"/>
              <a:ext cx="301320" cy="6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7" name="" descr=""/>
          <p:cNvPicPr/>
          <p:nvPr/>
        </p:nvPicPr>
        <p:blipFill>
          <a:blip r:embed="rId2"/>
          <a:srcRect l="17621" t="35959" r="39094" b="18825"/>
          <a:stretch/>
        </p:blipFill>
        <p:spPr>
          <a:xfrm>
            <a:off x="8037360" y="762120"/>
            <a:ext cx="1957680" cy="2392200"/>
          </a:xfrm>
          <a:prstGeom prst="rect">
            <a:avLst/>
          </a:prstGeom>
          <a:ln w="0">
            <a:noFill/>
          </a:ln>
        </p:spPr>
      </p:pic>
      <p:grpSp>
        <p:nvGrpSpPr>
          <p:cNvPr id="748" name=""/>
          <p:cNvGrpSpPr/>
          <p:nvPr/>
        </p:nvGrpSpPr>
        <p:grpSpPr>
          <a:xfrm>
            <a:off x="6483240" y="3218040"/>
            <a:ext cx="3510000" cy="3368160"/>
            <a:chOff x="6483240" y="3218040"/>
            <a:chExt cx="3510000" cy="3368160"/>
          </a:xfrm>
        </p:grpSpPr>
        <p:sp>
          <p:nvSpPr>
            <p:cNvPr id="749" name=""/>
            <p:cNvSpPr/>
            <p:nvPr/>
          </p:nvSpPr>
          <p:spPr>
            <a:xfrm>
              <a:off x="6483240" y="3218040"/>
              <a:ext cx="3510000" cy="32065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30400" y="3500280"/>
              <a:ext cx="3423600" cy="30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 low ionic strength N-terminal pepti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 histone H4 bind to 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oss of proton signal = loss of mobilit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peptide backbone is immobiliz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rong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oss of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y G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s of -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a 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me loss of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 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owever, the lysine side-chain is fr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within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hosphate reson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oundarie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oss of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CH2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ys 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C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 L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 V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65760" y="4514760"/>
              <a:ext cx="212760" cy="212760"/>
            </a:xfrm>
            <a:prstGeom prst="star5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78720" y="4764240"/>
              <a:ext cx="188640" cy="188640"/>
            </a:xfrm>
            <a:custGeom>
              <a:avLst/>
              <a:gdLst>
                <a:gd name="textAreaLeft" fmla="*/ 42840 w 188640"/>
                <a:gd name="textAreaRight" fmla="*/ 145800 w 188640"/>
                <a:gd name="textAreaTop" fmla="*/ 42840 h 188640"/>
                <a:gd name="textAreaBottom" fmla="*/ 145800 h 18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08600" y="4979880"/>
              <a:ext cx="162000" cy="162000"/>
            </a:xfrm>
            <a:custGeom>
              <a:avLst/>
              <a:gdLst>
                <a:gd name="textAreaLeft" fmla="*/ 36720 w 162000"/>
                <a:gd name="textAreaRight" fmla="*/ 125280 w 162000"/>
                <a:gd name="textAreaTop" fmla="*/ 36720 h 162000"/>
                <a:gd name="textAreaBottom" fmla="*/ 12528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676920" y="5491080"/>
              <a:ext cx="174600" cy="174600"/>
            </a:xfrm>
            <a:prstGeom prst="diamond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rot="10800000">
              <a:off x="6666480" y="6214680"/>
              <a:ext cx="183960" cy="12708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29320" y="3228840"/>
              <a:ext cx="1721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servation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547120" y="5729400"/>
              <a:ext cx="438120" cy="137880"/>
            </a:xfrm>
            <a:prstGeom prst="rightArrow">
              <a:avLst>
                <a:gd name="adj1" fmla="val 50000"/>
                <a:gd name="adj2" fmla="val 158892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969320" y="5732640"/>
              <a:ext cx="438120" cy="137880"/>
            </a:xfrm>
            <a:prstGeom prst="leftArrow">
              <a:avLst>
                <a:gd name="adj1" fmla="val 50000"/>
                <a:gd name="adj2" fmla="val 158862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8220240" y="1057320"/>
            <a:ext cx="1369800" cy="1289160"/>
            <a:chOff x="8220240" y="1057320"/>
            <a:chExt cx="1369800" cy="1289160"/>
          </a:xfrm>
        </p:grpSpPr>
        <p:sp>
          <p:nvSpPr>
            <p:cNvPr id="760" name=""/>
            <p:cNvSpPr/>
            <p:nvPr/>
          </p:nvSpPr>
          <p:spPr>
            <a:xfrm>
              <a:off x="9228240" y="2208240"/>
              <a:ext cx="712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002880" y="2214720"/>
              <a:ext cx="72720" cy="80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8686440" y="1571760"/>
              <a:ext cx="1908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8880000">
              <a:off x="8645040" y="1434600"/>
              <a:ext cx="141480" cy="15876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8880000">
              <a:off x="8563680" y="1531440"/>
              <a:ext cx="7164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8880000">
              <a:off x="8780400" y="1407600"/>
              <a:ext cx="6984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8880000">
              <a:off x="8605440" y="1360440"/>
              <a:ext cx="7308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075600" y="2112840"/>
              <a:ext cx="7488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731080" y="1762200"/>
              <a:ext cx="125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8880480" y="2041200"/>
              <a:ext cx="12528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8859600" y="1849320"/>
              <a:ext cx="284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8880000">
              <a:off x="8540280" y="1714320"/>
              <a:ext cx="69840" cy="75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8880000">
              <a:off x="8579880" y="1792080"/>
              <a:ext cx="68040" cy="8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8880000">
              <a:off x="8920080" y="1665000"/>
              <a:ext cx="6984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8880000">
              <a:off x="8969040" y="1754280"/>
              <a:ext cx="7128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8880000">
              <a:off x="8742240" y="2084040"/>
              <a:ext cx="68400" cy="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8880000">
              <a:off x="8694000" y="2001600"/>
              <a:ext cx="7308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8880000">
              <a:off x="9086760" y="1953720"/>
              <a:ext cx="6984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8880000">
              <a:off x="9030960" y="1934280"/>
              <a:ext cx="68400" cy="7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091440" y="2185920"/>
              <a:ext cx="1177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76640" y="136368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272520" y="2023920"/>
              <a:ext cx="317520" cy="322560"/>
            </a:xfrm>
            <a:prstGeom prst="star5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2760000">
              <a:off x="8416440" y="1839960"/>
              <a:ext cx="111240" cy="181080"/>
            </a:xfrm>
            <a:prstGeom prst="downArrow">
              <a:avLst>
                <a:gd name="adj1" fmla="val 50000"/>
                <a:gd name="adj2" fmla="val 81399"/>
              </a:avLst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3560000">
              <a:off x="8773200" y="1549800"/>
              <a:ext cx="110880" cy="185760"/>
            </a:xfrm>
            <a:prstGeom prst="downArrow">
              <a:avLst>
                <a:gd name="adj1" fmla="val 50000"/>
                <a:gd name="adj2" fmla="val 83774"/>
              </a:avLst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220240" y="2008080"/>
              <a:ext cx="147600" cy="144720"/>
            </a:xfrm>
            <a:prstGeom prst="diamond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8652600" y="1057320"/>
              <a:ext cx="287280" cy="388080"/>
              <a:chOff x="8652600" y="1057320"/>
              <a:chExt cx="287280" cy="388080"/>
            </a:xfrm>
          </p:grpSpPr>
          <p:sp>
            <p:nvSpPr>
              <p:cNvPr id="786" name=""/>
              <p:cNvSpPr/>
              <p:nvPr/>
            </p:nvSpPr>
            <p:spPr>
              <a:xfrm>
                <a:off x="8659800" y="1096920"/>
                <a:ext cx="239760" cy="2350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652600" y="1057320"/>
                <a:ext cx="287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653680" y="1109520"/>
                <a:ext cx="252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 rot="8880000">
              <a:off x="8996040" y="2009880"/>
              <a:ext cx="117360" cy="13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8880000">
              <a:off x="8782200" y="1961640"/>
              <a:ext cx="123840" cy="130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8880000">
              <a:off x="8840880" y="1737720"/>
              <a:ext cx="117360" cy="12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8880000">
              <a:off x="8627760" y="1687320"/>
              <a:ext cx="120600" cy="13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1:36Z</cp:lastPrinted>
  <dcterms:modified xsi:type="dcterms:W3CDTF">1999-03-24T13:21:27Z</dcterms:modified>
  <cp:revision>14</cp:revision>
  <dc:subject/>
  <dc:title>CHROMATIN</dc:title>
</cp:coreProperties>
</file>