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DB17-8C5F-4C28-B941-4F313FD6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2A56-2339-43D9-A6C8-142CDD36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C5B0-2045-4785-8F4F-F89F5E12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76BE-D9C9-45DE-BFCE-294FFE2C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41F5-A812-4AD7-ABD7-980118B0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16EA-F090-4B91-B778-9B6C6A6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8271-23E4-4AA4-98FA-D2677D7E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8AA8-C41C-4187-BCBE-CE45AE00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0F09-A41E-4F18-9AAA-49FEB91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C6A0-8399-48C7-9B1E-BB64FF2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EC22-0437-463A-B801-4C2A1119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BE02-D3AB-4D27-BCD4-EDA78C34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5E24-503E-4AFB-9481-438F4314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" y="159840"/>
            <a:ext cx="9626760" cy="6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ffect of Acetylation on H4 - DNA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5600" y="6426360"/>
            <a:ext cx="5293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ry, Crane-Robinson, Bradbury, Dix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. J. Bioche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37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602080" y="3430440"/>
            <a:ext cx="5121000" cy="2975040"/>
            <a:chOff x="2602080" y="3430440"/>
            <a:chExt cx="5121000" cy="2975040"/>
          </a:xfrm>
        </p:grpSpPr>
        <p:sp>
          <p:nvSpPr>
            <p:cNvPr id="46" name=""/>
            <p:cNvSpPr/>
            <p:nvPr/>
          </p:nvSpPr>
          <p:spPr>
            <a:xfrm>
              <a:off x="2602080" y="3438360"/>
              <a:ext cx="5121000" cy="2923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40520" y="3430440"/>
              <a:ext cx="379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etylated H4 N-termini do NOT bind DN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8280" y="380988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692440" y="4046400"/>
              <a:ext cx="4951440" cy="22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610000" y="3436920"/>
              <a:ext cx="5106960" cy="2968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52920" y="3713040"/>
              <a:ext cx="65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-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19120" y="3691080"/>
              <a:ext cx="65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4-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21360" y="388620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800000">
              <a:off x="4127400" y="4528800"/>
              <a:ext cx="184320" cy="12708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15040" y="3927600"/>
              <a:ext cx="158760" cy="168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7960" y="3975120"/>
              <a:ext cx="158760" cy="168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560" y="443232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57680" y="446076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800000">
              <a:off x="6773760" y="4554000"/>
              <a:ext cx="184320" cy="12708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3160" y="4764240"/>
              <a:ext cx="174600" cy="14904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3480" y="890640"/>
            <a:ext cx="8142120" cy="2384280"/>
            <a:chOff x="933480" y="890640"/>
            <a:chExt cx="8142120" cy="2384280"/>
          </a:xfrm>
        </p:grpSpPr>
        <p:sp>
          <p:nvSpPr>
            <p:cNvPr id="62" name=""/>
            <p:cNvSpPr/>
            <p:nvPr/>
          </p:nvSpPr>
          <p:spPr>
            <a:xfrm>
              <a:off x="1643760" y="2765520"/>
              <a:ext cx="6737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Ac-S - G - R - G -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K - G - G -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K - G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L - G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K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 G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G - A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K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R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H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R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K - V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L -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R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561040" y="2921040"/>
              <a:ext cx="5637960" cy="353880"/>
              <a:chOff x="2561040" y="2921040"/>
              <a:chExt cx="5637960" cy="353880"/>
            </a:xfrm>
          </p:grpSpPr>
          <p:sp>
            <p:nvSpPr>
              <p:cNvPr id="64" name=""/>
              <p:cNvSpPr/>
              <p:nvPr/>
            </p:nvSpPr>
            <p:spPr>
              <a:xfrm>
                <a:off x="2561040" y="2921040"/>
                <a:ext cx="4701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74080" y="2924280"/>
                <a:ext cx="4701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97800" y="2924280"/>
                <a:ext cx="5281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62920" y="2924280"/>
                <a:ext cx="5281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7567920" y="2940120"/>
                <a:ext cx="631080" cy="334800"/>
                <a:chOff x="7567920" y="2940120"/>
                <a:chExt cx="631080" cy="3348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7640640" y="2940120"/>
                  <a:ext cx="5583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567920" y="298440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979560" y="1162080"/>
              <a:ext cx="8096040" cy="1194120"/>
              <a:chOff x="979560" y="1162080"/>
              <a:chExt cx="8096040" cy="11941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1181160" y="176976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3920" y="1905120"/>
                <a:ext cx="144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95920" y="2103480"/>
                <a:ext cx="438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-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99640" y="1895400"/>
                <a:ext cx="6120" cy="32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637480" y="2111400"/>
                <a:ext cx="438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-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1090440" y="1844280"/>
                <a:ext cx="5112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1152360" y="176652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28600" y="1801800"/>
                <a:ext cx="77760" cy="54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114560" y="1693800"/>
                <a:ext cx="110880" cy="7632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027080" y="1863720"/>
                <a:ext cx="77760" cy="55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46160" y="1932120"/>
                <a:ext cx="44280" cy="29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88920" y="1844640"/>
                <a:ext cx="4464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192320" y="1693800"/>
                <a:ext cx="7804080" cy="324000"/>
                <a:chOff x="1192320" y="1693800"/>
                <a:chExt cx="7804080" cy="3240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8607600" y="1843200"/>
                  <a:ext cx="5364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927920" y="184320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261200" y="184320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594480" y="184320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921280" y="184464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241960" y="184320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56160" y="184464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2960" y="1847880"/>
                  <a:ext cx="5400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16240" y="184464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46280" y="184464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876320" y="184320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1244520" y="1695600"/>
                  <a:ext cx="4013280" cy="322200"/>
                  <a:chOff x="1244520" y="1695600"/>
                  <a:chExt cx="4013280" cy="322200"/>
                </a:xfrm>
              </p:grpSpPr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244520" y="1695600"/>
                    <a:ext cx="660600" cy="318960"/>
                    <a:chOff x="1244520" y="1695600"/>
                    <a:chExt cx="660600" cy="3189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flipV="1">
                      <a:off x="1527120" y="1839960"/>
                      <a:ext cx="7308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9" name=""/>
                    <p:cNvGrpSpPr/>
                    <p:nvPr/>
                  </p:nvGrpSpPr>
                  <p:grpSpPr>
                    <a:xfrm>
                      <a:off x="1244520" y="1792440"/>
                      <a:ext cx="324000" cy="222120"/>
                      <a:chOff x="1244520" y="1792440"/>
                      <a:chExt cx="324000" cy="222120"/>
                    </a:xfrm>
                  </p:grpSpPr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1432080" y="1828800"/>
                        <a:ext cx="50760" cy="33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 flipV="1">
                        <a:off x="1314360" y="1837800"/>
                        <a:ext cx="540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266840" y="1928880"/>
                        <a:ext cx="44280" cy="31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363680" y="179244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1244520" y="1846440"/>
                        <a:ext cx="96840" cy="6804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5" name=""/>
                      <p:cNvGrpSpPr/>
                      <p:nvPr/>
                    </p:nvGrpSpPr>
                    <p:grpSpPr>
                      <a:xfrm>
                        <a:off x="1457280" y="1852560"/>
                        <a:ext cx="111240" cy="162000"/>
                        <a:chOff x="1457280" y="1852560"/>
                        <a:chExt cx="111240" cy="162000"/>
                      </a:xfrm>
                    </p:grpSpPr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1523880" y="1905120"/>
                          <a:ext cx="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1501920" y="1906560"/>
                          <a:ext cx="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>
                          <a:off x="1471680" y="1852560"/>
                          <a:ext cx="77760" cy="54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>
                          <a:off x="1457280" y="1935000"/>
                          <a:ext cx="111240" cy="795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9720" bIns="9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1382760" y="1859040"/>
                        <a:ext cx="44280" cy="31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1581120" y="1695600"/>
                      <a:ext cx="324000" cy="223560"/>
                      <a:chOff x="1581120" y="1695600"/>
                      <a:chExt cx="324000" cy="223560"/>
                    </a:xfrm>
                  </p:grpSpPr>
                  <p:sp>
                    <p:nvSpPr>
                      <p:cNvPr id="112" name=""/>
                      <p:cNvSpPr/>
                      <p:nvPr/>
                    </p:nvSpPr>
                    <p:spPr>
                      <a:xfrm flipV="1">
                        <a:off x="1768320" y="1848960"/>
                        <a:ext cx="51120" cy="32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1650960" y="1844640"/>
                        <a:ext cx="5400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1603440" y="1751040"/>
                        <a:ext cx="44280" cy="31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1700280" y="1863720"/>
                        <a:ext cx="7776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1581120" y="1797120"/>
                        <a:ext cx="96840" cy="666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7" name=""/>
                      <p:cNvGrpSpPr/>
                      <p:nvPr/>
                    </p:nvGrpSpPr>
                    <p:grpSpPr>
                      <a:xfrm>
                        <a:off x="1793880" y="1695600"/>
                        <a:ext cx="111240" cy="161640"/>
                        <a:chOff x="1793880" y="1695600"/>
                        <a:chExt cx="111240" cy="161640"/>
                      </a:xfrm>
                    </p:grpSpPr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V="1">
                          <a:off x="1860480" y="1769760"/>
                          <a:ext cx="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V="1">
                          <a:off x="1838160" y="1766520"/>
                          <a:ext cx="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1808280" y="1803240"/>
                          <a:ext cx="77760" cy="54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1793880" y="1695600"/>
                          <a:ext cx="111240" cy="777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1719360" y="1820880"/>
                        <a:ext cx="44280" cy="3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200" bIns="-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1911240" y="1698480"/>
                    <a:ext cx="660600" cy="319320"/>
                    <a:chOff x="1911240" y="1698480"/>
                    <a:chExt cx="660600" cy="319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 flipV="1">
                      <a:off x="2193840" y="1843200"/>
                      <a:ext cx="7308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1911240" y="1795320"/>
                      <a:ext cx="324000" cy="222480"/>
                      <a:chOff x="1911240" y="1795320"/>
                      <a:chExt cx="324000" cy="22248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2098800" y="1832040"/>
                        <a:ext cx="5076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 flipV="1">
                        <a:off x="1981080" y="1839600"/>
                        <a:ext cx="540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1933560" y="1932120"/>
                        <a:ext cx="4464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2030400" y="179532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911240" y="1849320"/>
                        <a:ext cx="96840" cy="684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1" name=""/>
                      <p:cNvGrpSpPr/>
                      <p:nvPr/>
                    </p:nvGrpSpPr>
                    <p:grpSpPr>
                      <a:xfrm>
                        <a:off x="2124000" y="1854360"/>
                        <a:ext cx="111240" cy="163440"/>
                        <a:chOff x="2124000" y="1854360"/>
                        <a:chExt cx="111240" cy="163440"/>
                      </a:xfrm>
                    </p:grpSpPr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190600" y="1906560"/>
                          <a:ext cx="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168640" y="191124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138400" y="1854360"/>
                          <a:ext cx="7776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124000" y="1938240"/>
                          <a:ext cx="111240" cy="795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9720" bIns="9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2049480" y="1862280"/>
                        <a:ext cx="4428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" name=""/>
                    <p:cNvGrpSpPr/>
                    <p:nvPr/>
                  </p:nvGrpSpPr>
                  <p:grpSpPr>
                    <a:xfrm>
                      <a:off x="2247840" y="1698480"/>
                      <a:ext cx="324000" cy="223920"/>
                      <a:chOff x="2247840" y="1698480"/>
                      <a:chExt cx="324000" cy="223920"/>
                    </a:xfrm>
                  </p:grpSpPr>
                  <p:sp>
                    <p:nvSpPr>
                      <p:cNvPr id="138" name=""/>
                      <p:cNvSpPr/>
                      <p:nvPr/>
                    </p:nvSpPr>
                    <p:spPr>
                      <a:xfrm flipV="1">
                        <a:off x="2435400" y="1852560"/>
                        <a:ext cx="5076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2317680" y="1847880"/>
                        <a:ext cx="540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2270160" y="1752480"/>
                        <a:ext cx="4428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2367000" y="186840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247840" y="1798560"/>
                        <a:ext cx="96840" cy="666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3" name=""/>
                      <p:cNvGrpSpPr/>
                      <p:nvPr/>
                    </p:nvGrpSpPr>
                    <p:grpSpPr>
                      <a:xfrm>
                        <a:off x="2460600" y="1698480"/>
                        <a:ext cx="111240" cy="162000"/>
                        <a:chOff x="2460600" y="1698480"/>
                        <a:chExt cx="111240" cy="162000"/>
                      </a:xfrm>
                    </p:grpSpPr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527200" y="1773000"/>
                          <a:ext cx="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 flipV="1">
                          <a:off x="2505240" y="176832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475000" y="1805040"/>
                          <a:ext cx="7776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2460600" y="1698480"/>
                          <a:ext cx="111240" cy="777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2386080" y="1822320"/>
                        <a:ext cx="4428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2581200" y="1698480"/>
                    <a:ext cx="660600" cy="319320"/>
                    <a:chOff x="2581200" y="1698480"/>
                    <a:chExt cx="660600" cy="31932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 flipV="1">
                      <a:off x="2863800" y="1843200"/>
                      <a:ext cx="7308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2581200" y="1795320"/>
                      <a:ext cx="324000" cy="222480"/>
                      <a:chOff x="2581200" y="1795320"/>
                      <a:chExt cx="324000" cy="22248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2768760" y="1832040"/>
                        <a:ext cx="5076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 flipV="1">
                        <a:off x="2651040" y="1839600"/>
                        <a:ext cx="540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2603520" y="1932120"/>
                        <a:ext cx="4428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2700360" y="179532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2581200" y="1849320"/>
                        <a:ext cx="96840" cy="684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7" name=""/>
                      <p:cNvGrpSpPr/>
                      <p:nvPr/>
                    </p:nvGrpSpPr>
                    <p:grpSpPr>
                      <a:xfrm>
                        <a:off x="2793960" y="1854360"/>
                        <a:ext cx="111240" cy="163440"/>
                        <a:chOff x="2793960" y="1854360"/>
                        <a:chExt cx="111240" cy="163440"/>
                      </a:xfrm>
                    </p:grpSpPr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2860560" y="1906560"/>
                          <a:ext cx="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2838600" y="191124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808360" y="1854360"/>
                          <a:ext cx="7776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793960" y="1938240"/>
                          <a:ext cx="111240" cy="795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9720" bIns="9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2719440" y="1862280"/>
                        <a:ext cx="4428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2917800" y="1698480"/>
                      <a:ext cx="324000" cy="223920"/>
                      <a:chOff x="2917800" y="1698480"/>
                      <a:chExt cx="324000" cy="22392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 flipV="1">
                        <a:off x="3105000" y="1852560"/>
                        <a:ext cx="5112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2987640" y="1847880"/>
                        <a:ext cx="540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2940120" y="1752480"/>
                        <a:ext cx="4428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3036960" y="186840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2917800" y="1798560"/>
                        <a:ext cx="96840" cy="666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3130560" y="1698480"/>
                        <a:ext cx="111240" cy="162000"/>
                        <a:chOff x="3130560" y="1698480"/>
                        <a:chExt cx="111240" cy="162000"/>
                      </a:xfrm>
                    </p:grpSpPr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 flipV="1">
                          <a:off x="3197160" y="1773000"/>
                          <a:ext cx="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 flipV="1">
                          <a:off x="3174840" y="176832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3144960" y="1805040"/>
                          <a:ext cx="7776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3130560" y="1698480"/>
                          <a:ext cx="111240" cy="777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3056040" y="1822320"/>
                        <a:ext cx="4428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3247920" y="1698480"/>
                    <a:ext cx="660600" cy="319320"/>
                    <a:chOff x="3247920" y="1698480"/>
                    <a:chExt cx="660600" cy="31932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flipV="1">
                      <a:off x="3530520" y="1843200"/>
                      <a:ext cx="7308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3247920" y="1795320"/>
                      <a:ext cx="324000" cy="222480"/>
                      <a:chOff x="3247920" y="1795320"/>
                      <a:chExt cx="324000" cy="22248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3435480" y="1832040"/>
                        <a:ext cx="5076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 flipV="1">
                        <a:off x="3317760" y="1839600"/>
                        <a:ext cx="540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3270240" y="1932120"/>
                        <a:ext cx="4464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3367080" y="179532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3247920" y="1849320"/>
                        <a:ext cx="96840" cy="684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3" name=""/>
                      <p:cNvGrpSpPr/>
                      <p:nvPr/>
                    </p:nvGrpSpPr>
                    <p:grpSpPr>
                      <a:xfrm>
                        <a:off x="3460680" y="1854360"/>
                        <a:ext cx="111240" cy="163440"/>
                        <a:chOff x="3460680" y="1854360"/>
                        <a:chExt cx="111240" cy="163440"/>
                      </a:xfrm>
                    </p:grpSpPr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3527280" y="1906560"/>
                          <a:ext cx="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3505320" y="191124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3475080" y="1854360"/>
                          <a:ext cx="7776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3460680" y="1938240"/>
                          <a:ext cx="111240" cy="795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9720" bIns="9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386160" y="1862280"/>
                        <a:ext cx="4428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3584520" y="1698480"/>
                      <a:ext cx="324000" cy="223920"/>
                      <a:chOff x="3584520" y="1698480"/>
                      <a:chExt cx="324000" cy="22392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 flipV="1">
                        <a:off x="3772080" y="1852560"/>
                        <a:ext cx="5076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3654360" y="1847880"/>
                        <a:ext cx="540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606840" y="1752480"/>
                        <a:ext cx="4428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3703680" y="186840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3584520" y="1798560"/>
                        <a:ext cx="96840" cy="666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3797280" y="1698480"/>
                        <a:ext cx="111240" cy="162000"/>
                        <a:chOff x="3797280" y="1698480"/>
                        <a:chExt cx="111240" cy="16200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flipV="1">
                          <a:off x="3863880" y="1773000"/>
                          <a:ext cx="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flipV="1">
                          <a:off x="3841920" y="176832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3811680" y="1805040"/>
                          <a:ext cx="7776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3797280" y="1698480"/>
                          <a:ext cx="111240" cy="777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722760" y="1822320"/>
                        <a:ext cx="4428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3924360" y="1698480"/>
                    <a:ext cx="660240" cy="319320"/>
                    <a:chOff x="3924360" y="1698480"/>
                    <a:chExt cx="660240" cy="31932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V="1">
                      <a:off x="4206960" y="1843200"/>
                      <a:ext cx="7308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3924360" y="1795320"/>
                      <a:ext cx="323640" cy="222480"/>
                      <a:chOff x="3924360" y="1795320"/>
                      <a:chExt cx="323640" cy="22248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111560" y="1832040"/>
                        <a:ext cx="5076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 flipV="1">
                        <a:off x="3994200" y="1839600"/>
                        <a:ext cx="540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3946680" y="1932120"/>
                        <a:ext cx="4428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043520" y="179532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3924360" y="1849320"/>
                        <a:ext cx="96840" cy="684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9" name=""/>
                      <p:cNvGrpSpPr/>
                      <p:nvPr/>
                    </p:nvGrpSpPr>
                    <p:grpSpPr>
                      <a:xfrm>
                        <a:off x="4137120" y="1854360"/>
                        <a:ext cx="110880" cy="163440"/>
                        <a:chOff x="4137120" y="1854360"/>
                        <a:chExt cx="110880" cy="163440"/>
                      </a:xfrm>
                    </p:grpSpPr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4203720" y="1906560"/>
                          <a:ext cx="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181400" y="191124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4151160" y="1854360"/>
                          <a:ext cx="7812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4137120" y="1938240"/>
                          <a:ext cx="110880" cy="795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9720" bIns="9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062240" y="1862280"/>
                        <a:ext cx="44640" cy="29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560" bIns="-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5" name=""/>
                    <p:cNvGrpSpPr/>
                    <p:nvPr/>
                  </p:nvGrpSpPr>
                  <p:grpSpPr>
                    <a:xfrm>
                      <a:off x="4260960" y="1698480"/>
                      <a:ext cx="323640" cy="223920"/>
                      <a:chOff x="4260960" y="1698480"/>
                      <a:chExt cx="323640" cy="223920"/>
                    </a:xfrm>
                  </p:grpSpPr>
                  <p:sp>
                    <p:nvSpPr>
                      <p:cNvPr id="216" name=""/>
                      <p:cNvSpPr/>
                      <p:nvPr/>
                    </p:nvSpPr>
                    <p:spPr>
                      <a:xfrm flipV="1">
                        <a:off x="4448160" y="1852560"/>
                        <a:ext cx="5076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4330800" y="1847880"/>
                        <a:ext cx="540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4282920" y="1752480"/>
                        <a:ext cx="4464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379760" y="1868400"/>
                        <a:ext cx="7812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4260960" y="1798560"/>
                        <a:ext cx="96840" cy="666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4473720" y="1698480"/>
                        <a:ext cx="110880" cy="162000"/>
                        <a:chOff x="4473720" y="1698480"/>
                        <a:chExt cx="110880" cy="16200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 flipV="1">
                          <a:off x="4540320" y="1773000"/>
                          <a:ext cx="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 flipV="1">
                          <a:off x="4518000" y="1768320"/>
                          <a:ext cx="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4487760" y="1805040"/>
                          <a:ext cx="77760" cy="55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4473720" y="1698480"/>
                          <a:ext cx="110880" cy="777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4398840" y="1822320"/>
                        <a:ext cx="4464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4597560" y="1695600"/>
                    <a:ext cx="660240" cy="318960"/>
                    <a:chOff x="4597560" y="1695600"/>
                    <a:chExt cx="660240" cy="31896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V="1">
                      <a:off x="4879800" y="1839960"/>
                      <a:ext cx="7308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597560" y="1792440"/>
                      <a:ext cx="323640" cy="222120"/>
                      <a:chOff x="4597560" y="1792440"/>
                      <a:chExt cx="323640" cy="22212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784760" y="1828800"/>
                        <a:ext cx="50760" cy="33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 flipV="1">
                        <a:off x="4667400" y="1837800"/>
                        <a:ext cx="540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4619520" y="1928880"/>
                        <a:ext cx="44640" cy="31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4716360" y="179244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597560" y="1846440"/>
                        <a:ext cx="96840" cy="6804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5" name=""/>
                      <p:cNvGrpSpPr/>
                      <p:nvPr/>
                    </p:nvGrpSpPr>
                    <p:grpSpPr>
                      <a:xfrm>
                        <a:off x="4809960" y="1852560"/>
                        <a:ext cx="111240" cy="162000"/>
                        <a:chOff x="4809960" y="1852560"/>
                        <a:chExt cx="111240" cy="162000"/>
                      </a:xfrm>
                    </p:grpSpPr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4876920" y="1905120"/>
                          <a:ext cx="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4854600" y="1906560"/>
                          <a:ext cx="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4824360" y="1852560"/>
                          <a:ext cx="77760" cy="54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4809960" y="1935000"/>
                          <a:ext cx="111240" cy="795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9720" bIns="9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735440" y="1859040"/>
                        <a:ext cx="44640" cy="31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933800" y="1695600"/>
                      <a:ext cx="324000" cy="223560"/>
                      <a:chOff x="4933800" y="1695600"/>
                      <a:chExt cx="324000" cy="22356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flipV="1">
                        <a:off x="5121360" y="1848960"/>
                        <a:ext cx="50760" cy="32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5003640" y="1844640"/>
                        <a:ext cx="5400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4956120" y="1751040"/>
                        <a:ext cx="44640" cy="31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5052960" y="1863720"/>
                        <a:ext cx="7776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33800" y="1797120"/>
                        <a:ext cx="96840" cy="6660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1260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5146560" y="1695600"/>
                        <a:ext cx="111240" cy="161640"/>
                        <a:chOff x="5146560" y="1695600"/>
                        <a:chExt cx="111240" cy="161640"/>
                      </a:xfrm>
                    </p:grpSpPr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V="1">
                          <a:off x="5213520" y="1769760"/>
                          <a:ext cx="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V="1">
                          <a:off x="5191200" y="1766520"/>
                          <a:ext cx="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5160960" y="1803240"/>
                          <a:ext cx="77760" cy="54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5146560" y="1695600"/>
                          <a:ext cx="111240" cy="77760"/>
                        </a:xfrm>
                        <a:prstGeom prst="ellipse">
                          <a:avLst/>
                        </a:prstGeom>
                        <a:solidFill>
                          <a:srgbClr val="ff3300"/>
                        </a:solidFill>
                        <a:ln w="1260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072040" y="1820880"/>
                        <a:ext cx="44640" cy="3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200" bIns="-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288040" y="1693800"/>
                  <a:ext cx="660240" cy="319320"/>
                  <a:chOff x="5288040" y="1693800"/>
                  <a:chExt cx="660240" cy="3193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V="1">
                    <a:off x="5570640" y="1839960"/>
                    <a:ext cx="7308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5288040" y="1789200"/>
                    <a:ext cx="323640" cy="223920"/>
                    <a:chOff x="5288040" y="1789200"/>
                    <a:chExt cx="323640" cy="2239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475240" y="1828800"/>
                      <a:ext cx="5076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flipV="1">
                      <a:off x="5357880" y="1836360"/>
                      <a:ext cx="54000" cy="27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5310360" y="1927080"/>
                      <a:ext cx="44280" cy="3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5407200" y="1789200"/>
                      <a:ext cx="77760" cy="57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5288040" y="1846440"/>
                      <a:ext cx="96840" cy="6804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5500800" y="1851120"/>
                      <a:ext cx="110880" cy="162000"/>
                      <a:chOff x="5500800" y="1851120"/>
                      <a:chExt cx="110880" cy="162000"/>
                    </a:xfrm>
                  </p:grpSpPr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5567400" y="1903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5545080" y="190656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5514840" y="1851120"/>
                        <a:ext cx="7776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5500800" y="1935000"/>
                        <a:ext cx="110880" cy="7812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5425920" y="1859040"/>
                      <a:ext cx="4464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5624640" y="1693800"/>
                    <a:ext cx="323640" cy="223920"/>
                    <a:chOff x="5624640" y="1693800"/>
                    <a:chExt cx="323640" cy="22392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V="1">
                      <a:off x="5811840" y="1847880"/>
                      <a:ext cx="5076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5694480" y="1844640"/>
                      <a:ext cx="5400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5646600" y="1751040"/>
                      <a:ext cx="44640" cy="3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0" bIns="-25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743440" y="1862280"/>
                      <a:ext cx="77760" cy="554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624640" y="1795320"/>
                      <a:ext cx="96840" cy="6696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5837400" y="1693800"/>
                      <a:ext cx="110880" cy="163440"/>
                      <a:chOff x="5837400" y="1693800"/>
                      <a:chExt cx="110880" cy="163440"/>
                    </a:xfrm>
                  </p:grpSpPr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5904000" y="176832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V="1">
                        <a:off x="5881680" y="176508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5851440" y="1801800"/>
                        <a:ext cx="7776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5837400" y="1693800"/>
                        <a:ext cx="110880" cy="7776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762520" y="1820880"/>
                      <a:ext cx="44640" cy="2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5954760" y="1697040"/>
                  <a:ext cx="660240" cy="318960"/>
                  <a:chOff x="5954760" y="1697040"/>
                  <a:chExt cx="660240" cy="3189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>
                    <a:off x="6237360" y="1841400"/>
                    <a:ext cx="7308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954760" y="1793880"/>
                    <a:ext cx="323640" cy="222120"/>
                    <a:chOff x="5954760" y="1793880"/>
                    <a:chExt cx="323640" cy="2221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141960" y="1830240"/>
                      <a:ext cx="50760" cy="3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6024600" y="1838160"/>
                      <a:ext cx="54000" cy="2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77080" y="1930320"/>
                      <a:ext cx="4428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73920" y="1793880"/>
                      <a:ext cx="77760" cy="54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5954760" y="1847880"/>
                      <a:ext cx="96840" cy="684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7" name=""/>
                    <p:cNvGrpSpPr/>
                    <p:nvPr/>
                  </p:nvGrpSpPr>
                  <p:grpSpPr>
                    <a:xfrm>
                      <a:off x="6167520" y="1854360"/>
                      <a:ext cx="110880" cy="161640"/>
                      <a:chOff x="6167520" y="1854360"/>
                      <a:chExt cx="110880" cy="161640"/>
                    </a:xfrm>
                  </p:grpSpPr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6234120" y="190512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6211800" y="190800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6181560" y="1854360"/>
                        <a:ext cx="78120" cy="53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280" bIns="-8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6167520" y="1936800"/>
                        <a:ext cx="110880" cy="7920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360" bIns="9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6093000" y="1860480"/>
                      <a:ext cx="4428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6291360" y="1697040"/>
                    <a:ext cx="323640" cy="223920"/>
                    <a:chOff x="6291360" y="1697040"/>
                    <a:chExt cx="323640" cy="2239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flipV="1">
                      <a:off x="6478560" y="1851120"/>
                      <a:ext cx="5076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6361200" y="1846440"/>
                      <a:ext cx="5400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6313320" y="1752480"/>
                      <a:ext cx="44640" cy="32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6410160" y="1865160"/>
                      <a:ext cx="78120" cy="55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291360" y="1798560"/>
                      <a:ext cx="96840" cy="666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6504120" y="1697040"/>
                      <a:ext cx="110880" cy="162000"/>
                      <a:chOff x="6504120" y="1697040"/>
                      <a:chExt cx="110880" cy="16200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 flipV="1">
                        <a:off x="6570720" y="177120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 flipV="1">
                        <a:off x="6548400" y="176796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6518160" y="180504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6504120" y="1697040"/>
                        <a:ext cx="110880" cy="7776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6429240" y="1822320"/>
                      <a:ext cx="44640" cy="3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0" bIns="-25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624720" y="1697040"/>
                  <a:ext cx="660240" cy="318960"/>
                  <a:chOff x="6624720" y="1697040"/>
                  <a:chExt cx="660240" cy="3189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V="1">
                    <a:off x="6907320" y="1841400"/>
                    <a:ext cx="7308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6624720" y="1793880"/>
                    <a:ext cx="323640" cy="222120"/>
                    <a:chOff x="6624720" y="1793880"/>
                    <a:chExt cx="323640" cy="2221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6811920" y="1830240"/>
                      <a:ext cx="50760" cy="3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V="1">
                      <a:off x="6694560" y="1838160"/>
                      <a:ext cx="54000" cy="2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6647040" y="1930320"/>
                      <a:ext cx="4428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6743880" y="1793880"/>
                      <a:ext cx="77760" cy="54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6624720" y="1847880"/>
                      <a:ext cx="96840" cy="684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6837480" y="1854360"/>
                      <a:ext cx="110880" cy="161640"/>
                      <a:chOff x="6837480" y="1854360"/>
                      <a:chExt cx="110880" cy="1616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6904080" y="190512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6881760" y="190800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6851520" y="1854360"/>
                        <a:ext cx="77760" cy="53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280" bIns="-8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6837480" y="1936800"/>
                        <a:ext cx="110880" cy="7920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360" bIns="9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762600" y="1860480"/>
                      <a:ext cx="4464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6961320" y="1697040"/>
                    <a:ext cx="323640" cy="223920"/>
                    <a:chOff x="6961320" y="1697040"/>
                    <a:chExt cx="323640" cy="22392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V="1">
                      <a:off x="7148520" y="1851120"/>
                      <a:ext cx="5076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031160" y="1846440"/>
                      <a:ext cx="5400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983280" y="1752480"/>
                      <a:ext cx="44640" cy="32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7080120" y="1865160"/>
                      <a:ext cx="77760" cy="55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6961320" y="1798560"/>
                      <a:ext cx="96840" cy="666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7174080" y="1697040"/>
                      <a:ext cx="110880" cy="162000"/>
                      <a:chOff x="7174080" y="1697040"/>
                      <a:chExt cx="110880" cy="162000"/>
                    </a:xfrm>
                  </p:grpSpPr>
                  <p:sp>
                    <p:nvSpPr>
                      <p:cNvPr id="326" name=""/>
                      <p:cNvSpPr/>
                      <p:nvPr/>
                    </p:nvSpPr>
                    <p:spPr>
                      <a:xfrm flipV="1">
                        <a:off x="7240680" y="177120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 flipV="1">
                        <a:off x="7218360" y="176796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7188120" y="180504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7174080" y="1697040"/>
                        <a:ext cx="110880" cy="7776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099200" y="1822320"/>
                      <a:ext cx="44640" cy="3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0" bIns="-25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291440" y="1697040"/>
                  <a:ext cx="660240" cy="318960"/>
                  <a:chOff x="7291440" y="1697040"/>
                  <a:chExt cx="660240" cy="31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V="1">
                    <a:off x="7574040" y="1841400"/>
                    <a:ext cx="7308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7291440" y="1793880"/>
                    <a:ext cx="323640" cy="222120"/>
                    <a:chOff x="7291440" y="1793880"/>
                    <a:chExt cx="323640" cy="2221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7478640" y="1830240"/>
                      <a:ext cx="50760" cy="3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V="1">
                      <a:off x="7361280" y="1838160"/>
                      <a:ext cx="54000" cy="2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313760" y="1930320"/>
                      <a:ext cx="4428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410600" y="1793880"/>
                      <a:ext cx="77760" cy="54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7291440" y="1847880"/>
                      <a:ext cx="96840" cy="684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7504200" y="1854360"/>
                      <a:ext cx="110880" cy="161640"/>
                      <a:chOff x="7504200" y="1854360"/>
                      <a:chExt cx="110880" cy="161640"/>
                    </a:xfrm>
                  </p:grpSpPr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7570800" y="190512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7548480" y="190800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7518240" y="1854360"/>
                        <a:ext cx="78120" cy="53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280" bIns="-8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7504200" y="1936800"/>
                        <a:ext cx="110880" cy="7920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360" bIns="9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7429680" y="1860480"/>
                      <a:ext cx="4428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7628040" y="1697040"/>
                    <a:ext cx="323640" cy="223920"/>
                    <a:chOff x="7628040" y="1697040"/>
                    <a:chExt cx="323640" cy="2239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V="1">
                      <a:off x="7815240" y="1851120"/>
                      <a:ext cx="5076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7697880" y="1846440"/>
                      <a:ext cx="5400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7650000" y="1752480"/>
                      <a:ext cx="44640" cy="32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7746840" y="1865160"/>
                      <a:ext cx="78120" cy="55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628040" y="1798560"/>
                      <a:ext cx="96840" cy="666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1" name=""/>
                    <p:cNvGrpSpPr/>
                    <p:nvPr/>
                  </p:nvGrpSpPr>
                  <p:grpSpPr>
                    <a:xfrm>
                      <a:off x="7840800" y="1697040"/>
                      <a:ext cx="110880" cy="162000"/>
                      <a:chOff x="7840800" y="1697040"/>
                      <a:chExt cx="110880" cy="162000"/>
                    </a:xfrm>
                  </p:grpSpPr>
                  <p:sp>
                    <p:nvSpPr>
                      <p:cNvPr id="352" name=""/>
                      <p:cNvSpPr/>
                      <p:nvPr/>
                    </p:nvSpPr>
                    <p:spPr>
                      <a:xfrm flipV="1">
                        <a:off x="7907400" y="177120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 flipV="1">
                        <a:off x="7885080" y="176796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7854840" y="180504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7840800" y="1697040"/>
                        <a:ext cx="110880" cy="7776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7765920" y="1822320"/>
                      <a:ext cx="44640" cy="3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0" bIns="-25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967520" y="1697040"/>
                  <a:ext cx="660600" cy="318960"/>
                  <a:chOff x="7967520" y="1697040"/>
                  <a:chExt cx="660600" cy="3189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V="1">
                    <a:off x="8250120" y="1841400"/>
                    <a:ext cx="7308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7967520" y="1793880"/>
                    <a:ext cx="324000" cy="222120"/>
                    <a:chOff x="7967520" y="1793880"/>
                    <a:chExt cx="324000" cy="2221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8155080" y="1830240"/>
                      <a:ext cx="50760" cy="3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V="1">
                      <a:off x="8037360" y="1838160"/>
                      <a:ext cx="54000" cy="2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7989840" y="1930320"/>
                      <a:ext cx="4464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086680" y="1793880"/>
                      <a:ext cx="77760" cy="54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7967520" y="1847880"/>
                      <a:ext cx="96840" cy="684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8180280" y="1854360"/>
                      <a:ext cx="111240" cy="161640"/>
                      <a:chOff x="8180280" y="1854360"/>
                      <a:chExt cx="111240" cy="161640"/>
                    </a:xfrm>
                  </p:grpSpPr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8247240" y="190512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8224920" y="190800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8194680" y="1854360"/>
                        <a:ext cx="77760" cy="53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280" bIns="-8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8180280" y="1936800"/>
                        <a:ext cx="111240" cy="7920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360" bIns="9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8105760" y="1860480"/>
                      <a:ext cx="44640" cy="31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8304120" y="1697040"/>
                    <a:ext cx="324000" cy="223920"/>
                    <a:chOff x="8304120" y="1697040"/>
                    <a:chExt cx="324000" cy="2239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V="1">
                      <a:off x="8491680" y="1851120"/>
                      <a:ext cx="50760" cy="3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73960" y="1846440"/>
                      <a:ext cx="5400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8326440" y="1752480"/>
                      <a:ext cx="44280" cy="32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8423280" y="1865160"/>
                      <a:ext cx="77760" cy="55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8304120" y="1798560"/>
                      <a:ext cx="96840" cy="6660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8516880" y="1697040"/>
                      <a:ext cx="111240" cy="162000"/>
                      <a:chOff x="8516880" y="1697040"/>
                      <a:chExt cx="111240" cy="162000"/>
                    </a:xfrm>
                  </p:grpSpPr>
                  <p:sp>
                    <p:nvSpPr>
                      <p:cNvPr id="378" name=""/>
                      <p:cNvSpPr/>
                      <p:nvPr/>
                    </p:nvSpPr>
                    <p:spPr>
                      <a:xfrm flipV="1">
                        <a:off x="8583480" y="177120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 flipV="1">
                        <a:off x="8561520" y="1767960"/>
                        <a:ext cx="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531280" y="1805040"/>
                        <a:ext cx="77760" cy="54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8516880" y="1697040"/>
                        <a:ext cx="111240" cy="77760"/>
                      </a:xfrm>
                      <a:prstGeom prst="ellipse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8442360" y="1822320"/>
                      <a:ext cx="44280" cy="3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0" bIns="-25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3" name=""/>
                <p:cNvSpPr/>
                <p:nvPr/>
              </p:nvSpPr>
              <p:spPr>
                <a:xfrm flipV="1">
                  <a:off x="8923320" y="1839960"/>
                  <a:ext cx="7308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8640720" y="1789200"/>
                  <a:ext cx="324000" cy="223920"/>
                  <a:chOff x="8640720" y="1789200"/>
                  <a:chExt cx="324000" cy="2239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827920" y="1828800"/>
                    <a:ext cx="5112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V="1">
                    <a:off x="8710560" y="1836360"/>
                    <a:ext cx="5400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663040" y="1927080"/>
                    <a:ext cx="44280" cy="3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759880" y="1789200"/>
                    <a:ext cx="7776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640720" y="1846440"/>
                    <a:ext cx="96840" cy="680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8853480" y="1851120"/>
                    <a:ext cx="111240" cy="162000"/>
                    <a:chOff x="8853480" y="1851120"/>
                    <a:chExt cx="111240" cy="1620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8920080" y="1903320"/>
                      <a:ext cx="0" cy="36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8897760" y="1906560"/>
                      <a:ext cx="0" cy="38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8867880" y="1851120"/>
                      <a:ext cx="77760" cy="554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8853480" y="1935000"/>
                      <a:ext cx="111240" cy="78120"/>
                    </a:xfrm>
                    <a:prstGeom prst="ellipse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5" name=""/>
                  <p:cNvSpPr/>
                  <p:nvPr/>
                </p:nvSpPr>
                <p:spPr>
                  <a:xfrm>
                    <a:off x="8778960" y="1859040"/>
                    <a:ext cx="44280" cy="3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1192320" y="1839960"/>
                  <a:ext cx="56880" cy="2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25520" y="1547640"/>
                <a:ext cx="249120" cy="258840"/>
                <a:chOff x="1325520" y="1547640"/>
                <a:chExt cx="249120" cy="258840"/>
              </a:xfrm>
            </p:grpSpPr>
            <p:sp>
              <p:nvSpPr>
                <p:cNvPr id="398" name=""/>
                <p:cNvSpPr/>
                <p:nvPr/>
              </p:nvSpPr>
              <p:spPr>
                <a:xfrm flipH="1">
                  <a:off x="1407600" y="1654200"/>
                  <a:ext cx="7956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401840" y="1744560"/>
                  <a:ext cx="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1463760" y="1547640"/>
                  <a:ext cx="110880" cy="122400"/>
                  <a:chOff x="1463760" y="1547640"/>
                  <a:chExt cx="110880" cy="1224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463760" y="1592280"/>
                    <a:ext cx="110880" cy="777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496880" y="1547640"/>
                    <a:ext cx="44640" cy="32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325520" y="1650960"/>
                  <a:ext cx="115920" cy="93600"/>
                  <a:chOff x="1325520" y="1650960"/>
                  <a:chExt cx="115920" cy="936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363680" y="169056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363680" y="1650960"/>
                    <a:ext cx="44280" cy="30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325520" y="1668600"/>
                    <a:ext cx="44640" cy="3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7" name=""/>
              <p:cNvSpPr/>
              <p:nvPr/>
            </p:nvSpPr>
            <p:spPr>
              <a:xfrm>
                <a:off x="1277280" y="189072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17200" y="189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903920" y="1654200"/>
                <a:ext cx="32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59680" y="1650960"/>
                <a:ext cx="32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14040" y="165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99240" y="1636560"/>
                <a:ext cx="32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6120" y="1932120"/>
                <a:ext cx="44280" cy="29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86080" y="1935000"/>
                <a:ext cx="4428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056040" y="1935000"/>
                <a:ext cx="4428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379680" y="1751040"/>
                <a:ext cx="4464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062240" y="1751040"/>
                <a:ext cx="4464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32200" y="1751040"/>
                <a:ext cx="4464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24480" y="1747800"/>
                <a:ext cx="4428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67560" y="1932120"/>
                <a:ext cx="44280" cy="29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1857240" y="1162080"/>
                <a:ext cx="409680" cy="630000"/>
                <a:chOff x="1857240" y="1162080"/>
                <a:chExt cx="409680" cy="630000"/>
              </a:xfrm>
            </p:grpSpPr>
            <p:grpSp>
              <p:nvGrpSpPr>
                <p:cNvPr id="422" name=""/>
                <p:cNvGrpSpPr/>
                <p:nvPr/>
              </p:nvGrpSpPr>
              <p:grpSpPr>
                <a:xfrm>
                  <a:off x="1901880" y="1162080"/>
                  <a:ext cx="309600" cy="630000"/>
                  <a:chOff x="1901880" y="1162080"/>
                  <a:chExt cx="309600" cy="6300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V="1">
                    <a:off x="2075040" y="1328400"/>
                    <a:ext cx="6012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1982520" y="1332000"/>
                    <a:ext cx="5076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2074680" y="1399680"/>
                    <a:ext cx="6012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2071800" y="1487160"/>
                    <a:ext cx="5688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023920" y="169056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09960" y="160344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021040" y="152568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017800" y="1362240"/>
                    <a:ext cx="77760" cy="53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11400" y="1428840"/>
                    <a:ext cx="96840" cy="680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14640" y="1271520"/>
                    <a:ext cx="96840" cy="698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1901880" y="1274760"/>
                    <a:ext cx="96840" cy="6840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929240" y="1162080"/>
                    <a:ext cx="2581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2068560" y="1736280"/>
                    <a:ext cx="0" cy="5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2077920" y="1652760"/>
                    <a:ext cx="4788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2058480" y="1549440"/>
                    <a:ext cx="7308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019240" y="1259280"/>
                    <a:ext cx="82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108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custDash>
                      <a:ds d="499000" sp="20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1978200" y="151272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971720" y="155736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187720" y="158436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222640" y="145080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197080" y="1628640"/>
                  <a:ext cx="4464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971720" y="168444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006640" y="1660680"/>
                  <a:ext cx="44280" cy="33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924200" y="123336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143080" y="123048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212920" y="1265400"/>
                  <a:ext cx="44640" cy="33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857240" y="126360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575400" y="1165320"/>
                <a:ext cx="409680" cy="630000"/>
                <a:chOff x="6575400" y="1165320"/>
                <a:chExt cx="409680" cy="63000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6620040" y="1165320"/>
                  <a:ext cx="309240" cy="630000"/>
                  <a:chOff x="6620040" y="1165320"/>
                  <a:chExt cx="309240" cy="63000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>
                    <a:off x="6792840" y="1333440"/>
                    <a:ext cx="6048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flipV="1">
                    <a:off x="6700680" y="1335240"/>
                    <a:ext cx="5112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flipV="1">
                    <a:off x="6792840" y="1406160"/>
                    <a:ext cx="6048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6789600" y="1494000"/>
                    <a:ext cx="5724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742080" y="1693800"/>
                    <a:ext cx="7776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827760" y="1606680"/>
                    <a:ext cx="77760" cy="55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738840" y="1530360"/>
                    <a:ext cx="77760" cy="55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735600" y="1365120"/>
                    <a:ext cx="7812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829560" y="1433520"/>
                    <a:ext cx="96840" cy="698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832440" y="1276200"/>
                    <a:ext cx="96840" cy="6840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620040" y="1278000"/>
                    <a:ext cx="96840" cy="698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647040" y="1165320"/>
                    <a:ext cx="2581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V="1">
                    <a:off x="6786720" y="173988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6796080" y="1655280"/>
                    <a:ext cx="4752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6776640" y="1552680"/>
                    <a:ext cx="7308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737400" y="1262520"/>
                    <a:ext cx="820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108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custDash>
                      <a:ds d="499000" sp="20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6696000" y="151596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689880" y="156204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905520" y="1590840"/>
                  <a:ext cx="446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940440" y="1454040"/>
                  <a:ext cx="4464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15240" y="163512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689880" y="169056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24800" y="1668600"/>
                  <a:ext cx="44280" cy="28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42000" y="1238400"/>
                  <a:ext cx="446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861240" y="1236600"/>
                  <a:ext cx="44280" cy="28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931080" y="1268280"/>
                  <a:ext cx="44280" cy="3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75400" y="126828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242120" y="1162080"/>
                <a:ext cx="409680" cy="630000"/>
                <a:chOff x="7242120" y="1162080"/>
                <a:chExt cx="409680" cy="630000"/>
              </a:xfrm>
            </p:grpSpPr>
            <p:grpSp>
              <p:nvGrpSpPr>
                <p:cNvPr id="480" name=""/>
                <p:cNvGrpSpPr/>
                <p:nvPr/>
              </p:nvGrpSpPr>
              <p:grpSpPr>
                <a:xfrm>
                  <a:off x="7286760" y="1162080"/>
                  <a:ext cx="309600" cy="630000"/>
                  <a:chOff x="7286760" y="1162080"/>
                  <a:chExt cx="309600" cy="6300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V="1">
                    <a:off x="7459560" y="1328400"/>
                    <a:ext cx="6048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flipV="1">
                    <a:off x="7367400" y="1332000"/>
                    <a:ext cx="5076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flipV="1">
                    <a:off x="7459560" y="1399680"/>
                    <a:ext cx="6048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7456320" y="1487160"/>
                    <a:ext cx="5724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408800" y="169056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494480" y="160344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405560" y="152568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402680" y="1362240"/>
                    <a:ext cx="77760" cy="53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496280" y="1428840"/>
                    <a:ext cx="96840" cy="680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499520" y="1271520"/>
                    <a:ext cx="96840" cy="698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286760" y="1274760"/>
                    <a:ext cx="96840" cy="6840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313760" y="1162080"/>
                    <a:ext cx="2581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V="1">
                    <a:off x="7453440" y="1736280"/>
                    <a:ext cx="0" cy="5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V="1">
                    <a:off x="7462800" y="1652760"/>
                    <a:ext cx="4752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flipV="1">
                    <a:off x="7443360" y="1549440"/>
                    <a:ext cx="7308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404120" y="1259280"/>
                    <a:ext cx="82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108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custDash>
                      <a:ds d="499000" sp="20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>
                  <a:off x="7362720" y="151272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356600" y="155736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72240" y="158436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607160" y="145080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81960" y="1628640"/>
                  <a:ext cx="4428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356600" y="168444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391520" y="1660680"/>
                  <a:ext cx="44280" cy="33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308720" y="123336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527960" y="123048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597800" y="1265400"/>
                  <a:ext cx="44280" cy="33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242120" y="126360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8588520" y="1162080"/>
                <a:ext cx="409320" cy="630000"/>
                <a:chOff x="8588520" y="1162080"/>
                <a:chExt cx="409320" cy="63000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8632800" y="1162080"/>
                  <a:ext cx="309600" cy="630000"/>
                  <a:chOff x="8632800" y="1162080"/>
                  <a:chExt cx="309600" cy="6300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>
                    <a:off x="8805960" y="1328400"/>
                    <a:ext cx="6012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 flipV="1">
                    <a:off x="8713440" y="1332000"/>
                    <a:ext cx="5076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flipV="1">
                    <a:off x="8805600" y="1399680"/>
                    <a:ext cx="6012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>
                    <a:off x="8802720" y="1487160"/>
                    <a:ext cx="5724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8755200" y="169056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8840880" y="160344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751960" y="1525680"/>
                    <a:ext cx="77760" cy="54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748720" y="1362240"/>
                    <a:ext cx="77760" cy="53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8842320" y="1428840"/>
                    <a:ext cx="96840" cy="680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845560" y="1271520"/>
                    <a:ext cx="96840" cy="6984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632800" y="1274760"/>
                    <a:ext cx="96840" cy="6840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660160" y="1162080"/>
                    <a:ext cx="2581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8799480" y="1736280"/>
                    <a:ext cx="0" cy="5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8809200" y="1652760"/>
                    <a:ext cx="4752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flipV="1">
                    <a:off x="8790120" y="1549440"/>
                    <a:ext cx="7272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8750160" y="1259280"/>
                    <a:ext cx="8244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108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custDash>
                      <a:ds d="499000" sp="20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8709120" y="151272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702640" y="155736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918640" y="158436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953560" y="145080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928000" y="1628640"/>
                  <a:ext cx="4464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702640" y="168444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737560" y="1660680"/>
                  <a:ext cx="44640" cy="33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655120" y="123336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874000" y="123048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943840" y="1265400"/>
                  <a:ext cx="44640" cy="33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588520" y="126360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4192560" y="1914480"/>
                <a:ext cx="336600" cy="336600"/>
                <a:chOff x="4192560" y="1914480"/>
                <a:chExt cx="336600" cy="3366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379760" y="1965240"/>
                  <a:ext cx="78120" cy="55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281480" y="2058840"/>
                  <a:ext cx="77760" cy="55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402080" y="2117880"/>
                  <a:ext cx="77760" cy="54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46560" y="2157480"/>
                  <a:ext cx="77760" cy="54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465800" y="198432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446720" y="201456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230720" y="205740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316400" y="220680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230720" y="2217600"/>
                  <a:ext cx="4428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92560" y="217476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417920" y="218268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484520" y="214776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471920" y="209232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14680" y="1914480"/>
                  <a:ext cx="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338360" y="2014560"/>
                  <a:ext cx="6012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4290480" y="2104920"/>
                  <a:ext cx="1620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48080" y="2097000"/>
                  <a:ext cx="6660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8244000" y="1914480"/>
                <a:ext cx="336600" cy="336600"/>
                <a:chOff x="8244000" y="1914480"/>
                <a:chExt cx="336600" cy="3366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8431200" y="1965240"/>
                  <a:ext cx="77760" cy="55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332920" y="2058840"/>
                  <a:ext cx="77760" cy="55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453520" y="2117880"/>
                  <a:ext cx="77760" cy="54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298000" y="2157480"/>
                  <a:ext cx="77760" cy="54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516880" y="198432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497800" y="201456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282160" y="205740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367840" y="220680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282160" y="2217600"/>
                  <a:ext cx="4428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244000" y="217476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469360" y="218268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535960" y="2147760"/>
                  <a:ext cx="446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523360" y="209232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466120" y="1914480"/>
                  <a:ext cx="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8389800" y="2014560"/>
                  <a:ext cx="6048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8342280" y="2104920"/>
                  <a:ext cx="1584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399520" y="2097000"/>
                  <a:ext cx="6660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7945560" y="1600200"/>
                <a:ext cx="365040" cy="212760"/>
                <a:chOff x="7945560" y="1600200"/>
                <a:chExt cx="365040" cy="2127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8091360" y="1704960"/>
                  <a:ext cx="77760" cy="55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183520" y="1628640"/>
                  <a:ext cx="77760" cy="57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999560" y="1628640"/>
                  <a:ext cx="77760" cy="57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113680" y="166212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059680" y="1600200"/>
                  <a:ext cx="4464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974000" y="1601640"/>
                  <a:ext cx="44640" cy="3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945560" y="1655640"/>
                  <a:ext cx="44280" cy="3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158320" y="1600200"/>
                  <a:ext cx="44280" cy="3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250120" y="1606680"/>
                  <a:ext cx="4464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265960" y="1668600"/>
                  <a:ext cx="446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8126280" y="1744560"/>
                  <a:ext cx="0" cy="6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flipV="1">
                  <a:off x="8056080" y="1668600"/>
                  <a:ext cx="5076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V="1">
                  <a:off x="8167680" y="1676520"/>
                  <a:ext cx="3816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6031080" y="1652760"/>
                <a:ext cx="177480" cy="148680"/>
                <a:chOff x="6031080" y="1652760"/>
                <a:chExt cx="177480" cy="14868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6078600" y="1695600"/>
                  <a:ext cx="77760" cy="54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097680" y="1652760"/>
                  <a:ext cx="44280" cy="33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031080" y="1681200"/>
                  <a:ext cx="44280" cy="3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164280" y="1685880"/>
                  <a:ext cx="4428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6113520" y="1736280"/>
                  <a:ext cx="0" cy="6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983280" y="1911240"/>
                <a:ext cx="285840" cy="413280"/>
                <a:chOff x="6983280" y="1911240"/>
                <a:chExt cx="285840" cy="413280"/>
              </a:xfrm>
            </p:grpSpPr>
            <p:sp>
              <p:nvSpPr>
                <p:cNvPr id="594" name=""/>
                <p:cNvSpPr/>
                <p:nvPr/>
              </p:nvSpPr>
              <p:spPr>
                <a:xfrm flipV="1">
                  <a:off x="7199280" y="2174760"/>
                  <a:ext cx="158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151760" y="2095560"/>
                  <a:ext cx="3816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110360" y="2238480"/>
                  <a:ext cx="4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027920" y="2157480"/>
                  <a:ext cx="2232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172280" y="2112840"/>
                  <a:ext cx="96840" cy="6840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078680" y="1965240"/>
                  <a:ext cx="77760" cy="54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034040" y="2004840"/>
                  <a:ext cx="44640" cy="3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157880" y="2004840"/>
                  <a:ext cx="44640" cy="3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122960" y="1911240"/>
                  <a:ext cx="0" cy="6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085160" y="2055960"/>
                  <a:ext cx="77760" cy="55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983280" y="2104920"/>
                  <a:ext cx="77760" cy="55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010280" y="2195640"/>
                  <a:ext cx="96840" cy="698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151760" y="2208240"/>
                  <a:ext cx="77760" cy="55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991560" y="207972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7047000" y="2092320"/>
                  <a:ext cx="5400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122960" y="2017800"/>
                  <a:ext cx="0" cy="5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2252520" y="18828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82680" y="2068560"/>
                <a:ext cx="438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-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979560" y="1900080"/>
                <a:ext cx="4428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933480" y="985680"/>
              <a:ext cx="8121600" cy="199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rot="10800000">
              <a:off x="8064360" y="1606680"/>
              <a:ext cx="184320" cy="126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rot="10800000">
              <a:off x="4267800" y="2109960"/>
              <a:ext cx="183960" cy="126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rot="10800000">
              <a:off x="8342280" y="2058480"/>
              <a:ext cx="184320" cy="12708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38240" y="147960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64320" y="147960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40760" y="1492200"/>
              <a:ext cx="161640" cy="162000"/>
            </a:xfrm>
            <a:custGeom>
              <a:avLst/>
              <a:gdLst>
                <a:gd name="textAreaLeft" fmla="*/ 36720 w 161640"/>
                <a:gd name="textAreaRight" fmla="*/ 124920 w 16164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80320" y="147960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27200" y="176832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292480" y="175572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8560" y="175572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94000" y="169380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71880" y="170640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48320" y="169380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38800" y="168120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62440" y="1781280"/>
              <a:ext cx="212760" cy="21276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2629080" y="890640"/>
              <a:ext cx="407880" cy="909720"/>
              <a:chOff x="2629080" y="890640"/>
              <a:chExt cx="407880" cy="909720"/>
            </a:xfrm>
          </p:grpSpPr>
          <p:sp>
            <p:nvSpPr>
              <p:cNvPr id="630" name=""/>
              <p:cNvSpPr/>
              <p:nvPr/>
            </p:nvSpPr>
            <p:spPr>
              <a:xfrm>
                <a:off x="2865600" y="1089000"/>
                <a:ext cx="9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65600" y="1120680"/>
                <a:ext cx="9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761920" y="1139760"/>
                <a:ext cx="5724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60840" y="1263600"/>
                <a:ext cx="666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93880" y="142416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0360" y="163656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805120" y="153180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98640" y="131904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685960" y="1181160"/>
                <a:ext cx="96840" cy="1015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657520" y="97632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629080" y="12081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62280" y="8906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38520" y="1704960"/>
                <a:ext cx="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2760840" y="1593360"/>
                <a:ext cx="666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54360" y="1486080"/>
                <a:ext cx="601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2754000" y="1380960"/>
                <a:ext cx="6012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879640" y="12938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886120" y="13539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680" y="14079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641680" y="147492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92600" y="157968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92600" y="151920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47800" y="1630440"/>
                <a:ext cx="4464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673360" y="159876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925720" y="1049400"/>
                <a:ext cx="111240" cy="11592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808360" y="106848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03600" y="93492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76600" y="8967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49680" y="990720"/>
                <a:ext cx="9036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638520" y="1905120"/>
              <a:ext cx="407880" cy="909360"/>
              <a:chOff x="3638520" y="1905120"/>
              <a:chExt cx="407880" cy="909360"/>
            </a:xfrm>
          </p:grpSpPr>
          <p:sp>
            <p:nvSpPr>
              <p:cNvPr id="660" name=""/>
              <p:cNvSpPr/>
              <p:nvPr/>
            </p:nvSpPr>
            <p:spPr>
              <a:xfrm flipV="1">
                <a:off x="3875040" y="2612520"/>
                <a:ext cx="9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3875040" y="2580840"/>
                <a:ext cx="9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3772080" y="2504880"/>
                <a:ext cx="5688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3770280" y="2362320"/>
                <a:ext cx="666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03680" y="219852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10160" y="198612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14920" y="209088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808440" y="230364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95760" y="2422440"/>
                <a:ext cx="96840" cy="1015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66960" y="2679840"/>
                <a:ext cx="4464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38520" y="2448000"/>
                <a:ext cx="4464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72080" y="276552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747960" y="1905120"/>
                <a:ext cx="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70280" y="2054160"/>
                <a:ext cx="666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3763800" y="2155320"/>
                <a:ext cx="6048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3763800" y="2257200"/>
                <a:ext cx="6048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89440" y="236232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95560" y="23018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51120" y="22478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51120" y="21812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02040" y="207648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902040" y="213660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57600" y="202572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83160" y="205740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935520" y="2540160"/>
                <a:ext cx="110880" cy="1155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17800" y="255420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13040" y="268776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686040" y="27590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759120" y="2609640"/>
                <a:ext cx="9072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984920" y="1898280"/>
              <a:ext cx="407880" cy="910080"/>
              <a:chOff x="4984920" y="1898280"/>
              <a:chExt cx="407880" cy="91008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5221440" y="2606400"/>
                <a:ext cx="9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221440" y="2575080"/>
                <a:ext cx="903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5117760" y="2498400"/>
                <a:ext cx="5724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5116680" y="2355480"/>
                <a:ext cx="666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9720" y="219240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6200" y="197964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160960" y="208440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154480" y="229716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041800" y="2416320"/>
                <a:ext cx="96840" cy="1015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013360" y="26733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84920" y="244152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18120" y="27590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5094360" y="1898280"/>
                <a:ext cx="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16680" y="2048040"/>
                <a:ext cx="66600" cy="5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5110200" y="2149560"/>
                <a:ext cx="601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5109840" y="2250720"/>
                <a:ext cx="601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35480" y="23558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1960" y="22953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997520" y="224172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97520" y="21747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48440" y="207000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248440" y="213048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003640" y="20192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29200" y="205092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281560" y="2533680"/>
                <a:ext cx="111240" cy="11592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164200" y="254808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059440" y="268128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032440" y="275256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105520" y="2603160"/>
                <a:ext cx="9036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337440" y="1891800"/>
              <a:ext cx="407880" cy="910080"/>
              <a:chOff x="6337440" y="1891800"/>
              <a:chExt cx="407880" cy="910080"/>
            </a:xfrm>
          </p:grpSpPr>
          <p:sp>
            <p:nvSpPr>
              <p:cNvPr id="720" name=""/>
              <p:cNvSpPr/>
              <p:nvPr/>
            </p:nvSpPr>
            <p:spPr>
              <a:xfrm flipV="1">
                <a:off x="6573960" y="2599920"/>
                <a:ext cx="9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6573960" y="2568240"/>
                <a:ext cx="9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>
                <a:off x="6470280" y="2492280"/>
                <a:ext cx="5724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6469200" y="2349000"/>
                <a:ext cx="666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2240" y="218592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08720" y="197316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13480" y="207792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07000" y="2290680"/>
                <a:ext cx="7812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94320" y="2409840"/>
                <a:ext cx="96840" cy="1015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365880" y="266688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337440" y="243540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470640" y="275256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6446880" y="1891800"/>
                <a:ext cx="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469200" y="2041560"/>
                <a:ext cx="666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6462720" y="2142720"/>
                <a:ext cx="6048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 flipV="1">
                <a:off x="6462720" y="2244600"/>
                <a:ext cx="6048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588000" y="234936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594480" y="22892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350040" y="22352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350040" y="216864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600960" y="206388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600960" y="212400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356520" y="201312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381720" y="2044800"/>
                <a:ext cx="4464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34080" y="2527200"/>
                <a:ext cx="111240" cy="11592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516720" y="254160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11960" y="267480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384960" y="27464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458040" y="2596680"/>
                <a:ext cx="9036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3612240" y="15987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08920" y="1871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95280" y="157320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47800" y="157320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87360" y="157320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7585200" y="1883880"/>
              <a:ext cx="403200" cy="776880"/>
              <a:chOff x="7585200" y="1883880"/>
              <a:chExt cx="403200" cy="776880"/>
            </a:xfrm>
          </p:grpSpPr>
          <p:sp>
            <p:nvSpPr>
              <p:cNvPr id="755" name=""/>
              <p:cNvSpPr/>
              <p:nvPr/>
            </p:nvSpPr>
            <p:spPr>
              <a:xfrm flipH="1" flipV="1">
                <a:off x="7708680" y="2430360"/>
                <a:ext cx="5076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718400" y="2475000"/>
                <a:ext cx="4752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791480" y="2487600"/>
                <a:ext cx="349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7812000" y="2341080"/>
                <a:ext cx="666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45400" y="217800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51880" y="196524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856640" y="2070000"/>
                <a:ext cx="77760" cy="82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850160" y="228276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37480" y="2401920"/>
                <a:ext cx="96840" cy="1015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69160" y="260496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845480" y="26114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01040" y="24494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7790040" y="1883880"/>
                <a:ext cx="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12000" y="2033640"/>
                <a:ext cx="666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7805880" y="2135160"/>
                <a:ext cx="601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>
                <a:off x="7805520" y="2236680"/>
                <a:ext cx="6012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931160" y="23414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937640" y="228132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93200" y="222732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93200" y="216072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943760" y="2055960"/>
                <a:ext cx="4464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943760" y="211608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99320" y="200484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24880" y="203688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6160" y="253044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80400" y="255420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34160" y="238140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59720" y="2502000"/>
                <a:ext cx="77760" cy="82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44600" y="2309760"/>
                <a:ext cx="288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85200" y="2382840"/>
                <a:ext cx="4428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232560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42080" y="257652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702560" y="2583000"/>
                <a:ext cx="4428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07160" y="2519280"/>
                <a:ext cx="4464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7459560" y="2548080"/>
              <a:ext cx="174600" cy="14904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02040" y="2625840"/>
              <a:ext cx="158760" cy="168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43760" y="2625840"/>
              <a:ext cx="158760" cy="168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59240" y="2651040"/>
              <a:ext cx="158760" cy="168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444760" y="909720"/>
              <a:ext cx="158760" cy="168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60720" y="229068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27640" y="2265480"/>
              <a:ext cx="162000" cy="16164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1640"/>
                <a:gd name="textAreaBottom" fmla="*/ 12492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694560" y="227808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59200" y="126360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2:18Z</dcterms:modified>
  <cp:revision>14</cp:revision>
  <dc:subject/>
  <dc:title>CHROMATIN</dc:title>
</cp:coreProperties>
</file>