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0145-6A22-41DD-820A-62DB979A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8AC1-76CB-4A0C-86B5-01A21C7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05F9-1F13-4703-91ED-EB3ECB6D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6D3D-AB31-4B7F-A67E-57DE33C0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56F7-315F-48C9-B38D-CC86744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B333-DD10-4E80-BDE2-4EDD55F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9733-4036-4FE2-B947-550E974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8081-2858-46F9-A3C3-1ADD3E9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9EDB-C2F3-46FC-B3FA-871D4CB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EB25-FA29-476E-AF4E-57772F6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B5A4-D958-4865-B495-A04EDAEA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9A3C-C43A-4C9D-9AEC-D8FAF14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83C-6E98-44EE-B206-09493BFA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7982" r="51703" b="250"/>
          <a:stretch/>
        </p:blipFill>
        <p:spPr>
          <a:xfrm>
            <a:off x="2070000" y="1346040"/>
            <a:ext cx="2605320" cy="473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9400" y="988920"/>
            <a:ext cx="455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steady state and dynamic acet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5480" y="563400"/>
            <a:ext cx="233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falfa histone H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1480" y="102060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         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2240" y="1501920"/>
            <a:ext cx="26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charge on H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electrophor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6000" y="23763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Ac-lys     n-5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240" y="290340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c-lys     n-4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50680" y="341964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c-lys     n-3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9520" y="394812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c-lys     n-2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5440" y="4789440"/>
            <a:ext cx="246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60400" y="44290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Ac-lys     n-1 lys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280" y="2305080"/>
            <a:ext cx="27810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76600" y="5486400"/>
            <a:ext cx="2657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24160" y="5484960"/>
            <a:ext cx="1414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omass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27720" y="5560920"/>
            <a:ext cx="1130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-ace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0" y="328680"/>
            <a:ext cx="49705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UT gel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4:08Z</dcterms:modified>
  <cp:revision>14</cp:revision>
  <dc:subject/>
  <dc:title>CHROMATIN</dc:title>
</cp:coreProperties>
</file>