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01A1C-2C7A-4A4D-9A20-B4DC04E8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0572E-E3C2-4DEC-9871-5C29C3C7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5592E-CE8E-459C-BFEC-D4E5B4C0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4F0CF-19F8-49C8-AC1E-DA5E469D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090E3-F0D4-410D-81A0-7B0669E7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52D9D-CB4B-4CD2-B650-3C06192E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0F341-5BA9-47DD-BAF2-25B34634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92488-2299-471C-8A5F-4DCFE417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AAEB8-1F19-4FAB-9DC8-1A9757A1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1EFAF-70DA-4412-8413-2E7ED0ED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89054-A1EB-424E-A03C-9136AF04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FB362-7B36-497C-910A-E98FDEFE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72320" y="6477120"/>
            <a:ext cx="942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527760" y="6382800"/>
            <a:ext cx="436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4FDC-69B8-45E4-B415-9DB5AE0CC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7680" y="6259680"/>
            <a:ext cx="1390680" cy="425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0360" y="6480000"/>
            <a:ext cx="55080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735760" y="531000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1999, J.H.Waterborg, UMK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3520" y="266400"/>
            <a:ext cx="4229280" cy="131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S phase Ge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cti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7600" y="6348240"/>
            <a:ext cx="4355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ed from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t-Si-Ali et al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ure 39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184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600" y="4826160"/>
            <a:ext cx="2781720" cy="10072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ell cycle contro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the G1-S 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riction 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 rot="14135400">
            <a:off x="7478280" y="4467960"/>
            <a:ext cx="689040" cy="220320"/>
          </a:xfrm>
          <a:prstGeom prst="rightArrow">
            <a:avLst>
              <a:gd name="adj1" fmla="val 29583"/>
              <a:gd name="adj2" fmla="val 15986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311800" y="519120"/>
            <a:ext cx="4594680" cy="2643480"/>
            <a:chOff x="5311800" y="519120"/>
            <a:chExt cx="4594680" cy="2643480"/>
          </a:xfrm>
        </p:grpSpPr>
        <p:sp>
          <p:nvSpPr>
            <p:cNvPr id="48" name=""/>
            <p:cNvSpPr/>
            <p:nvPr/>
          </p:nvSpPr>
          <p:spPr>
            <a:xfrm>
              <a:off x="7888320" y="785880"/>
              <a:ext cx="20181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DA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istone Deacetyl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5311800" y="665280"/>
              <a:ext cx="3771000" cy="2497320"/>
              <a:chOff x="5311800" y="665280"/>
              <a:chExt cx="3771000" cy="2497320"/>
            </a:xfrm>
          </p:grpSpPr>
          <p:sp>
            <p:nvSpPr>
              <p:cNvPr id="50" name=""/>
              <p:cNvSpPr/>
              <p:nvPr/>
            </p:nvSpPr>
            <p:spPr>
              <a:xfrm rot="3472200">
                <a:off x="8049600" y="1334880"/>
                <a:ext cx="304920" cy="48276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5311800" y="665280"/>
                <a:ext cx="3771000" cy="2497320"/>
                <a:chOff x="5311800" y="665280"/>
                <a:chExt cx="3771000" cy="2497320"/>
              </a:xfrm>
            </p:grpSpPr>
            <p:grpSp>
              <p:nvGrpSpPr>
                <p:cNvPr id="52" name=""/>
                <p:cNvGrpSpPr/>
                <p:nvPr/>
              </p:nvGrpSpPr>
              <p:grpSpPr>
                <a:xfrm>
                  <a:off x="6681960" y="739440"/>
                  <a:ext cx="1408680" cy="1138320"/>
                  <a:chOff x="6681960" y="739440"/>
                  <a:chExt cx="1408680" cy="113832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 flipH="1" flipV="1" rot="4537200">
                    <a:off x="6662160" y="1024560"/>
                    <a:ext cx="906120" cy="663840"/>
                  </a:xfrm>
                  <a:custGeom>
                    <a:avLst/>
                    <a:gdLst>
                      <a:gd name="textAreaLeft" fmla="*/ 100800 w 906120"/>
                      <a:gd name="textAreaRight" fmla="*/ 805320 w 906120"/>
                      <a:gd name="textAreaTop" fmla="*/ 73800 h 663840"/>
                      <a:gd name="textAreaBottom" fmla="*/ 590040 h 663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0424" y="21600"/>
                        </a:lnTo>
                        <a:lnTo>
                          <a:pt x="1176" y="2160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rot="20737200">
                    <a:off x="6817680" y="1108080"/>
                    <a:ext cx="579600" cy="45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Arial Black"/>
                      </a:rPr>
                      <a:t>R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5" name=""/>
                  <p:cNvGrpSpPr/>
                  <p:nvPr/>
                </p:nvGrpSpPr>
                <p:grpSpPr>
                  <a:xfrm>
                    <a:off x="6827400" y="739440"/>
                    <a:ext cx="1263240" cy="1073520"/>
                    <a:chOff x="6827400" y="739440"/>
                    <a:chExt cx="1263240" cy="1073520"/>
                  </a:xfrm>
                </p:grpSpPr>
                <p:sp>
                  <p:nvSpPr>
                    <p:cNvPr id="56" name=""/>
                    <p:cNvSpPr/>
                    <p:nvPr/>
                  </p:nvSpPr>
                  <p:spPr>
                    <a:xfrm rot="15337200">
                      <a:off x="7044480" y="730080"/>
                      <a:ext cx="828360" cy="109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10800000"/>
                        </a:path>
                      </a:pathLst>
                    </a:custGeom>
                    <a:solidFill>
                      <a:srgbClr val="ff3300">
                        <a:alpha val="50000"/>
                      </a:srgbClr>
                    </a:solidFill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7" name=""/>
                    <p:cNvGrpSpPr/>
                    <p:nvPr/>
                  </p:nvGrpSpPr>
                  <p:grpSpPr>
                    <a:xfrm>
                      <a:off x="7476480" y="929160"/>
                      <a:ext cx="346680" cy="563040"/>
                      <a:chOff x="7476480" y="929160"/>
                      <a:chExt cx="346680" cy="563040"/>
                    </a:xfrm>
                  </p:grpSpPr>
                  <p:sp>
                    <p:nvSpPr>
                      <p:cNvPr id="58" name=""/>
                      <p:cNvSpPr/>
                      <p:nvPr/>
                    </p:nvSpPr>
                    <p:spPr>
                      <a:xfrm rot="15337200">
                        <a:off x="7387560" y="1098720"/>
                        <a:ext cx="523800" cy="2235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" name=""/>
                      <p:cNvSpPr/>
                      <p:nvPr/>
                    </p:nvSpPr>
                    <p:spPr>
                      <a:xfrm rot="15337200">
                        <a:off x="7594200" y="1396440"/>
                        <a:ext cx="79200" cy="460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" name=""/>
                      <p:cNvSpPr/>
                      <p:nvPr/>
                    </p:nvSpPr>
                    <p:spPr>
                      <a:xfrm rot="15337200">
                        <a:off x="7720560" y="1364040"/>
                        <a:ext cx="79200" cy="460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" name=""/>
                      <p:cNvSpPr/>
                      <p:nvPr/>
                    </p:nvSpPr>
                    <p:spPr>
                      <a:xfrm flipH="1" flipV="1">
                        <a:off x="7507800" y="1032480"/>
                        <a:ext cx="231840" cy="379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" name=""/>
                      <p:cNvSpPr/>
                      <p:nvPr/>
                    </p:nvSpPr>
                    <p:spPr>
                      <a:xfrm flipH="1" flipV="1">
                        <a:off x="7650720" y="988920"/>
                        <a:ext cx="13320" cy="428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" name=""/>
                      <p:cNvSpPr/>
                      <p:nvPr/>
                    </p:nvSpPr>
                    <p:spPr>
                      <a:xfrm flipH="1" flipV="1">
                        <a:off x="7631640" y="1292400"/>
                        <a:ext cx="108720" cy="1245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" name=""/>
                      <p:cNvSpPr/>
                      <p:nvPr/>
                    </p:nvSpPr>
                    <p:spPr>
                      <a:xfrm flipV="1">
                        <a:off x="7663680" y="1273680"/>
                        <a:ext cx="27360" cy="154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" name=""/>
                      <p:cNvSpPr/>
                      <p:nvPr/>
                    </p:nvSpPr>
                    <p:spPr>
                      <a:xfrm flipH="1" flipV="1">
                        <a:off x="7499160" y="1010160"/>
                        <a:ext cx="129600" cy="2829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" name=""/>
                      <p:cNvSpPr/>
                      <p:nvPr/>
                    </p:nvSpPr>
                    <p:spPr>
                      <a:xfrm flipH="1" flipV="1">
                        <a:off x="7650360" y="974520"/>
                        <a:ext cx="40680" cy="2991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" name=""/>
                      <p:cNvSpPr/>
                      <p:nvPr/>
                    </p:nvSpPr>
                    <p:spPr>
                      <a:xfrm rot="15337200">
                        <a:off x="7662600" y="1311840"/>
                        <a:ext cx="12960" cy="140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6360" bIns="-36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5311800" y="665280"/>
                  <a:ext cx="3771000" cy="2497320"/>
                  <a:chOff x="5311800" y="665280"/>
                  <a:chExt cx="3771000" cy="2497320"/>
                </a:xfrm>
              </p:grpSpPr>
              <p:grpSp>
                <p:nvGrpSpPr>
                  <p:cNvPr id="69" name=""/>
                  <p:cNvGrpSpPr/>
                  <p:nvPr/>
                </p:nvGrpSpPr>
                <p:grpSpPr>
                  <a:xfrm>
                    <a:off x="5311800" y="665280"/>
                    <a:ext cx="2279160" cy="2276280"/>
                    <a:chOff x="5311800" y="665280"/>
                    <a:chExt cx="2279160" cy="2276280"/>
                  </a:xfrm>
                </p:grpSpPr>
                <p:sp>
                  <p:nvSpPr>
                    <p:cNvPr id="70" name=""/>
                    <p:cNvSpPr/>
                    <p:nvPr/>
                  </p:nvSpPr>
                  <p:spPr>
                    <a:xfrm>
                      <a:off x="5311800" y="665280"/>
                      <a:ext cx="1566360" cy="220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082" y="20220"/>
                          </a:moveTo>
                          <a:arcTo wR="10800" hR="10800" stAng="3643245" swAng="1841281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082" y="20220"/>
                          </a:moveTo>
                          <a:arcTo wR="10800" hR="10800" stAng="3643245" swAng="18412810"/>
                        </a:path>
                      </a:pathLst>
                    </a:custGeom>
                    <a:solidFill>
                      <a:srgbClr val="ccccff"/>
                    </a:solidFill>
                    <a:ln w="9360">
                      <a:solidFill>
                        <a:srgbClr val="cccc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1" name=""/>
                    <p:cNvGrpSpPr/>
                    <p:nvPr/>
                  </p:nvGrpSpPr>
                  <p:grpSpPr>
                    <a:xfrm>
                      <a:off x="6027840" y="1101600"/>
                      <a:ext cx="1563120" cy="1839960"/>
                      <a:chOff x="6027840" y="1101600"/>
                      <a:chExt cx="1563120" cy="1839960"/>
                    </a:xfrm>
                  </p:grpSpPr>
                  <p:grpSp>
                    <p:nvGrpSpPr>
                      <p:cNvPr id="72" name=""/>
                      <p:cNvGrpSpPr/>
                      <p:nvPr/>
                    </p:nvGrpSpPr>
                    <p:grpSpPr>
                      <a:xfrm>
                        <a:off x="6027840" y="1101600"/>
                        <a:ext cx="1563120" cy="1839960"/>
                        <a:chOff x="6027840" y="1101600"/>
                        <a:chExt cx="1563120" cy="1839960"/>
                      </a:xfrm>
                    </p:grpSpPr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6038640" y="1101600"/>
                          <a:ext cx="834120" cy="175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252" y="15848"/>
                              </a:moveTo>
                              <a:arcTo wR="10800" hR="10800" stAng="9128189" swAng="12216431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252" y="15848"/>
                              </a:moveTo>
                              <a:arcTo wR="10800" hR="10800" stAng="9128189" swAng="12216431"/>
                            </a:path>
                          </a:pathLst>
                        </a:custGeom>
                        <a:solidFill>
                          <a:srgbClr val="00cc99"/>
                        </a:solidFill>
                        <a:ln cap="rnd"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6076800" y="1914480"/>
                          <a:ext cx="1514160" cy="851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5399" y="20153"/>
                              </a:moveTo>
                              <a:arcTo wR="10800" hR="10800" stAng="7200259" swAng="915071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5399" y="20153"/>
                              </a:moveTo>
                              <a:arcTo wR="10800" hR="10800" stAng="7200259" swAng="9150710"/>
                            </a:path>
                          </a:pathLst>
                        </a:custGeom>
                        <a:solidFill>
                          <a:srgbClr val="ccccff"/>
                        </a:solidFill>
                        <a:ln cap="rnd"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>
                          <a:off x="6383160" y="1916280"/>
                          <a:ext cx="977400" cy="1025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696" y="16610"/>
                              </a:moveTo>
                              <a:arcTo wR="10800" hR="10800" stAng="8847356" swAng="7341483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696" y="16610"/>
                              </a:moveTo>
                              <a:arcTo wR="10800" hR="10800" stAng="8847356" swAng="7341483"/>
                            </a:path>
                          </a:pathLst>
                        </a:custGeom>
                        <a:solidFill>
                          <a:srgbClr val="ffffff"/>
                        </a:solidFill>
                        <a:ln cap="rnd"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>
                          <a:off x="6029280" y="1584360"/>
                          <a:ext cx="77940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AF 25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>
                          <a:off x="6287400" y="1682640"/>
                          <a:ext cx="255240" cy="2448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0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II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rot="18240000">
                          <a:off x="6032520" y="2191680"/>
                          <a:ext cx="438120" cy="2448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0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BP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6149880" y="1405080"/>
                        <a:ext cx="624960" cy="18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600" y="10800"/>
                            </a:moveTo>
                            <a:arcTo wR="10800" hR="10800" stAng="0" swAng="10683511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600" y="10800"/>
                            </a:moveTo>
                            <a:arcTo wR="10800" hR="10800" stAng="0" swAng="10683511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270480" y="1197000"/>
                        <a:ext cx="240120" cy="73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800"/>
                            </a:moveTo>
                            <a:arcTo wR="10800" hR="10800" stAng="10800000" swAng="776763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800"/>
                            </a:moveTo>
                            <a:arcTo wR="10800" hR="10800" stAng="10800000" swAng="7767635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" name=""/>
                      <p:cNvSpPr/>
                      <p:nvPr/>
                    </p:nvSpPr>
                    <p:spPr>
                      <a:xfrm>
                        <a:off x="6420240" y="1197000"/>
                        <a:ext cx="248400" cy="73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3821" y="2558"/>
                            </a:moveTo>
                            <a:arcTo wR="10800" hR="10800" stAng="-7815428" swAng="781542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3821" y="2558"/>
                            </a:moveTo>
                            <a:arcTo wR="10800" hR="10800" stAng="-7815428" swAng="7815428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238440" y="1314360"/>
                        <a:ext cx="488160" cy="259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HAT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83" name=""/>
                  <p:cNvGrpSpPr/>
                  <p:nvPr/>
                </p:nvGrpSpPr>
                <p:grpSpPr>
                  <a:xfrm>
                    <a:off x="5391000" y="1562760"/>
                    <a:ext cx="3691800" cy="1599840"/>
                    <a:chOff x="5391000" y="1562760"/>
                    <a:chExt cx="3691800" cy="1599840"/>
                  </a:xfrm>
                </p:grpSpPr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5391000" y="1893600"/>
                      <a:ext cx="2579040" cy="1269000"/>
                      <a:chOff x="5391000" y="1893600"/>
                      <a:chExt cx="2579040" cy="126900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6478200" y="1893600"/>
                        <a:ext cx="1491840" cy="113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02" y="15342"/>
                            </a:moveTo>
                            <a:arcTo wR="10800" hR="10800" stAng="9307751" swAng="6936133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02" y="15342"/>
                            </a:moveTo>
                            <a:arcTo wR="10800" hR="10800" stAng="9307751" swAng="6936133"/>
                          </a:path>
                        </a:pathLst>
                      </a:custGeom>
                      <a:noFill/>
                      <a:ln cap="rnd" w="507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5391000" y="2467440"/>
                        <a:ext cx="1196640" cy="69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0952" y="7116"/>
                            </a:moveTo>
                            <a:arcTo wR="10800" hR="10800" stAng="-1196630" swAng="11430406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0952" y="7116"/>
                            </a:moveTo>
                            <a:arcTo wR="10800" hR="10800" stAng="-1196630" swAng="11430406"/>
                          </a:path>
                        </a:pathLst>
                      </a:custGeom>
                      <a:noFill/>
                      <a:ln cap="rnd" w="507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" name=""/>
                      <p:cNvSpPr/>
                      <p:nvPr/>
                    </p:nvSpPr>
                    <p:spPr>
                      <a:xfrm rot="18060000">
                        <a:off x="6369480" y="2147760"/>
                        <a:ext cx="590400" cy="275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TATA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8" name=""/>
                    <p:cNvGrpSpPr/>
                    <p:nvPr/>
                  </p:nvGrpSpPr>
                  <p:grpSpPr>
                    <a:xfrm>
                      <a:off x="7181640" y="1562760"/>
                      <a:ext cx="1901160" cy="1267920"/>
                      <a:chOff x="7181640" y="1562760"/>
                      <a:chExt cx="1901160" cy="1267920"/>
                    </a:xfrm>
                  </p:grpSpPr>
                  <p:sp>
                    <p:nvSpPr>
                      <p:cNvPr id="89" name=""/>
                      <p:cNvSpPr/>
                      <p:nvPr/>
                    </p:nvSpPr>
                    <p:spPr>
                      <a:xfrm>
                        <a:off x="7227720" y="1892160"/>
                        <a:ext cx="1774440" cy="6120"/>
                      </a:xfrm>
                      <a:prstGeom prst="line">
                        <a:avLst/>
                      </a:prstGeom>
                      <a:ln w="507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" name=""/>
                      <p:cNvSpPr/>
                      <p:nvPr/>
                    </p:nvSpPr>
                    <p:spPr>
                      <a:xfrm rot="1200000">
                        <a:off x="7233840" y="1699920"/>
                        <a:ext cx="367920" cy="370800"/>
                      </a:xfrm>
                      <a:custGeom>
                        <a:avLst/>
                        <a:gdLst>
                          <a:gd name="textAreaLeft" fmla="*/ 83880 w 367920"/>
                          <a:gd name="textAreaRight" fmla="*/ 284040 w 367920"/>
                          <a:gd name="textAreaTop" fmla="*/ 84600 h 370800"/>
                          <a:gd name="textAreaBottom" fmla="*/ 286200 h 3708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2652" y="12384"/>
                            </a:lnTo>
                            <a:lnTo>
                              <a:pt x="786" y="14846"/>
                            </a:lnTo>
                            <a:lnTo>
                              <a:pt x="3839" y="15321"/>
                            </a:lnTo>
                            <a:lnTo>
                              <a:pt x="3163" y="18437"/>
                            </a:lnTo>
                            <a:lnTo>
                              <a:pt x="6159" y="17681"/>
                            </a:lnTo>
                            <a:lnTo>
                              <a:pt x="6580" y="20741"/>
                            </a:lnTo>
                            <a:lnTo>
                              <a:pt x="9074" y="18919"/>
                            </a:lnTo>
                            <a:lnTo>
                              <a:pt x="10800" y="21600"/>
                            </a:lnTo>
                            <a:lnTo>
                              <a:pt x="12384" y="18948"/>
                            </a:lnTo>
                            <a:lnTo>
                              <a:pt x="14846" y="20814"/>
                            </a:lnTo>
                            <a:lnTo>
                              <a:pt x="15321" y="17761"/>
                            </a:lnTo>
                            <a:lnTo>
                              <a:pt x="18437" y="18437"/>
                            </a:lnTo>
                            <a:lnTo>
                              <a:pt x="17681" y="15441"/>
                            </a:lnTo>
                            <a:lnTo>
                              <a:pt x="20741" y="15020"/>
                            </a:lnTo>
                            <a:lnTo>
                              <a:pt x="18919" y="12526"/>
                            </a:lnTo>
                            <a:lnTo>
                              <a:pt x="21600" y="10800"/>
                            </a:lnTo>
                            <a:lnTo>
                              <a:pt x="18948" y="9216"/>
                            </a:lnTo>
                            <a:lnTo>
                              <a:pt x="20814" y="6754"/>
                            </a:lnTo>
                            <a:lnTo>
                              <a:pt x="17761" y="6279"/>
                            </a:lnTo>
                            <a:lnTo>
                              <a:pt x="18437" y="3163"/>
                            </a:lnTo>
                            <a:lnTo>
                              <a:pt x="15441" y="3919"/>
                            </a:lnTo>
                            <a:lnTo>
                              <a:pt x="15020" y="859"/>
                            </a:lnTo>
                            <a:lnTo>
                              <a:pt x="12526" y="2681"/>
                            </a:lnTo>
                            <a:lnTo>
                              <a:pt x="10800" y="0"/>
                            </a:lnTo>
                            <a:lnTo>
                              <a:pt x="9216" y="2652"/>
                            </a:lnTo>
                            <a:lnTo>
                              <a:pt x="6754" y="786"/>
                            </a:lnTo>
                            <a:lnTo>
                              <a:pt x="6279" y="3839"/>
                            </a:lnTo>
                            <a:lnTo>
                              <a:pt x="3163" y="3163"/>
                            </a:lnTo>
                            <a:lnTo>
                              <a:pt x="3919" y="6159"/>
                            </a:lnTo>
                            <a:lnTo>
                              <a:pt x="859" y="6580"/>
                            </a:lnTo>
                            <a:lnTo>
                              <a:pt x="2681" y="9074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1260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" name=""/>
                      <p:cNvSpPr/>
                      <p:nvPr/>
                    </p:nvSpPr>
                    <p:spPr>
                      <a:xfrm rot="1200000">
                        <a:off x="7638120" y="1614240"/>
                        <a:ext cx="367920" cy="371160"/>
                      </a:xfrm>
                      <a:custGeom>
                        <a:avLst/>
                        <a:gdLst>
                          <a:gd name="textAreaLeft" fmla="*/ 83880 w 367920"/>
                          <a:gd name="textAreaRight" fmla="*/ 284040 w 367920"/>
                          <a:gd name="textAreaTop" fmla="*/ 84600 h 371160"/>
                          <a:gd name="textAreaBottom" fmla="*/ 286560 h 371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2652" y="12384"/>
                            </a:lnTo>
                            <a:lnTo>
                              <a:pt x="786" y="14846"/>
                            </a:lnTo>
                            <a:lnTo>
                              <a:pt x="3839" y="15321"/>
                            </a:lnTo>
                            <a:lnTo>
                              <a:pt x="3163" y="18437"/>
                            </a:lnTo>
                            <a:lnTo>
                              <a:pt x="6159" y="17681"/>
                            </a:lnTo>
                            <a:lnTo>
                              <a:pt x="6580" y="20741"/>
                            </a:lnTo>
                            <a:lnTo>
                              <a:pt x="9074" y="18919"/>
                            </a:lnTo>
                            <a:lnTo>
                              <a:pt x="10800" y="21600"/>
                            </a:lnTo>
                            <a:lnTo>
                              <a:pt x="12384" y="18948"/>
                            </a:lnTo>
                            <a:lnTo>
                              <a:pt x="14846" y="20814"/>
                            </a:lnTo>
                            <a:lnTo>
                              <a:pt x="15321" y="17761"/>
                            </a:lnTo>
                            <a:lnTo>
                              <a:pt x="18437" y="18437"/>
                            </a:lnTo>
                            <a:lnTo>
                              <a:pt x="17681" y="15441"/>
                            </a:lnTo>
                            <a:lnTo>
                              <a:pt x="20741" y="15020"/>
                            </a:lnTo>
                            <a:lnTo>
                              <a:pt x="18919" y="12526"/>
                            </a:lnTo>
                            <a:lnTo>
                              <a:pt x="21600" y="10800"/>
                            </a:lnTo>
                            <a:lnTo>
                              <a:pt x="18948" y="9216"/>
                            </a:lnTo>
                            <a:lnTo>
                              <a:pt x="20814" y="6754"/>
                            </a:lnTo>
                            <a:lnTo>
                              <a:pt x="17761" y="6279"/>
                            </a:lnTo>
                            <a:lnTo>
                              <a:pt x="18437" y="3163"/>
                            </a:lnTo>
                            <a:lnTo>
                              <a:pt x="15441" y="3919"/>
                            </a:lnTo>
                            <a:lnTo>
                              <a:pt x="15020" y="859"/>
                            </a:lnTo>
                            <a:lnTo>
                              <a:pt x="12526" y="2681"/>
                            </a:lnTo>
                            <a:lnTo>
                              <a:pt x="10800" y="0"/>
                            </a:lnTo>
                            <a:lnTo>
                              <a:pt x="9216" y="2652"/>
                            </a:lnTo>
                            <a:lnTo>
                              <a:pt x="6754" y="786"/>
                            </a:lnTo>
                            <a:lnTo>
                              <a:pt x="6279" y="3839"/>
                            </a:lnTo>
                            <a:lnTo>
                              <a:pt x="3163" y="3163"/>
                            </a:lnTo>
                            <a:lnTo>
                              <a:pt x="3919" y="6159"/>
                            </a:lnTo>
                            <a:lnTo>
                              <a:pt x="859" y="6580"/>
                            </a:lnTo>
                            <a:lnTo>
                              <a:pt x="2681" y="9074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1260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" name=""/>
                      <p:cNvSpPr/>
                      <p:nvPr/>
                    </p:nvSpPr>
                    <p:spPr>
                      <a:xfrm rot="1200000">
                        <a:off x="8003520" y="1785600"/>
                        <a:ext cx="367920" cy="371160"/>
                      </a:xfrm>
                      <a:custGeom>
                        <a:avLst/>
                        <a:gdLst>
                          <a:gd name="textAreaLeft" fmla="*/ 83880 w 367920"/>
                          <a:gd name="textAreaRight" fmla="*/ 284040 w 367920"/>
                          <a:gd name="textAreaTop" fmla="*/ 84600 h 371160"/>
                          <a:gd name="textAreaBottom" fmla="*/ 286560 h 371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2652" y="12384"/>
                            </a:lnTo>
                            <a:lnTo>
                              <a:pt x="786" y="14846"/>
                            </a:lnTo>
                            <a:lnTo>
                              <a:pt x="3839" y="15321"/>
                            </a:lnTo>
                            <a:lnTo>
                              <a:pt x="3163" y="18437"/>
                            </a:lnTo>
                            <a:lnTo>
                              <a:pt x="6159" y="17681"/>
                            </a:lnTo>
                            <a:lnTo>
                              <a:pt x="6580" y="20741"/>
                            </a:lnTo>
                            <a:lnTo>
                              <a:pt x="9074" y="18919"/>
                            </a:lnTo>
                            <a:lnTo>
                              <a:pt x="10800" y="21600"/>
                            </a:lnTo>
                            <a:lnTo>
                              <a:pt x="12384" y="18948"/>
                            </a:lnTo>
                            <a:lnTo>
                              <a:pt x="14846" y="20814"/>
                            </a:lnTo>
                            <a:lnTo>
                              <a:pt x="15321" y="17761"/>
                            </a:lnTo>
                            <a:lnTo>
                              <a:pt x="18437" y="18437"/>
                            </a:lnTo>
                            <a:lnTo>
                              <a:pt x="17681" y="15441"/>
                            </a:lnTo>
                            <a:lnTo>
                              <a:pt x="20741" y="15020"/>
                            </a:lnTo>
                            <a:lnTo>
                              <a:pt x="18919" y="12526"/>
                            </a:lnTo>
                            <a:lnTo>
                              <a:pt x="21600" y="10800"/>
                            </a:lnTo>
                            <a:lnTo>
                              <a:pt x="18948" y="9216"/>
                            </a:lnTo>
                            <a:lnTo>
                              <a:pt x="20814" y="6754"/>
                            </a:lnTo>
                            <a:lnTo>
                              <a:pt x="17761" y="6279"/>
                            </a:lnTo>
                            <a:lnTo>
                              <a:pt x="18437" y="3163"/>
                            </a:lnTo>
                            <a:lnTo>
                              <a:pt x="15441" y="3919"/>
                            </a:lnTo>
                            <a:lnTo>
                              <a:pt x="15020" y="859"/>
                            </a:lnTo>
                            <a:lnTo>
                              <a:pt x="12526" y="2681"/>
                            </a:lnTo>
                            <a:lnTo>
                              <a:pt x="10800" y="0"/>
                            </a:lnTo>
                            <a:lnTo>
                              <a:pt x="9216" y="2652"/>
                            </a:lnTo>
                            <a:lnTo>
                              <a:pt x="6754" y="786"/>
                            </a:lnTo>
                            <a:lnTo>
                              <a:pt x="6279" y="3839"/>
                            </a:lnTo>
                            <a:lnTo>
                              <a:pt x="3163" y="3163"/>
                            </a:lnTo>
                            <a:lnTo>
                              <a:pt x="3919" y="6159"/>
                            </a:lnTo>
                            <a:lnTo>
                              <a:pt x="859" y="6580"/>
                            </a:lnTo>
                            <a:lnTo>
                              <a:pt x="2681" y="9074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1260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" name=""/>
                      <p:cNvSpPr/>
                      <p:nvPr/>
                    </p:nvSpPr>
                    <p:spPr>
                      <a:xfrm rot="1200000">
                        <a:off x="8346240" y="1650600"/>
                        <a:ext cx="367920" cy="371160"/>
                      </a:xfrm>
                      <a:custGeom>
                        <a:avLst/>
                        <a:gdLst>
                          <a:gd name="textAreaLeft" fmla="*/ 83880 w 367920"/>
                          <a:gd name="textAreaRight" fmla="*/ 284040 w 367920"/>
                          <a:gd name="textAreaTop" fmla="*/ 84600 h 371160"/>
                          <a:gd name="textAreaBottom" fmla="*/ 286560 h 371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2652" y="12384"/>
                            </a:lnTo>
                            <a:lnTo>
                              <a:pt x="786" y="14846"/>
                            </a:lnTo>
                            <a:lnTo>
                              <a:pt x="3839" y="15321"/>
                            </a:lnTo>
                            <a:lnTo>
                              <a:pt x="3163" y="18437"/>
                            </a:lnTo>
                            <a:lnTo>
                              <a:pt x="6159" y="17681"/>
                            </a:lnTo>
                            <a:lnTo>
                              <a:pt x="6580" y="20741"/>
                            </a:lnTo>
                            <a:lnTo>
                              <a:pt x="9074" y="18919"/>
                            </a:lnTo>
                            <a:lnTo>
                              <a:pt x="10800" y="21600"/>
                            </a:lnTo>
                            <a:lnTo>
                              <a:pt x="12384" y="18948"/>
                            </a:lnTo>
                            <a:lnTo>
                              <a:pt x="14846" y="20814"/>
                            </a:lnTo>
                            <a:lnTo>
                              <a:pt x="15321" y="17761"/>
                            </a:lnTo>
                            <a:lnTo>
                              <a:pt x="18437" y="18437"/>
                            </a:lnTo>
                            <a:lnTo>
                              <a:pt x="17681" y="15441"/>
                            </a:lnTo>
                            <a:lnTo>
                              <a:pt x="20741" y="15020"/>
                            </a:lnTo>
                            <a:lnTo>
                              <a:pt x="18919" y="12526"/>
                            </a:lnTo>
                            <a:lnTo>
                              <a:pt x="21600" y="10800"/>
                            </a:lnTo>
                            <a:lnTo>
                              <a:pt x="18948" y="9216"/>
                            </a:lnTo>
                            <a:lnTo>
                              <a:pt x="20814" y="6754"/>
                            </a:lnTo>
                            <a:lnTo>
                              <a:pt x="17761" y="6279"/>
                            </a:lnTo>
                            <a:lnTo>
                              <a:pt x="18437" y="3163"/>
                            </a:lnTo>
                            <a:lnTo>
                              <a:pt x="15441" y="3919"/>
                            </a:lnTo>
                            <a:lnTo>
                              <a:pt x="15020" y="859"/>
                            </a:lnTo>
                            <a:lnTo>
                              <a:pt x="12526" y="2681"/>
                            </a:lnTo>
                            <a:lnTo>
                              <a:pt x="10800" y="0"/>
                            </a:lnTo>
                            <a:lnTo>
                              <a:pt x="9216" y="2652"/>
                            </a:lnTo>
                            <a:lnTo>
                              <a:pt x="6754" y="786"/>
                            </a:lnTo>
                            <a:lnTo>
                              <a:pt x="6279" y="3839"/>
                            </a:lnTo>
                            <a:lnTo>
                              <a:pt x="3163" y="3163"/>
                            </a:lnTo>
                            <a:lnTo>
                              <a:pt x="3919" y="6159"/>
                            </a:lnTo>
                            <a:lnTo>
                              <a:pt x="859" y="6580"/>
                            </a:lnTo>
                            <a:lnTo>
                              <a:pt x="2681" y="9074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1260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" name=""/>
                      <p:cNvSpPr/>
                      <p:nvPr/>
                    </p:nvSpPr>
                    <p:spPr>
                      <a:xfrm rot="1200000">
                        <a:off x="7466760" y="1944360"/>
                        <a:ext cx="367920" cy="371160"/>
                      </a:xfrm>
                      <a:custGeom>
                        <a:avLst/>
                        <a:gdLst>
                          <a:gd name="textAreaLeft" fmla="*/ 83880 w 367920"/>
                          <a:gd name="textAreaRight" fmla="*/ 284040 w 367920"/>
                          <a:gd name="textAreaTop" fmla="*/ 84600 h 371160"/>
                          <a:gd name="textAreaBottom" fmla="*/ 286560 h 371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2652" y="12384"/>
                            </a:lnTo>
                            <a:lnTo>
                              <a:pt x="786" y="14846"/>
                            </a:lnTo>
                            <a:lnTo>
                              <a:pt x="3839" y="15321"/>
                            </a:lnTo>
                            <a:lnTo>
                              <a:pt x="3163" y="18437"/>
                            </a:lnTo>
                            <a:lnTo>
                              <a:pt x="6159" y="17681"/>
                            </a:lnTo>
                            <a:lnTo>
                              <a:pt x="6580" y="20741"/>
                            </a:lnTo>
                            <a:lnTo>
                              <a:pt x="9074" y="18919"/>
                            </a:lnTo>
                            <a:lnTo>
                              <a:pt x="10800" y="21600"/>
                            </a:lnTo>
                            <a:lnTo>
                              <a:pt x="12384" y="18948"/>
                            </a:lnTo>
                            <a:lnTo>
                              <a:pt x="14846" y="20814"/>
                            </a:lnTo>
                            <a:lnTo>
                              <a:pt x="15321" y="17761"/>
                            </a:lnTo>
                            <a:lnTo>
                              <a:pt x="18437" y="18437"/>
                            </a:lnTo>
                            <a:lnTo>
                              <a:pt x="17681" y="15441"/>
                            </a:lnTo>
                            <a:lnTo>
                              <a:pt x="20741" y="15020"/>
                            </a:lnTo>
                            <a:lnTo>
                              <a:pt x="18919" y="12526"/>
                            </a:lnTo>
                            <a:lnTo>
                              <a:pt x="21600" y="10800"/>
                            </a:lnTo>
                            <a:lnTo>
                              <a:pt x="18948" y="9216"/>
                            </a:lnTo>
                            <a:lnTo>
                              <a:pt x="20814" y="6754"/>
                            </a:lnTo>
                            <a:lnTo>
                              <a:pt x="17761" y="6279"/>
                            </a:lnTo>
                            <a:lnTo>
                              <a:pt x="18437" y="3163"/>
                            </a:lnTo>
                            <a:lnTo>
                              <a:pt x="15441" y="3919"/>
                            </a:lnTo>
                            <a:lnTo>
                              <a:pt x="15020" y="859"/>
                            </a:lnTo>
                            <a:lnTo>
                              <a:pt x="12526" y="2681"/>
                            </a:lnTo>
                            <a:lnTo>
                              <a:pt x="10800" y="0"/>
                            </a:lnTo>
                            <a:lnTo>
                              <a:pt x="9216" y="2652"/>
                            </a:lnTo>
                            <a:lnTo>
                              <a:pt x="6754" y="786"/>
                            </a:lnTo>
                            <a:lnTo>
                              <a:pt x="6279" y="3839"/>
                            </a:lnTo>
                            <a:lnTo>
                              <a:pt x="3163" y="3163"/>
                            </a:lnTo>
                            <a:lnTo>
                              <a:pt x="3919" y="6159"/>
                            </a:lnTo>
                            <a:lnTo>
                              <a:pt x="859" y="6580"/>
                            </a:lnTo>
                            <a:lnTo>
                              <a:pt x="2681" y="9074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1260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" name=""/>
                      <p:cNvSpPr/>
                      <p:nvPr/>
                    </p:nvSpPr>
                    <p:spPr>
                      <a:xfrm rot="1200000">
                        <a:off x="7782840" y="2015640"/>
                        <a:ext cx="367920" cy="371160"/>
                      </a:xfrm>
                      <a:custGeom>
                        <a:avLst/>
                        <a:gdLst>
                          <a:gd name="textAreaLeft" fmla="*/ 83880 w 367920"/>
                          <a:gd name="textAreaRight" fmla="*/ 284040 w 367920"/>
                          <a:gd name="textAreaTop" fmla="*/ 84600 h 371160"/>
                          <a:gd name="textAreaBottom" fmla="*/ 286560 h 371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2652" y="12384"/>
                            </a:lnTo>
                            <a:lnTo>
                              <a:pt x="786" y="14846"/>
                            </a:lnTo>
                            <a:lnTo>
                              <a:pt x="3839" y="15321"/>
                            </a:lnTo>
                            <a:lnTo>
                              <a:pt x="3163" y="18437"/>
                            </a:lnTo>
                            <a:lnTo>
                              <a:pt x="6159" y="17681"/>
                            </a:lnTo>
                            <a:lnTo>
                              <a:pt x="6580" y="20741"/>
                            </a:lnTo>
                            <a:lnTo>
                              <a:pt x="9074" y="18919"/>
                            </a:lnTo>
                            <a:lnTo>
                              <a:pt x="10800" y="21600"/>
                            </a:lnTo>
                            <a:lnTo>
                              <a:pt x="12384" y="18948"/>
                            </a:lnTo>
                            <a:lnTo>
                              <a:pt x="14846" y="20814"/>
                            </a:lnTo>
                            <a:lnTo>
                              <a:pt x="15321" y="17761"/>
                            </a:lnTo>
                            <a:lnTo>
                              <a:pt x="18437" y="18437"/>
                            </a:lnTo>
                            <a:lnTo>
                              <a:pt x="17681" y="15441"/>
                            </a:lnTo>
                            <a:lnTo>
                              <a:pt x="20741" y="15020"/>
                            </a:lnTo>
                            <a:lnTo>
                              <a:pt x="18919" y="12526"/>
                            </a:lnTo>
                            <a:lnTo>
                              <a:pt x="21600" y="10800"/>
                            </a:lnTo>
                            <a:lnTo>
                              <a:pt x="18948" y="9216"/>
                            </a:lnTo>
                            <a:lnTo>
                              <a:pt x="20814" y="6754"/>
                            </a:lnTo>
                            <a:lnTo>
                              <a:pt x="17761" y="6279"/>
                            </a:lnTo>
                            <a:lnTo>
                              <a:pt x="18437" y="3163"/>
                            </a:lnTo>
                            <a:lnTo>
                              <a:pt x="15441" y="3919"/>
                            </a:lnTo>
                            <a:lnTo>
                              <a:pt x="15020" y="859"/>
                            </a:lnTo>
                            <a:lnTo>
                              <a:pt x="12526" y="2681"/>
                            </a:lnTo>
                            <a:lnTo>
                              <a:pt x="10800" y="0"/>
                            </a:lnTo>
                            <a:lnTo>
                              <a:pt x="9216" y="2652"/>
                            </a:lnTo>
                            <a:lnTo>
                              <a:pt x="6754" y="786"/>
                            </a:lnTo>
                            <a:lnTo>
                              <a:pt x="6279" y="3839"/>
                            </a:lnTo>
                            <a:lnTo>
                              <a:pt x="3163" y="3163"/>
                            </a:lnTo>
                            <a:lnTo>
                              <a:pt x="3919" y="6159"/>
                            </a:lnTo>
                            <a:lnTo>
                              <a:pt x="859" y="6580"/>
                            </a:lnTo>
                            <a:lnTo>
                              <a:pt x="2681" y="9074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1260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" name=""/>
                      <p:cNvSpPr/>
                      <p:nvPr/>
                    </p:nvSpPr>
                    <p:spPr>
                      <a:xfrm rot="1200000">
                        <a:off x="8662320" y="1833120"/>
                        <a:ext cx="367920" cy="371160"/>
                      </a:xfrm>
                      <a:custGeom>
                        <a:avLst/>
                        <a:gdLst>
                          <a:gd name="textAreaLeft" fmla="*/ 83880 w 367920"/>
                          <a:gd name="textAreaRight" fmla="*/ 284040 w 367920"/>
                          <a:gd name="textAreaTop" fmla="*/ 84600 h 371160"/>
                          <a:gd name="textAreaBottom" fmla="*/ 286560 h 371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2652" y="12384"/>
                            </a:lnTo>
                            <a:lnTo>
                              <a:pt x="786" y="14846"/>
                            </a:lnTo>
                            <a:lnTo>
                              <a:pt x="3839" y="15321"/>
                            </a:lnTo>
                            <a:lnTo>
                              <a:pt x="3163" y="18437"/>
                            </a:lnTo>
                            <a:lnTo>
                              <a:pt x="6159" y="17681"/>
                            </a:lnTo>
                            <a:lnTo>
                              <a:pt x="6580" y="20741"/>
                            </a:lnTo>
                            <a:lnTo>
                              <a:pt x="9074" y="18919"/>
                            </a:lnTo>
                            <a:lnTo>
                              <a:pt x="10800" y="21600"/>
                            </a:lnTo>
                            <a:lnTo>
                              <a:pt x="12384" y="18948"/>
                            </a:lnTo>
                            <a:lnTo>
                              <a:pt x="14846" y="20814"/>
                            </a:lnTo>
                            <a:lnTo>
                              <a:pt x="15321" y="17761"/>
                            </a:lnTo>
                            <a:lnTo>
                              <a:pt x="18437" y="18437"/>
                            </a:lnTo>
                            <a:lnTo>
                              <a:pt x="17681" y="15441"/>
                            </a:lnTo>
                            <a:lnTo>
                              <a:pt x="20741" y="15020"/>
                            </a:lnTo>
                            <a:lnTo>
                              <a:pt x="18919" y="12526"/>
                            </a:lnTo>
                            <a:lnTo>
                              <a:pt x="21600" y="10800"/>
                            </a:lnTo>
                            <a:lnTo>
                              <a:pt x="18948" y="9216"/>
                            </a:lnTo>
                            <a:lnTo>
                              <a:pt x="20814" y="6754"/>
                            </a:lnTo>
                            <a:lnTo>
                              <a:pt x="17761" y="6279"/>
                            </a:lnTo>
                            <a:lnTo>
                              <a:pt x="18437" y="3163"/>
                            </a:lnTo>
                            <a:lnTo>
                              <a:pt x="15441" y="3919"/>
                            </a:lnTo>
                            <a:lnTo>
                              <a:pt x="15020" y="859"/>
                            </a:lnTo>
                            <a:lnTo>
                              <a:pt x="12526" y="2681"/>
                            </a:lnTo>
                            <a:lnTo>
                              <a:pt x="10800" y="0"/>
                            </a:lnTo>
                            <a:lnTo>
                              <a:pt x="9216" y="2652"/>
                            </a:lnTo>
                            <a:lnTo>
                              <a:pt x="6754" y="786"/>
                            </a:lnTo>
                            <a:lnTo>
                              <a:pt x="6279" y="3839"/>
                            </a:lnTo>
                            <a:lnTo>
                              <a:pt x="3163" y="3163"/>
                            </a:lnTo>
                            <a:lnTo>
                              <a:pt x="3919" y="6159"/>
                            </a:lnTo>
                            <a:lnTo>
                              <a:pt x="859" y="6580"/>
                            </a:lnTo>
                            <a:lnTo>
                              <a:pt x="2681" y="9074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1260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" name=""/>
                      <p:cNvSpPr/>
                      <p:nvPr/>
                    </p:nvSpPr>
                    <p:spPr>
                      <a:xfrm rot="1200000">
                        <a:off x="8284680" y="2017440"/>
                        <a:ext cx="367920" cy="370800"/>
                      </a:xfrm>
                      <a:custGeom>
                        <a:avLst/>
                        <a:gdLst>
                          <a:gd name="textAreaLeft" fmla="*/ 83880 w 367920"/>
                          <a:gd name="textAreaRight" fmla="*/ 284040 w 367920"/>
                          <a:gd name="textAreaTop" fmla="*/ 84600 h 370800"/>
                          <a:gd name="textAreaBottom" fmla="*/ 286200 h 3708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2652" y="12384"/>
                            </a:lnTo>
                            <a:lnTo>
                              <a:pt x="786" y="14846"/>
                            </a:lnTo>
                            <a:lnTo>
                              <a:pt x="3839" y="15321"/>
                            </a:lnTo>
                            <a:lnTo>
                              <a:pt x="3163" y="18437"/>
                            </a:lnTo>
                            <a:lnTo>
                              <a:pt x="6159" y="17681"/>
                            </a:lnTo>
                            <a:lnTo>
                              <a:pt x="6580" y="20741"/>
                            </a:lnTo>
                            <a:lnTo>
                              <a:pt x="9074" y="18919"/>
                            </a:lnTo>
                            <a:lnTo>
                              <a:pt x="10800" y="21600"/>
                            </a:lnTo>
                            <a:lnTo>
                              <a:pt x="12384" y="18948"/>
                            </a:lnTo>
                            <a:lnTo>
                              <a:pt x="14846" y="20814"/>
                            </a:lnTo>
                            <a:lnTo>
                              <a:pt x="15321" y="17761"/>
                            </a:lnTo>
                            <a:lnTo>
                              <a:pt x="18437" y="18437"/>
                            </a:lnTo>
                            <a:lnTo>
                              <a:pt x="17681" y="15441"/>
                            </a:lnTo>
                            <a:lnTo>
                              <a:pt x="20741" y="15020"/>
                            </a:lnTo>
                            <a:lnTo>
                              <a:pt x="18919" y="12526"/>
                            </a:lnTo>
                            <a:lnTo>
                              <a:pt x="21600" y="10800"/>
                            </a:lnTo>
                            <a:lnTo>
                              <a:pt x="18948" y="9216"/>
                            </a:lnTo>
                            <a:lnTo>
                              <a:pt x="20814" y="6754"/>
                            </a:lnTo>
                            <a:lnTo>
                              <a:pt x="17761" y="6279"/>
                            </a:lnTo>
                            <a:lnTo>
                              <a:pt x="18437" y="3163"/>
                            </a:lnTo>
                            <a:lnTo>
                              <a:pt x="15441" y="3919"/>
                            </a:lnTo>
                            <a:lnTo>
                              <a:pt x="15020" y="859"/>
                            </a:lnTo>
                            <a:lnTo>
                              <a:pt x="12526" y="2681"/>
                            </a:lnTo>
                            <a:lnTo>
                              <a:pt x="10800" y="0"/>
                            </a:lnTo>
                            <a:lnTo>
                              <a:pt x="9216" y="2652"/>
                            </a:lnTo>
                            <a:lnTo>
                              <a:pt x="6754" y="786"/>
                            </a:lnTo>
                            <a:lnTo>
                              <a:pt x="6279" y="3839"/>
                            </a:lnTo>
                            <a:lnTo>
                              <a:pt x="3163" y="3163"/>
                            </a:lnTo>
                            <a:lnTo>
                              <a:pt x="3919" y="6159"/>
                            </a:lnTo>
                            <a:lnTo>
                              <a:pt x="859" y="6580"/>
                            </a:lnTo>
                            <a:lnTo>
                              <a:pt x="2681" y="9074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1260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" name=""/>
                      <p:cNvSpPr/>
                      <p:nvPr/>
                    </p:nvSpPr>
                    <p:spPr>
                      <a:xfrm rot="1200000">
                        <a:off x="8016120" y="2261880"/>
                        <a:ext cx="367920" cy="371160"/>
                      </a:xfrm>
                      <a:custGeom>
                        <a:avLst/>
                        <a:gdLst>
                          <a:gd name="textAreaLeft" fmla="*/ 83880 w 367920"/>
                          <a:gd name="textAreaRight" fmla="*/ 284040 w 367920"/>
                          <a:gd name="textAreaTop" fmla="*/ 84600 h 371160"/>
                          <a:gd name="textAreaBottom" fmla="*/ 286560 h 371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2652" y="12384"/>
                            </a:lnTo>
                            <a:lnTo>
                              <a:pt x="786" y="14846"/>
                            </a:lnTo>
                            <a:lnTo>
                              <a:pt x="3839" y="15321"/>
                            </a:lnTo>
                            <a:lnTo>
                              <a:pt x="3163" y="18437"/>
                            </a:lnTo>
                            <a:lnTo>
                              <a:pt x="6159" y="17681"/>
                            </a:lnTo>
                            <a:lnTo>
                              <a:pt x="6580" y="20741"/>
                            </a:lnTo>
                            <a:lnTo>
                              <a:pt x="9074" y="18919"/>
                            </a:lnTo>
                            <a:lnTo>
                              <a:pt x="10800" y="21600"/>
                            </a:lnTo>
                            <a:lnTo>
                              <a:pt x="12384" y="18948"/>
                            </a:lnTo>
                            <a:lnTo>
                              <a:pt x="14846" y="20814"/>
                            </a:lnTo>
                            <a:lnTo>
                              <a:pt x="15321" y="17761"/>
                            </a:lnTo>
                            <a:lnTo>
                              <a:pt x="18437" y="18437"/>
                            </a:lnTo>
                            <a:lnTo>
                              <a:pt x="17681" y="15441"/>
                            </a:lnTo>
                            <a:lnTo>
                              <a:pt x="20741" y="15020"/>
                            </a:lnTo>
                            <a:lnTo>
                              <a:pt x="18919" y="12526"/>
                            </a:lnTo>
                            <a:lnTo>
                              <a:pt x="21600" y="10800"/>
                            </a:lnTo>
                            <a:lnTo>
                              <a:pt x="18948" y="9216"/>
                            </a:lnTo>
                            <a:lnTo>
                              <a:pt x="20814" y="6754"/>
                            </a:lnTo>
                            <a:lnTo>
                              <a:pt x="17761" y="6279"/>
                            </a:lnTo>
                            <a:lnTo>
                              <a:pt x="18437" y="3163"/>
                            </a:lnTo>
                            <a:lnTo>
                              <a:pt x="15441" y="3919"/>
                            </a:lnTo>
                            <a:lnTo>
                              <a:pt x="15020" y="859"/>
                            </a:lnTo>
                            <a:lnTo>
                              <a:pt x="12526" y="2681"/>
                            </a:lnTo>
                            <a:lnTo>
                              <a:pt x="10800" y="0"/>
                            </a:lnTo>
                            <a:lnTo>
                              <a:pt x="9216" y="2652"/>
                            </a:lnTo>
                            <a:lnTo>
                              <a:pt x="6754" y="786"/>
                            </a:lnTo>
                            <a:lnTo>
                              <a:pt x="6279" y="3839"/>
                            </a:lnTo>
                            <a:lnTo>
                              <a:pt x="3163" y="3163"/>
                            </a:lnTo>
                            <a:lnTo>
                              <a:pt x="3919" y="6159"/>
                            </a:lnTo>
                            <a:lnTo>
                              <a:pt x="859" y="6580"/>
                            </a:lnTo>
                            <a:lnTo>
                              <a:pt x="2681" y="9074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1260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" name=""/>
                      <p:cNvSpPr/>
                      <p:nvPr/>
                    </p:nvSpPr>
                    <p:spPr>
                      <a:xfrm rot="1200000">
                        <a:off x="8395560" y="2407680"/>
                        <a:ext cx="367920" cy="371160"/>
                      </a:xfrm>
                      <a:custGeom>
                        <a:avLst/>
                        <a:gdLst>
                          <a:gd name="textAreaLeft" fmla="*/ 83880 w 367920"/>
                          <a:gd name="textAreaRight" fmla="*/ 284040 w 367920"/>
                          <a:gd name="textAreaTop" fmla="*/ 84600 h 371160"/>
                          <a:gd name="textAreaBottom" fmla="*/ 286560 h 371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2652" y="12384"/>
                            </a:lnTo>
                            <a:lnTo>
                              <a:pt x="786" y="14846"/>
                            </a:lnTo>
                            <a:lnTo>
                              <a:pt x="3839" y="15321"/>
                            </a:lnTo>
                            <a:lnTo>
                              <a:pt x="3163" y="18437"/>
                            </a:lnTo>
                            <a:lnTo>
                              <a:pt x="6159" y="17681"/>
                            </a:lnTo>
                            <a:lnTo>
                              <a:pt x="6580" y="20741"/>
                            </a:lnTo>
                            <a:lnTo>
                              <a:pt x="9074" y="18919"/>
                            </a:lnTo>
                            <a:lnTo>
                              <a:pt x="10800" y="21600"/>
                            </a:lnTo>
                            <a:lnTo>
                              <a:pt x="12384" y="18948"/>
                            </a:lnTo>
                            <a:lnTo>
                              <a:pt x="14846" y="20814"/>
                            </a:lnTo>
                            <a:lnTo>
                              <a:pt x="15321" y="17761"/>
                            </a:lnTo>
                            <a:lnTo>
                              <a:pt x="18437" y="18437"/>
                            </a:lnTo>
                            <a:lnTo>
                              <a:pt x="17681" y="15441"/>
                            </a:lnTo>
                            <a:lnTo>
                              <a:pt x="20741" y="15020"/>
                            </a:lnTo>
                            <a:lnTo>
                              <a:pt x="18919" y="12526"/>
                            </a:lnTo>
                            <a:lnTo>
                              <a:pt x="21600" y="10800"/>
                            </a:lnTo>
                            <a:lnTo>
                              <a:pt x="18948" y="9216"/>
                            </a:lnTo>
                            <a:lnTo>
                              <a:pt x="20814" y="6754"/>
                            </a:lnTo>
                            <a:lnTo>
                              <a:pt x="17761" y="6279"/>
                            </a:lnTo>
                            <a:lnTo>
                              <a:pt x="18437" y="3163"/>
                            </a:lnTo>
                            <a:lnTo>
                              <a:pt x="15441" y="3919"/>
                            </a:lnTo>
                            <a:lnTo>
                              <a:pt x="15020" y="859"/>
                            </a:lnTo>
                            <a:lnTo>
                              <a:pt x="12526" y="2681"/>
                            </a:lnTo>
                            <a:lnTo>
                              <a:pt x="10800" y="0"/>
                            </a:lnTo>
                            <a:lnTo>
                              <a:pt x="9216" y="2652"/>
                            </a:lnTo>
                            <a:lnTo>
                              <a:pt x="6754" y="786"/>
                            </a:lnTo>
                            <a:lnTo>
                              <a:pt x="6279" y="3839"/>
                            </a:lnTo>
                            <a:lnTo>
                              <a:pt x="3163" y="3163"/>
                            </a:lnTo>
                            <a:lnTo>
                              <a:pt x="3919" y="6159"/>
                            </a:lnTo>
                            <a:lnTo>
                              <a:pt x="859" y="6580"/>
                            </a:lnTo>
                            <a:lnTo>
                              <a:pt x="2681" y="9074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1260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" name=""/>
                      <p:cNvSpPr/>
                      <p:nvPr/>
                    </p:nvSpPr>
                    <p:spPr>
                      <a:xfrm rot="1200000">
                        <a:off x="8638200" y="2187000"/>
                        <a:ext cx="367920" cy="371160"/>
                      </a:xfrm>
                      <a:custGeom>
                        <a:avLst/>
                        <a:gdLst>
                          <a:gd name="textAreaLeft" fmla="*/ 83880 w 367920"/>
                          <a:gd name="textAreaRight" fmla="*/ 284040 w 367920"/>
                          <a:gd name="textAreaTop" fmla="*/ 84600 h 371160"/>
                          <a:gd name="textAreaBottom" fmla="*/ 286560 h 371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2652" y="12384"/>
                            </a:lnTo>
                            <a:lnTo>
                              <a:pt x="786" y="14846"/>
                            </a:lnTo>
                            <a:lnTo>
                              <a:pt x="3839" y="15321"/>
                            </a:lnTo>
                            <a:lnTo>
                              <a:pt x="3163" y="18437"/>
                            </a:lnTo>
                            <a:lnTo>
                              <a:pt x="6159" y="17681"/>
                            </a:lnTo>
                            <a:lnTo>
                              <a:pt x="6580" y="20741"/>
                            </a:lnTo>
                            <a:lnTo>
                              <a:pt x="9074" y="18919"/>
                            </a:lnTo>
                            <a:lnTo>
                              <a:pt x="10800" y="21600"/>
                            </a:lnTo>
                            <a:lnTo>
                              <a:pt x="12384" y="18948"/>
                            </a:lnTo>
                            <a:lnTo>
                              <a:pt x="14846" y="20814"/>
                            </a:lnTo>
                            <a:lnTo>
                              <a:pt x="15321" y="17761"/>
                            </a:lnTo>
                            <a:lnTo>
                              <a:pt x="18437" y="18437"/>
                            </a:lnTo>
                            <a:lnTo>
                              <a:pt x="17681" y="15441"/>
                            </a:lnTo>
                            <a:lnTo>
                              <a:pt x="20741" y="15020"/>
                            </a:lnTo>
                            <a:lnTo>
                              <a:pt x="18919" y="12526"/>
                            </a:lnTo>
                            <a:lnTo>
                              <a:pt x="21600" y="10800"/>
                            </a:lnTo>
                            <a:lnTo>
                              <a:pt x="18948" y="9216"/>
                            </a:lnTo>
                            <a:lnTo>
                              <a:pt x="20814" y="6754"/>
                            </a:lnTo>
                            <a:lnTo>
                              <a:pt x="17761" y="6279"/>
                            </a:lnTo>
                            <a:lnTo>
                              <a:pt x="18437" y="3163"/>
                            </a:lnTo>
                            <a:lnTo>
                              <a:pt x="15441" y="3919"/>
                            </a:lnTo>
                            <a:lnTo>
                              <a:pt x="15020" y="859"/>
                            </a:lnTo>
                            <a:lnTo>
                              <a:pt x="12526" y="2681"/>
                            </a:lnTo>
                            <a:lnTo>
                              <a:pt x="10800" y="0"/>
                            </a:lnTo>
                            <a:lnTo>
                              <a:pt x="9216" y="2652"/>
                            </a:lnTo>
                            <a:lnTo>
                              <a:pt x="6754" y="786"/>
                            </a:lnTo>
                            <a:lnTo>
                              <a:pt x="6279" y="3839"/>
                            </a:lnTo>
                            <a:lnTo>
                              <a:pt x="3163" y="3163"/>
                            </a:lnTo>
                            <a:lnTo>
                              <a:pt x="3919" y="6159"/>
                            </a:lnTo>
                            <a:lnTo>
                              <a:pt x="859" y="6580"/>
                            </a:lnTo>
                            <a:lnTo>
                              <a:pt x="2681" y="9074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1260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101" name=""/>
            <p:cNvSpPr/>
            <p:nvPr/>
          </p:nvSpPr>
          <p:spPr>
            <a:xfrm>
              <a:off x="6594840" y="2649960"/>
              <a:ext cx="294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 phase gene: 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78920" y="519120"/>
              <a:ext cx="157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Rb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-repres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343480" y="3519360"/>
            <a:ext cx="4124520" cy="2797200"/>
            <a:chOff x="5343480" y="3519360"/>
            <a:chExt cx="4124520" cy="2797200"/>
          </a:xfrm>
        </p:grpSpPr>
        <p:grpSp>
          <p:nvGrpSpPr>
            <p:cNvPr id="104" name=""/>
            <p:cNvGrpSpPr/>
            <p:nvPr/>
          </p:nvGrpSpPr>
          <p:grpSpPr>
            <a:xfrm>
              <a:off x="5343480" y="3728880"/>
              <a:ext cx="4124520" cy="2530440"/>
              <a:chOff x="5343480" y="3728880"/>
              <a:chExt cx="4124520" cy="253044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6674040" y="3862080"/>
                <a:ext cx="1158480" cy="1064160"/>
                <a:chOff x="6674040" y="3862080"/>
                <a:chExt cx="1158480" cy="1064160"/>
              </a:xfrm>
            </p:grpSpPr>
            <p:grpSp>
              <p:nvGrpSpPr>
                <p:cNvPr id="106" name=""/>
                <p:cNvGrpSpPr/>
                <p:nvPr/>
              </p:nvGrpSpPr>
              <p:grpSpPr>
                <a:xfrm>
                  <a:off x="6674040" y="3862080"/>
                  <a:ext cx="1158480" cy="1064160"/>
                  <a:chOff x="6674040" y="3862080"/>
                  <a:chExt cx="1158480" cy="1064160"/>
                </a:xfrm>
              </p:grpSpPr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6674040" y="3865320"/>
                    <a:ext cx="872640" cy="1060920"/>
                    <a:chOff x="6674040" y="3865320"/>
                    <a:chExt cx="872640" cy="1060920"/>
                  </a:xfrm>
                </p:grpSpPr>
                <p:sp>
                  <p:nvSpPr>
                    <p:cNvPr id="108" name=""/>
                    <p:cNvSpPr/>
                    <p:nvPr/>
                  </p:nvSpPr>
                  <p:spPr>
                    <a:xfrm flipH="1" flipV="1" rot="4513800">
                      <a:off x="6657120" y="4070880"/>
                      <a:ext cx="906480" cy="663480"/>
                    </a:xfrm>
                    <a:custGeom>
                      <a:avLst/>
                      <a:gdLst>
                        <a:gd name="textAreaLeft" fmla="*/ 100800 w 906480"/>
                        <a:gd name="textAreaRight" fmla="*/ 805680 w 906480"/>
                        <a:gd name="textAreaTop" fmla="*/ 73800 h 663480"/>
                        <a:gd name="textAreaBottom" fmla="*/ 589680 h 6634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424" y="21600"/>
                          </a:lnTo>
                          <a:lnTo>
                            <a:pt x="1176" y="21600"/>
                          </a:lnTo>
                          <a:close/>
                        </a:path>
                      </a:pathLst>
                    </a:custGeom>
                    <a:solidFill>
                      <a:srgbClr val="00cc99">
                        <a:alpha val="50000"/>
                      </a:srgbClr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 rot="20713200">
                      <a:off x="6713280" y="3938040"/>
                      <a:ext cx="61344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108920" y="3862080"/>
                    <a:ext cx="723600" cy="490680"/>
                    <a:chOff x="7108920" y="3862080"/>
                    <a:chExt cx="723600" cy="490680"/>
                  </a:xfrm>
                </p:grpSpPr>
                <p:grpSp>
                  <p:nvGrpSpPr>
                    <p:cNvPr id="111" name=""/>
                    <p:cNvGrpSpPr/>
                    <p:nvPr/>
                  </p:nvGrpSpPr>
                  <p:grpSpPr>
                    <a:xfrm>
                      <a:off x="7108920" y="3862080"/>
                      <a:ext cx="723600" cy="490680"/>
                      <a:chOff x="7108920" y="3862080"/>
                      <a:chExt cx="723600" cy="490680"/>
                    </a:xfrm>
                  </p:grpSpPr>
                  <p:sp>
                    <p:nvSpPr>
                      <p:cNvPr id="112" name=""/>
                      <p:cNvSpPr/>
                      <p:nvPr/>
                    </p:nvSpPr>
                    <p:spPr>
                      <a:xfrm rot="20713200">
                        <a:off x="7140240" y="3923640"/>
                        <a:ext cx="525600" cy="315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1" h="199">
                            <a:moveTo>
                              <a:pt x="0" y="198"/>
                            </a:moveTo>
                            <a:lnTo>
                              <a:pt x="285" y="135"/>
                            </a:lnTo>
                            <a:lnTo>
                              <a:pt x="330" y="0"/>
                            </a:lnTo>
                            <a:lnTo>
                              <a:pt x="15" y="162"/>
                            </a:lnTo>
                            <a:lnTo>
                              <a:pt x="0" y="198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" name=""/>
                      <p:cNvSpPr/>
                      <p:nvPr/>
                    </p:nvSpPr>
                    <p:spPr>
                      <a:xfrm rot="20713200">
                        <a:off x="7606080" y="4034520"/>
                        <a:ext cx="149040" cy="12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" h="79">
                            <a:moveTo>
                              <a:pt x="0" y="18"/>
                            </a:moveTo>
                            <a:lnTo>
                              <a:pt x="93" y="78"/>
                            </a:lnTo>
                            <a:lnTo>
                              <a:pt x="15" y="0"/>
                            </a:lnTo>
                            <a:lnTo>
                              <a:pt x="0" y="18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" name=""/>
                      <p:cNvSpPr/>
                      <p:nvPr/>
                    </p:nvSpPr>
                    <p:spPr>
                      <a:xfrm rot="20713200">
                        <a:off x="7208640" y="4132080"/>
                        <a:ext cx="430200" cy="16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1" h="106">
                            <a:moveTo>
                              <a:pt x="0" y="66"/>
                            </a:moveTo>
                            <a:lnTo>
                              <a:pt x="3" y="105"/>
                            </a:lnTo>
                            <a:lnTo>
                              <a:pt x="270" y="48"/>
                            </a:lnTo>
                            <a:lnTo>
                              <a:pt x="270" y="0"/>
                            </a:lnTo>
                            <a:lnTo>
                              <a:pt x="0" y="66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" name=""/>
                      <p:cNvSpPr/>
                      <p:nvPr/>
                    </p:nvSpPr>
                    <p:spPr>
                      <a:xfrm rot="20713200">
                        <a:off x="7619040" y="4030200"/>
                        <a:ext cx="1969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4" h="97">
                            <a:moveTo>
                              <a:pt x="0" y="66"/>
                            </a:moveTo>
                            <a:lnTo>
                              <a:pt x="123" y="96"/>
                            </a:lnTo>
                            <a:lnTo>
                              <a:pt x="9" y="0"/>
                            </a:lnTo>
                            <a:lnTo>
                              <a:pt x="0" y="18"/>
                            </a:lnTo>
                            <a:lnTo>
                              <a:pt x="0" y="66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6" name=""/>
                    <p:cNvSpPr/>
                    <p:nvPr/>
                  </p:nvSpPr>
                  <p:spPr>
                    <a:xfrm rot="19933200">
                      <a:off x="7275960" y="3999600"/>
                      <a:ext cx="406080" cy="214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7" name=""/>
                <p:cNvGrpSpPr/>
                <p:nvPr/>
              </p:nvGrpSpPr>
              <p:grpSpPr>
                <a:xfrm>
                  <a:off x="7044840" y="4313520"/>
                  <a:ext cx="486000" cy="503640"/>
                  <a:chOff x="7044840" y="4313520"/>
                  <a:chExt cx="486000" cy="50364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 rot="20713200">
                    <a:off x="7091280" y="4356360"/>
                    <a:ext cx="392400" cy="417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 rot="20713200">
                    <a:off x="7143840" y="4359960"/>
                    <a:ext cx="33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00"/>
                        </a:solidFill>
                        <a:latin typeface="Arial Black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" name=""/>
              <p:cNvGrpSpPr/>
              <p:nvPr/>
            </p:nvGrpSpPr>
            <p:grpSpPr>
              <a:xfrm>
                <a:off x="5343480" y="3728880"/>
                <a:ext cx="4124520" cy="2530440"/>
                <a:chOff x="5343480" y="3728880"/>
                <a:chExt cx="4124520" cy="253044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5343480" y="3728880"/>
                  <a:ext cx="2279160" cy="2276280"/>
                  <a:chOff x="5343480" y="3728880"/>
                  <a:chExt cx="2279160" cy="227628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5343480" y="3728880"/>
                    <a:ext cx="1566360" cy="220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082" y="20220"/>
                        </a:moveTo>
                        <a:arcTo wR="10800" hR="10800" stAng="3643245" swAng="1841281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082" y="20220"/>
                        </a:moveTo>
                        <a:arcTo wR="10800" hR="10800" stAng="3643245" swAng="18412810"/>
                      </a:path>
                    </a:pathLst>
                  </a:custGeom>
                  <a:solidFill>
                    <a:srgbClr val="ccccff"/>
                  </a:solidFill>
                  <a:ln w="936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6059520" y="4165200"/>
                    <a:ext cx="1563120" cy="1839960"/>
                    <a:chOff x="6059520" y="4165200"/>
                    <a:chExt cx="1563120" cy="1839960"/>
                  </a:xfrm>
                </p:grpSpPr>
                <p:grpSp>
                  <p:nvGrpSpPr>
                    <p:cNvPr id="124" name=""/>
                    <p:cNvGrpSpPr/>
                    <p:nvPr/>
                  </p:nvGrpSpPr>
                  <p:grpSpPr>
                    <a:xfrm>
                      <a:off x="6059520" y="4165200"/>
                      <a:ext cx="1563120" cy="1839960"/>
                      <a:chOff x="6059520" y="4165200"/>
                      <a:chExt cx="1563120" cy="1839960"/>
                    </a:xfrm>
                  </p:grpSpPr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6070320" y="4165200"/>
                        <a:ext cx="834120" cy="175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252" y="15848"/>
                            </a:moveTo>
                            <a:arcTo wR="10800" hR="10800" stAng="9128189" swAng="12216431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252" y="15848"/>
                            </a:moveTo>
                            <a:arcTo wR="10800" hR="10800" stAng="9128189" swAng="12216431"/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" name=""/>
                      <p:cNvSpPr/>
                      <p:nvPr/>
                    </p:nvSpPr>
                    <p:spPr>
                      <a:xfrm>
                        <a:off x="6108480" y="4978080"/>
                        <a:ext cx="1514160" cy="85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5399" y="20153"/>
                            </a:moveTo>
                            <a:arcTo wR="10800" hR="10800" stAng="7200259" swAng="915071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5399" y="20153"/>
                            </a:moveTo>
                            <a:arcTo wR="10800" hR="10800" stAng="7200259" swAng="9150710"/>
                          </a:path>
                        </a:pathLst>
                      </a:custGeom>
                      <a:solidFill>
                        <a:srgbClr val="ccccff"/>
                      </a:solidFill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" name=""/>
                      <p:cNvSpPr/>
                      <p:nvPr/>
                    </p:nvSpPr>
                    <p:spPr>
                      <a:xfrm>
                        <a:off x="6414840" y="4979880"/>
                        <a:ext cx="977400" cy="102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96" y="16610"/>
                            </a:moveTo>
                            <a:arcTo wR="10800" hR="10800" stAng="8847356" swAng="7341483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96" y="16610"/>
                            </a:moveTo>
                            <a:arcTo wR="10800" hR="10800" stAng="8847356" swAng="7341483"/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" name=""/>
                      <p:cNvSpPr/>
                      <p:nvPr/>
                    </p:nvSpPr>
                    <p:spPr>
                      <a:xfrm>
                        <a:off x="6060960" y="4647960"/>
                        <a:ext cx="779400" cy="275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TAF 250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" name=""/>
                      <p:cNvSpPr/>
                      <p:nvPr/>
                    </p:nvSpPr>
                    <p:spPr>
                      <a:xfrm>
                        <a:off x="6319080" y="4746240"/>
                        <a:ext cx="255240" cy="244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II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" name=""/>
                      <p:cNvSpPr/>
                      <p:nvPr/>
                    </p:nvSpPr>
                    <p:spPr>
                      <a:xfrm rot="18240000">
                        <a:off x="6064200" y="5255280"/>
                        <a:ext cx="438120" cy="244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TB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6181560" y="4468680"/>
                      <a:ext cx="624960" cy="18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10683511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10683511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6302160" y="4260600"/>
                      <a:ext cx="240120" cy="73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00"/>
                          </a:moveTo>
                          <a:arcTo wR="10800" hR="10800" stAng="10800000" swAng="776763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00"/>
                          </a:moveTo>
                          <a:arcTo wR="10800" hR="10800" stAng="10800000" swAng="7767635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6451920" y="4260600"/>
                      <a:ext cx="248400" cy="73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3821" y="2558"/>
                          </a:moveTo>
                          <a:arcTo wR="10800" hR="10800" stAng="-7815428" swAng="781542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3821" y="2558"/>
                          </a:moveTo>
                          <a:arcTo wR="10800" hR="10800" stAng="-7815428" swAng="7815428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6270120" y="4377960"/>
                      <a:ext cx="488160" cy="259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5425920" y="4803840"/>
                  <a:ext cx="4042080" cy="1455480"/>
                  <a:chOff x="5425920" y="4803840"/>
                  <a:chExt cx="4042080" cy="1455480"/>
                </a:xfrm>
              </p:grpSpPr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7772400" y="4803840"/>
                    <a:ext cx="1695600" cy="1055520"/>
                    <a:chOff x="7772400" y="4803840"/>
                    <a:chExt cx="1695600" cy="105552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 flipV="1">
                      <a:off x="9168120" y="5406480"/>
                      <a:ext cx="299880" cy="32040"/>
                    </a:xfrm>
                    <a:prstGeom prst="line">
                      <a:avLst/>
                    </a:prstGeom>
                    <a:ln w="507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8" name=""/>
                    <p:cNvGrpSpPr/>
                    <p:nvPr/>
                  </p:nvGrpSpPr>
                  <p:grpSpPr>
                    <a:xfrm>
                      <a:off x="8029800" y="4803840"/>
                      <a:ext cx="348840" cy="588960"/>
                      <a:chOff x="8029800" y="4803840"/>
                      <a:chExt cx="348840" cy="588960"/>
                    </a:xfrm>
                  </p:grpSpPr>
                  <p:sp>
                    <p:nvSpPr>
                      <p:cNvPr id="139" name=""/>
                      <p:cNvSpPr/>
                      <p:nvPr/>
                    </p:nvSpPr>
                    <p:spPr>
                      <a:xfrm flipH="1">
                        <a:off x="8029800" y="5102280"/>
                        <a:ext cx="201600" cy="223560"/>
                      </a:xfrm>
                      <a:prstGeom prst="line">
                        <a:avLst/>
                      </a:prstGeom>
                      <a:ln w="12600">
                        <a:solidFill>
                          <a:srgbClr val="00cc99"/>
                        </a:solidFill>
                        <a:miter/>
                        <a:headEnd len="med" type="diamond" w="med"/>
                        <a:tailEnd len="med" type="diamond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" name=""/>
                      <p:cNvSpPr/>
                      <p:nvPr/>
                    </p:nvSpPr>
                    <p:spPr>
                      <a:xfrm flipH="1">
                        <a:off x="8219880" y="4824360"/>
                        <a:ext cx="158760" cy="279360"/>
                      </a:xfrm>
                      <a:prstGeom prst="line">
                        <a:avLst/>
                      </a:prstGeom>
                      <a:ln w="12600">
                        <a:solidFill>
                          <a:srgbClr val="00cc99"/>
                        </a:solidFill>
                        <a:miter/>
                        <a:headEnd len="med" type="diamond" w="med"/>
                        <a:tailEnd len="med" type="diamond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" name=""/>
                      <p:cNvSpPr/>
                      <p:nvPr/>
                    </p:nvSpPr>
                    <p:spPr>
                      <a:xfrm flipH="1">
                        <a:off x="8186760" y="4803840"/>
                        <a:ext cx="46080" cy="271440"/>
                      </a:xfrm>
                      <a:prstGeom prst="line">
                        <a:avLst/>
                      </a:prstGeom>
                      <a:ln w="12600">
                        <a:solidFill>
                          <a:srgbClr val="00cc99"/>
                        </a:solidFill>
                        <a:miter/>
                        <a:headEnd len="med" type="diamond" w="med"/>
                        <a:tailEnd len="med" type="diamond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" name=""/>
                      <p:cNvSpPr/>
                      <p:nvPr/>
                    </p:nvSpPr>
                    <p:spPr>
                      <a:xfrm flipH="1">
                        <a:off x="8119800" y="5133960"/>
                        <a:ext cx="117720" cy="255600"/>
                      </a:xfrm>
                      <a:prstGeom prst="line">
                        <a:avLst/>
                      </a:prstGeom>
                      <a:ln w="12600">
                        <a:solidFill>
                          <a:srgbClr val="00cc99"/>
                        </a:solidFill>
                        <a:miter/>
                        <a:headEnd len="med" type="diamond" w="med"/>
                        <a:tailEnd len="med" type="diamond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" name=""/>
                      <p:cNvSpPr/>
                      <p:nvPr/>
                    </p:nvSpPr>
                    <p:spPr>
                      <a:xfrm>
                        <a:off x="8245800" y="5097240"/>
                        <a:ext cx="42840" cy="295560"/>
                      </a:xfrm>
                      <a:prstGeom prst="line">
                        <a:avLst/>
                      </a:prstGeom>
                      <a:ln w="12600">
                        <a:solidFill>
                          <a:srgbClr val="00cc99"/>
                        </a:solidFill>
                        <a:miter/>
                        <a:headEnd len="med" type="diamond" w="med"/>
                        <a:tailEnd len="med" type="diamond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4" name=""/>
                    <p:cNvGrpSpPr/>
                    <p:nvPr/>
                  </p:nvGrpSpPr>
                  <p:grpSpPr>
                    <a:xfrm>
                      <a:off x="8854920" y="5270400"/>
                      <a:ext cx="357480" cy="588960"/>
                      <a:chOff x="8854920" y="5270400"/>
                      <a:chExt cx="357480" cy="588960"/>
                    </a:xfrm>
                  </p:grpSpPr>
                  <p:sp>
                    <p:nvSpPr>
                      <p:cNvPr id="145" name=""/>
                      <p:cNvSpPr/>
                      <p:nvPr/>
                    </p:nvSpPr>
                    <p:spPr>
                      <a:xfrm flipH="1">
                        <a:off x="8854920" y="5568840"/>
                        <a:ext cx="204840" cy="219240"/>
                      </a:xfrm>
                      <a:prstGeom prst="line">
                        <a:avLst/>
                      </a:prstGeom>
                      <a:ln w="12600">
                        <a:solidFill>
                          <a:srgbClr val="00cc99"/>
                        </a:solidFill>
                        <a:miter/>
                        <a:headEnd len="med" type="diamond" w="med"/>
                        <a:tailEnd len="med" type="diamond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" name=""/>
                      <p:cNvSpPr/>
                      <p:nvPr/>
                    </p:nvSpPr>
                    <p:spPr>
                      <a:xfrm flipH="1">
                        <a:off x="9050400" y="5292720"/>
                        <a:ext cx="162000" cy="277920"/>
                      </a:xfrm>
                      <a:prstGeom prst="line">
                        <a:avLst/>
                      </a:prstGeom>
                      <a:ln w="12600">
                        <a:solidFill>
                          <a:srgbClr val="00cc99"/>
                        </a:solidFill>
                        <a:miter/>
                        <a:headEnd len="med" type="diamond" w="med"/>
                        <a:tailEnd len="med" type="diamond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" name=""/>
                      <p:cNvSpPr/>
                      <p:nvPr/>
                    </p:nvSpPr>
                    <p:spPr>
                      <a:xfrm flipH="1">
                        <a:off x="9017280" y="5270400"/>
                        <a:ext cx="48960" cy="271440"/>
                      </a:xfrm>
                      <a:prstGeom prst="line">
                        <a:avLst/>
                      </a:prstGeom>
                      <a:ln w="12600">
                        <a:solidFill>
                          <a:srgbClr val="00cc99"/>
                        </a:solidFill>
                        <a:miter/>
                        <a:headEnd len="med" type="diamond" w="med"/>
                        <a:tailEnd len="med" type="diamond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" name=""/>
                      <p:cNvSpPr/>
                      <p:nvPr/>
                    </p:nvSpPr>
                    <p:spPr>
                      <a:xfrm flipH="1">
                        <a:off x="8943840" y="5600520"/>
                        <a:ext cx="120600" cy="252360"/>
                      </a:xfrm>
                      <a:prstGeom prst="line">
                        <a:avLst/>
                      </a:prstGeom>
                      <a:ln w="12600">
                        <a:solidFill>
                          <a:srgbClr val="00cc99"/>
                        </a:solidFill>
                        <a:miter/>
                        <a:headEnd len="med" type="diamond" w="med"/>
                        <a:tailEnd len="med" type="diamond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" name=""/>
                      <p:cNvSpPr/>
                      <p:nvPr/>
                    </p:nvSpPr>
                    <p:spPr>
                      <a:xfrm>
                        <a:off x="9074520" y="5564160"/>
                        <a:ext cx="37800" cy="295200"/>
                      </a:xfrm>
                      <a:prstGeom prst="line">
                        <a:avLst/>
                      </a:prstGeom>
                      <a:ln w="12600">
                        <a:solidFill>
                          <a:srgbClr val="00cc99"/>
                        </a:solidFill>
                        <a:miter/>
                        <a:headEnd len="med" type="diamond" w="med"/>
                        <a:tailEnd len="med" type="diamond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0" name=""/>
                    <p:cNvGrpSpPr/>
                    <p:nvPr/>
                  </p:nvGrpSpPr>
                  <p:grpSpPr>
                    <a:xfrm>
                      <a:off x="8575920" y="4889160"/>
                      <a:ext cx="312120" cy="592200"/>
                      <a:chOff x="8575920" y="4889160"/>
                      <a:chExt cx="312120" cy="592200"/>
                    </a:xfrm>
                  </p:grpSpPr>
                  <p:sp>
                    <p:nvSpPr>
                      <p:cNvPr id="151" name=""/>
                      <p:cNvSpPr/>
                      <p:nvPr/>
                    </p:nvSpPr>
                    <p:spPr>
                      <a:xfrm flipV="1">
                        <a:off x="8704080" y="4946400"/>
                        <a:ext cx="183960" cy="236520"/>
                      </a:xfrm>
                      <a:prstGeom prst="line">
                        <a:avLst/>
                      </a:prstGeom>
                      <a:ln w="12600">
                        <a:solidFill>
                          <a:srgbClr val="00cc99"/>
                        </a:solidFill>
                        <a:miter/>
                        <a:headEnd len="med" type="diamond" w="med"/>
                        <a:tailEnd len="med" type="diamond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" name=""/>
                      <p:cNvSpPr/>
                      <p:nvPr/>
                    </p:nvSpPr>
                    <p:spPr>
                      <a:xfrm flipV="1">
                        <a:off x="8575920" y="5179680"/>
                        <a:ext cx="137880" cy="290520"/>
                      </a:xfrm>
                      <a:prstGeom prst="line">
                        <a:avLst/>
                      </a:prstGeom>
                      <a:ln w="12600">
                        <a:solidFill>
                          <a:srgbClr val="00cc99"/>
                        </a:solidFill>
                        <a:miter/>
                        <a:headEnd len="med" type="diamond" w="med"/>
                        <a:tailEnd len="med" type="diamond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3" name=""/>
                      <p:cNvSpPr/>
                      <p:nvPr/>
                    </p:nvSpPr>
                    <p:spPr>
                      <a:xfrm flipV="1">
                        <a:off x="8723160" y="5206680"/>
                        <a:ext cx="25200" cy="274680"/>
                      </a:xfrm>
                      <a:prstGeom prst="line">
                        <a:avLst/>
                      </a:prstGeom>
                      <a:ln w="12600">
                        <a:solidFill>
                          <a:srgbClr val="00cc99"/>
                        </a:solidFill>
                        <a:miter/>
                        <a:headEnd len="med" type="diamond" w="med"/>
                        <a:tailEnd len="med" type="diamond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" name=""/>
                      <p:cNvSpPr/>
                      <p:nvPr/>
                    </p:nvSpPr>
                    <p:spPr>
                      <a:xfrm flipV="1">
                        <a:off x="8696160" y="4889160"/>
                        <a:ext cx="97920" cy="261720"/>
                      </a:xfrm>
                      <a:prstGeom prst="line">
                        <a:avLst/>
                      </a:prstGeom>
                      <a:ln w="12600">
                        <a:solidFill>
                          <a:srgbClr val="00cc99"/>
                        </a:solidFill>
                        <a:miter/>
                        <a:headEnd len="med" type="diamond" w="med"/>
                        <a:tailEnd len="med" type="diamond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" name=""/>
                      <p:cNvSpPr/>
                      <p:nvPr/>
                    </p:nvSpPr>
                    <p:spPr>
                      <a:xfrm flipH="1" flipV="1">
                        <a:off x="8625960" y="4897080"/>
                        <a:ext cx="63000" cy="290520"/>
                      </a:xfrm>
                      <a:prstGeom prst="line">
                        <a:avLst/>
                      </a:prstGeom>
                      <a:ln w="12600">
                        <a:solidFill>
                          <a:srgbClr val="00cc99"/>
                        </a:solidFill>
                        <a:miter/>
                        <a:headEnd len="med" type="diamond" w="med"/>
                        <a:tailEnd len="med" type="diamond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6" name=""/>
                    <p:cNvSpPr/>
                    <p:nvPr/>
                  </p:nvSpPr>
                  <p:spPr>
                    <a:xfrm rot="1200000">
                      <a:off x="8874000" y="5362560"/>
                      <a:ext cx="369720" cy="371520"/>
                    </a:xfrm>
                    <a:custGeom>
                      <a:avLst/>
                      <a:gdLst>
                        <a:gd name="textAreaLeft" fmla="*/ 84240 w 369720"/>
                        <a:gd name="textAreaRight" fmla="*/ 285480 w 369720"/>
                        <a:gd name="textAreaTop" fmla="*/ 84600 h 371520"/>
                        <a:gd name="textAreaBottom" fmla="*/ 286920 h 371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lnTo>
                            <a:pt x="2652" y="12384"/>
                          </a:lnTo>
                          <a:lnTo>
                            <a:pt x="786" y="14846"/>
                          </a:lnTo>
                          <a:lnTo>
                            <a:pt x="3839" y="15321"/>
                          </a:lnTo>
                          <a:lnTo>
                            <a:pt x="3163" y="18437"/>
                          </a:lnTo>
                          <a:lnTo>
                            <a:pt x="6159" y="17681"/>
                          </a:lnTo>
                          <a:lnTo>
                            <a:pt x="6580" y="20741"/>
                          </a:lnTo>
                          <a:lnTo>
                            <a:pt x="9074" y="18919"/>
                          </a:lnTo>
                          <a:lnTo>
                            <a:pt x="10800" y="21600"/>
                          </a:lnTo>
                          <a:lnTo>
                            <a:pt x="12384" y="18948"/>
                          </a:lnTo>
                          <a:lnTo>
                            <a:pt x="14846" y="20814"/>
                          </a:lnTo>
                          <a:lnTo>
                            <a:pt x="15321" y="17761"/>
                          </a:lnTo>
                          <a:lnTo>
                            <a:pt x="18437" y="18437"/>
                          </a:lnTo>
                          <a:lnTo>
                            <a:pt x="17681" y="15441"/>
                          </a:lnTo>
                          <a:lnTo>
                            <a:pt x="20741" y="15020"/>
                          </a:lnTo>
                          <a:lnTo>
                            <a:pt x="18919" y="12526"/>
                          </a:lnTo>
                          <a:lnTo>
                            <a:pt x="21600" y="10800"/>
                          </a:lnTo>
                          <a:lnTo>
                            <a:pt x="18948" y="9216"/>
                          </a:lnTo>
                          <a:lnTo>
                            <a:pt x="20814" y="6754"/>
                          </a:lnTo>
                          <a:lnTo>
                            <a:pt x="17761" y="6279"/>
                          </a:lnTo>
                          <a:lnTo>
                            <a:pt x="18437" y="3163"/>
                          </a:lnTo>
                          <a:lnTo>
                            <a:pt x="15441" y="3919"/>
                          </a:lnTo>
                          <a:lnTo>
                            <a:pt x="15020" y="859"/>
                          </a:lnTo>
                          <a:lnTo>
                            <a:pt x="12526" y="2681"/>
                          </a:lnTo>
                          <a:lnTo>
                            <a:pt x="10800" y="0"/>
                          </a:lnTo>
                          <a:lnTo>
                            <a:pt x="9216" y="2652"/>
                          </a:lnTo>
                          <a:lnTo>
                            <a:pt x="6754" y="786"/>
                          </a:lnTo>
                          <a:lnTo>
                            <a:pt x="6279" y="3839"/>
                          </a:lnTo>
                          <a:lnTo>
                            <a:pt x="3163" y="3163"/>
                          </a:lnTo>
                          <a:lnTo>
                            <a:pt x="3919" y="6159"/>
                          </a:lnTo>
                          <a:lnTo>
                            <a:pt x="859" y="6580"/>
                          </a:lnTo>
                          <a:lnTo>
                            <a:pt x="2681" y="9074"/>
                          </a:lnTo>
                          <a:lnTo>
                            <a:pt x="0" y="10800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8844120" y="5227560"/>
                      <a:ext cx="185760" cy="512640"/>
                    </a:xfrm>
                    <a:prstGeom prst="line">
                      <a:avLst/>
                    </a:prstGeom>
                    <a:ln w="507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 flipV="1">
                      <a:off x="8280720" y="5121360"/>
                      <a:ext cx="311040" cy="115920"/>
                    </a:xfrm>
                    <a:prstGeom prst="line">
                      <a:avLst/>
                    </a:prstGeom>
                    <a:ln w="507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7772400" y="4989600"/>
                      <a:ext cx="357480" cy="10800"/>
                    </a:xfrm>
                    <a:prstGeom prst="line">
                      <a:avLst/>
                    </a:prstGeom>
                    <a:ln w="507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 rot="1200000">
                      <a:off x="8067600" y="4906440"/>
                      <a:ext cx="368280" cy="371520"/>
                    </a:xfrm>
                    <a:custGeom>
                      <a:avLst/>
                      <a:gdLst>
                        <a:gd name="textAreaLeft" fmla="*/ 83880 w 368280"/>
                        <a:gd name="textAreaRight" fmla="*/ 284400 w 368280"/>
                        <a:gd name="textAreaTop" fmla="*/ 84600 h 371520"/>
                        <a:gd name="textAreaBottom" fmla="*/ 286920 h 371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lnTo>
                            <a:pt x="2652" y="12384"/>
                          </a:lnTo>
                          <a:lnTo>
                            <a:pt x="786" y="14846"/>
                          </a:lnTo>
                          <a:lnTo>
                            <a:pt x="3839" y="15321"/>
                          </a:lnTo>
                          <a:lnTo>
                            <a:pt x="3163" y="18437"/>
                          </a:lnTo>
                          <a:lnTo>
                            <a:pt x="6159" y="17681"/>
                          </a:lnTo>
                          <a:lnTo>
                            <a:pt x="6580" y="20741"/>
                          </a:lnTo>
                          <a:lnTo>
                            <a:pt x="9074" y="18919"/>
                          </a:lnTo>
                          <a:lnTo>
                            <a:pt x="10800" y="21600"/>
                          </a:lnTo>
                          <a:lnTo>
                            <a:pt x="12384" y="18948"/>
                          </a:lnTo>
                          <a:lnTo>
                            <a:pt x="14846" y="20814"/>
                          </a:lnTo>
                          <a:lnTo>
                            <a:pt x="15321" y="17761"/>
                          </a:lnTo>
                          <a:lnTo>
                            <a:pt x="18437" y="18437"/>
                          </a:lnTo>
                          <a:lnTo>
                            <a:pt x="17681" y="15441"/>
                          </a:lnTo>
                          <a:lnTo>
                            <a:pt x="20741" y="15020"/>
                          </a:lnTo>
                          <a:lnTo>
                            <a:pt x="18919" y="12526"/>
                          </a:lnTo>
                          <a:lnTo>
                            <a:pt x="21600" y="10800"/>
                          </a:lnTo>
                          <a:lnTo>
                            <a:pt x="18948" y="9216"/>
                          </a:lnTo>
                          <a:lnTo>
                            <a:pt x="20814" y="6754"/>
                          </a:lnTo>
                          <a:lnTo>
                            <a:pt x="17761" y="6279"/>
                          </a:lnTo>
                          <a:lnTo>
                            <a:pt x="18437" y="3163"/>
                          </a:lnTo>
                          <a:lnTo>
                            <a:pt x="15441" y="3919"/>
                          </a:lnTo>
                          <a:lnTo>
                            <a:pt x="15020" y="859"/>
                          </a:lnTo>
                          <a:lnTo>
                            <a:pt x="12526" y="2681"/>
                          </a:lnTo>
                          <a:lnTo>
                            <a:pt x="10800" y="0"/>
                          </a:lnTo>
                          <a:lnTo>
                            <a:pt x="9216" y="2652"/>
                          </a:lnTo>
                          <a:lnTo>
                            <a:pt x="6754" y="786"/>
                          </a:lnTo>
                          <a:lnTo>
                            <a:pt x="6279" y="3839"/>
                          </a:lnTo>
                          <a:lnTo>
                            <a:pt x="3163" y="3163"/>
                          </a:lnTo>
                          <a:lnTo>
                            <a:pt x="3919" y="6159"/>
                          </a:lnTo>
                          <a:lnTo>
                            <a:pt x="859" y="6580"/>
                          </a:lnTo>
                          <a:lnTo>
                            <a:pt x="2681" y="9074"/>
                          </a:lnTo>
                          <a:lnTo>
                            <a:pt x="0" y="10800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 rot="1200000">
                      <a:off x="8523000" y="4990680"/>
                      <a:ext cx="368280" cy="371520"/>
                    </a:xfrm>
                    <a:custGeom>
                      <a:avLst/>
                      <a:gdLst>
                        <a:gd name="textAreaLeft" fmla="*/ 83880 w 368280"/>
                        <a:gd name="textAreaRight" fmla="*/ 284400 w 368280"/>
                        <a:gd name="textAreaTop" fmla="*/ 84600 h 371520"/>
                        <a:gd name="textAreaBottom" fmla="*/ 286920 h 371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lnTo>
                            <a:pt x="2652" y="12384"/>
                          </a:lnTo>
                          <a:lnTo>
                            <a:pt x="786" y="14846"/>
                          </a:lnTo>
                          <a:lnTo>
                            <a:pt x="3839" y="15321"/>
                          </a:lnTo>
                          <a:lnTo>
                            <a:pt x="3163" y="18437"/>
                          </a:lnTo>
                          <a:lnTo>
                            <a:pt x="6159" y="17681"/>
                          </a:lnTo>
                          <a:lnTo>
                            <a:pt x="6580" y="20741"/>
                          </a:lnTo>
                          <a:lnTo>
                            <a:pt x="9074" y="18919"/>
                          </a:lnTo>
                          <a:lnTo>
                            <a:pt x="10800" y="21600"/>
                          </a:lnTo>
                          <a:lnTo>
                            <a:pt x="12384" y="18948"/>
                          </a:lnTo>
                          <a:lnTo>
                            <a:pt x="14846" y="20814"/>
                          </a:lnTo>
                          <a:lnTo>
                            <a:pt x="15321" y="17761"/>
                          </a:lnTo>
                          <a:lnTo>
                            <a:pt x="18437" y="18437"/>
                          </a:lnTo>
                          <a:lnTo>
                            <a:pt x="17681" y="15441"/>
                          </a:lnTo>
                          <a:lnTo>
                            <a:pt x="20741" y="15020"/>
                          </a:lnTo>
                          <a:lnTo>
                            <a:pt x="18919" y="12526"/>
                          </a:lnTo>
                          <a:lnTo>
                            <a:pt x="21600" y="10800"/>
                          </a:lnTo>
                          <a:lnTo>
                            <a:pt x="18948" y="9216"/>
                          </a:lnTo>
                          <a:lnTo>
                            <a:pt x="20814" y="6754"/>
                          </a:lnTo>
                          <a:lnTo>
                            <a:pt x="17761" y="6279"/>
                          </a:lnTo>
                          <a:lnTo>
                            <a:pt x="18437" y="3163"/>
                          </a:lnTo>
                          <a:lnTo>
                            <a:pt x="15441" y="3919"/>
                          </a:lnTo>
                          <a:lnTo>
                            <a:pt x="15020" y="859"/>
                          </a:lnTo>
                          <a:lnTo>
                            <a:pt x="12526" y="2681"/>
                          </a:lnTo>
                          <a:lnTo>
                            <a:pt x="10800" y="0"/>
                          </a:lnTo>
                          <a:lnTo>
                            <a:pt x="9216" y="2652"/>
                          </a:lnTo>
                          <a:lnTo>
                            <a:pt x="6754" y="786"/>
                          </a:lnTo>
                          <a:lnTo>
                            <a:pt x="6279" y="3839"/>
                          </a:lnTo>
                          <a:lnTo>
                            <a:pt x="3163" y="3163"/>
                          </a:lnTo>
                          <a:lnTo>
                            <a:pt x="3919" y="6159"/>
                          </a:lnTo>
                          <a:lnTo>
                            <a:pt x="859" y="6580"/>
                          </a:lnTo>
                          <a:lnTo>
                            <a:pt x="2681" y="9074"/>
                          </a:lnTo>
                          <a:lnTo>
                            <a:pt x="0" y="10800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 flipV="1">
                      <a:off x="8034480" y="4927320"/>
                      <a:ext cx="318960" cy="207720"/>
                    </a:xfrm>
                    <a:prstGeom prst="line">
                      <a:avLst/>
                    </a:prstGeom>
                    <a:ln w="507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 flipV="1">
                      <a:off x="8150400" y="5049720"/>
                      <a:ext cx="320760" cy="208080"/>
                    </a:xfrm>
                    <a:prstGeom prst="line">
                      <a:avLst/>
                    </a:prstGeom>
                    <a:ln w="507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 flipH="1">
                      <a:off x="8605800" y="4995720"/>
                      <a:ext cx="66600" cy="333360"/>
                    </a:xfrm>
                    <a:prstGeom prst="line">
                      <a:avLst/>
                    </a:prstGeom>
                    <a:ln w="507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 flipV="1">
                      <a:off x="8731440" y="5024520"/>
                      <a:ext cx="73080" cy="350640"/>
                    </a:xfrm>
                    <a:prstGeom prst="line">
                      <a:avLst/>
                    </a:prstGeom>
                    <a:ln w="507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9023400" y="5387760"/>
                      <a:ext cx="142920" cy="314640"/>
                    </a:xfrm>
                    <a:prstGeom prst="line">
                      <a:avLst/>
                    </a:prstGeom>
                    <a:ln w="507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7" name=""/>
                  <p:cNvGrpSpPr/>
                  <p:nvPr/>
                </p:nvGrpSpPr>
                <p:grpSpPr>
                  <a:xfrm>
                    <a:off x="5425920" y="4979880"/>
                    <a:ext cx="2584080" cy="1279440"/>
                    <a:chOff x="5425920" y="4979880"/>
                    <a:chExt cx="2584080" cy="1279440"/>
                  </a:xfrm>
                </p:grpSpPr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6518160" y="4979880"/>
                      <a:ext cx="1491840" cy="113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02" y="15342"/>
                          </a:moveTo>
                          <a:arcTo wR="10800" hR="10800" stAng="9307751" swAng="693613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02" y="15342"/>
                          </a:moveTo>
                          <a:arcTo wR="10800" hR="10800" stAng="9307751" swAng="6936133"/>
                        </a:path>
                      </a:pathLst>
                    </a:custGeom>
                    <a:noFill/>
                    <a:ln cap="rnd" w="507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5425920" y="5563440"/>
                      <a:ext cx="1196640" cy="69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0952" y="7116"/>
                          </a:moveTo>
                          <a:arcTo wR="10800" hR="10800" stAng="-1196630" swAng="1143040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0952" y="7116"/>
                          </a:moveTo>
                          <a:arcTo wR="10800" hR="10800" stAng="-1196630" swAng="11430406"/>
                        </a:path>
                      </a:pathLst>
                    </a:custGeom>
                    <a:noFill/>
                    <a:ln cap="rnd" w="507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 rot="18060000">
                      <a:off x="6404760" y="5244120"/>
                      <a:ext cx="590400" cy="27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71" name=""/>
            <p:cNvSpPr/>
            <p:nvPr/>
          </p:nvSpPr>
          <p:spPr>
            <a:xfrm>
              <a:off x="6734520" y="3519360"/>
              <a:ext cx="2483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H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stone </a:t>
              </a: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A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etyl </a:t>
              </a: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T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ansfer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89440" y="5856840"/>
              <a:ext cx="278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 phase gene: 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31440" y="3921120"/>
              <a:ext cx="99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e H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544560" y="4797360"/>
            <a:ext cx="1335960" cy="1242360"/>
            <a:chOff x="3544560" y="4797360"/>
            <a:chExt cx="1335960" cy="1242360"/>
          </a:xfrm>
        </p:grpSpPr>
        <p:grpSp>
          <p:nvGrpSpPr>
            <p:cNvPr id="175" name=""/>
            <p:cNvGrpSpPr/>
            <p:nvPr/>
          </p:nvGrpSpPr>
          <p:grpSpPr>
            <a:xfrm>
              <a:off x="3665520" y="4797360"/>
              <a:ext cx="999360" cy="906480"/>
              <a:chOff x="3665520" y="4797360"/>
              <a:chExt cx="999360" cy="90648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4001400" y="4797360"/>
                <a:ext cx="663480" cy="906480"/>
                <a:chOff x="4001400" y="4797360"/>
                <a:chExt cx="663480" cy="906480"/>
              </a:xfrm>
            </p:grpSpPr>
            <p:sp>
              <p:nvSpPr>
                <p:cNvPr id="177" name=""/>
                <p:cNvSpPr/>
                <p:nvPr/>
              </p:nvSpPr>
              <p:spPr>
                <a:xfrm flipH="1" flipV="1" rot="5400000">
                  <a:off x="3879360" y="4918680"/>
                  <a:ext cx="906480" cy="663480"/>
                </a:xfrm>
                <a:custGeom>
                  <a:avLst/>
                  <a:gdLst>
                    <a:gd name="textAreaLeft" fmla="*/ 100800 w 906480"/>
                    <a:gd name="textAreaRight" fmla="*/ 805680 w 906480"/>
                    <a:gd name="textAreaTop" fmla="*/ 73800 h 663480"/>
                    <a:gd name="textAreaBottom" fmla="*/ 589680 h 663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424" y="21600"/>
                      </a:lnTo>
                      <a:lnTo>
                        <a:pt x="1176" y="216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040280" y="5000760"/>
                  <a:ext cx="57960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 Black"/>
                    </a:rPr>
                    <a:t>R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3665520" y="5022720"/>
                <a:ext cx="392400" cy="417600"/>
                <a:chOff x="3665520" y="5022720"/>
                <a:chExt cx="392400" cy="4176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665520" y="5022720"/>
                  <a:ext cx="392400" cy="417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718800" y="503280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3544560" y="5702400"/>
              <a:ext cx="133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Weakly a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398760" y="1108080"/>
            <a:ext cx="1656000" cy="1554840"/>
            <a:chOff x="3398760" y="1108080"/>
            <a:chExt cx="1656000" cy="1554840"/>
          </a:xfrm>
        </p:grpSpPr>
        <p:grpSp>
          <p:nvGrpSpPr>
            <p:cNvPr id="184" name=""/>
            <p:cNvGrpSpPr/>
            <p:nvPr/>
          </p:nvGrpSpPr>
          <p:grpSpPr>
            <a:xfrm>
              <a:off x="3649680" y="1390680"/>
              <a:ext cx="969480" cy="971640"/>
              <a:chOff x="3649680" y="1390680"/>
              <a:chExt cx="969480" cy="97164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3649680" y="1390680"/>
                <a:ext cx="969480" cy="971640"/>
                <a:chOff x="3649680" y="1390680"/>
                <a:chExt cx="969480" cy="9716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3649680" y="1390680"/>
                  <a:ext cx="686520" cy="971640"/>
                  <a:chOff x="3649680" y="1390680"/>
                  <a:chExt cx="686520" cy="971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flipV="1" rot="5400000">
                    <a:off x="3551040" y="1544760"/>
                    <a:ext cx="906120" cy="663480"/>
                  </a:xfrm>
                  <a:custGeom>
                    <a:avLst/>
                    <a:gdLst>
                      <a:gd name="textAreaLeft" fmla="*/ 100800 w 906120"/>
                      <a:gd name="textAreaRight" fmla="*/ 805320 w 906120"/>
                      <a:gd name="textAreaTop" fmla="*/ 73800 h 663480"/>
                      <a:gd name="textAreaBottom" fmla="*/ 589680 h 66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0424" y="21600"/>
                        </a:lnTo>
                        <a:lnTo>
                          <a:pt x="1176" y="21600"/>
                        </a:lnTo>
                        <a:close/>
                      </a:path>
                    </a:pathLst>
                  </a:custGeom>
                  <a:solidFill>
                    <a:srgbClr val="00cc99">
                      <a:alpha val="50000"/>
                    </a:srgbClr>
                  </a:solidFill>
                  <a:ln w="1260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5400000">
                    <a:off x="3303360" y="1736640"/>
                    <a:ext cx="971640" cy="2793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4241520" y="1631880"/>
                  <a:ext cx="377640" cy="658800"/>
                  <a:chOff x="4241520" y="1631880"/>
                  <a:chExt cx="377640" cy="658800"/>
                </a:xfrm>
              </p:grpSpPr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4241520" y="1631880"/>
                    <a:ext cx="377640" cy="658800"/>
                    <a:chOff x="4241520" y="1631880"/>
                    <a:chExt cx="377640" cy="658800"/>
                  </a:xfrm>
                </p:grpSpPr>
                <p:sp>
                  <p:nvSpPr>
                    <p:cNvPr id="191" name=""/>
                    <p:cNvSpPr/>
                    <p:nvPr/>
                  </p:nvSpPr>
                  <p:spPr>
                    <a:xfrm rot="5400000">
                      <a:off x="4198320" y="1736640"/>
                      <a:ext cx="52560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1" h="199">
                          <a:moveTo>
                            <a:pt x="0" y="198"/>
                          </a:moveTo>
                          <a:lnTo>
                            <a:pt x="285" y="135"/>
                          </a:lnTo>
                          <a:lnTo>
                            <a:pt x="330" y="0"/>
                          </a:lnTo>
                          <a:lnTo>
                            <a:pt x="15" y="162"/>
                          </a:lnTo>
                          <a:lnTo>
                            <a:pt x="0" y="198"/>
                          </a:lnTo>
                        </a:path>
                      </a:pathLst>
                    </a:custGeom>
                    <a:solidFill>
                      <a:srgbClr val="00cc99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 rot="5400000">
                      <a:off x="4300920" y="2096280"/>
                      <a:ext cx="14904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79">
                          <a:moveTo>
                            <a:pt x="0" y="18"/>
                          </a:moveTo>
                          <a:lnTo>
                            <a:pt x="93" y="78"/>
                          </a:lnTo>
                          <a:lnTo>
                            <a:pt x="15" y="0"/>
                          </a:lnTo>
                          <a:lnTo>
                            <a:pt x="0" y="1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 rot="5400000">
                      <a:off x="4110480" y="1796400"/>
                      <a:ext cx="43020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1" h="106">
                          <a:moveTo>
                            <a:pt x="0" y="66"/>
                          </a:moveTo>
                          <a:lnTo>
                            <a:pt x="3" y="105"/>
                          </a:lnTo>
                          <a:lnTo>
                            <a:pt x="270" y="48"/>
                          </a:lnTo>
                          <a:lnTo>
                            <a:pt x="270" y="0"/>
                          </a:lnTo>
                          <a:lnTo>
                            <a:pt x="0" y="66"/>
                          </a:lnTo>
                        </a:path>
                      </a:pathLst>
                    </a:custGeom>
                    <a:solidFill>
                      <a:srgbClr val="00cc99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5400000">
                      <a:off x="4257720" y="2115000"/>
                      <a:ext cx="19692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" h="97">
                          <a:moveTo>
                            <a:pt x="0" y="66"/>
                          </a:moveTo>
                          <a:lnTo>
                            <a:pt x="123" y="96"/>
                          </a:lnTo>
                          <a:lnTo>
                            <a:pt x="9" y="0"/>
                          </a:lnTo>
                          <a:lnTo>
                            <a:pt x="0" y="18"/>
                          </a:lnTo>
                          <a:lnTo>
                            <a:pt x="0" y="66"/>
                          </a:lnTo>
                        </a:path>
                      </a:pathLst>
                    </a:custGeom>
                    <a:solidFill>
                      <a:srgbClr val="00cc99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5" name=""/>
                  <p:cNvSpPr/>
                  <p:nvPr/>
                </p:nvSpPr>
                <p:spPr>
                  <a:xfrm rot="4620000">
                    <a:off x="4213800" y="1854000"/>
                    <a:ext cx="40608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A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6" name=""/>
              <p:cNvSpPr/>
              <p:nvPr/>
            </p:nvSpPr>
            <p:spPr>
              <a:xfrm>
                <a:off x="3731040" y="1398600"/>
                <a:ext cx="6134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P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3398760" y="2325600"/>
              <a:ext cx="165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Low activity H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19360" y="1108080"/>
              <a:ext cx="119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-activ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16160" y="2073960"/>
            <a:ext cx="4530240" cy="2571120"/>
            <a:chOff x="416160" y="2073960"/>
            <a:chExt cx="4530240" cy="2571120"/>
          </a:xfrm>
        </p:grpSpPr>
        <p:grpSp>
          <p:nvGrpSpPr>
            <p:cNvPr id="200" name=""/>
            <p:cNvGrpSpPr/>
            <p:nvPr/>
          </p:nvGrpSpPr>
          <p:grpSpPr>
            <a:xfrm>
              <a:off x="416160" y="2073960"/>
              <a:ext cx="2610720" cy="2175120"/>
              <a:chOff x="416160" y="2073960"/>
              <a:chExt cx="2610720" cy="217512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416160" y="2073960"/>
                <a:ext cx="2135880" cy="2175120"/>
                <a:chOff x="416160" y="2073960"/>
                <a:chExt cx="2135880" cy="21751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16160" y="2073960"/>
                  <a:ext cx="213300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407" y="120"/>
                      </a:moveTo>
                      <a:arcTo wR="10800" hR="10800" stAng="-4886481" swAng="71974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407" y="120"/>
                      </a:moveTo>
                      <a:arcTo wR="10800" hR="10800" stAng="-4886481" swAng="7197452"/>
                    </a:path>
                  </a:pathLst>
                </a:custGeom>
                <a:noFill/>
                <a:ln cap="rnd" w="50760">
                  <a:solidFill>
                    <a:srgbClr val="969696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16160" y="2073960"/>
                  <a:ext cx="2133000" cy="2173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397" y="17337"/>
                      </a:moveTo>
                      <a:arcTo wR="10800" hR="10800" stAng="2234743" swAng="601194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397" y="17337"/>
                      </a:moveTo>
                      <a:arcTo wR="10800" hR="10800" stAng="2234743" swAng="6011947"/>
                    </a:path>
                  </a:pathLst>
                </a:custGeom>
                <a:noFill/>
                <a:ln cap="rnd" w="50760">
                  <a:solidFill>
                    <a:srgbClr val="3333cc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17600" y="2075040"/>
                  <a:ext cx="2133000" cy="2172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163" y="18436"/>
                      </a:moveTo>
                      <a:arcTo wR="10800" hR="10800" stAng="8100278" swAng="76123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163" y="18436"/>
                      </a:moveTo>
                      <a:arcTo wR="10800" hR="10800" stAng="8100278" swAng="7612305"/>
                    </a:path>
                  </a:pathLst>
                </a:custGeom>
                <a:noFill/>
                <a:ln cap="rnd" w="50760">
                  <a:solidFill>
                    <a:srgbClr val="969696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16880" y="2075040"/>
                  <a:ext cx="2135160" cy="217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339" y="99"/>
                      </a:moveTo>
                      <a:arcTo wR="10800" hR="10800" stAng="-5866405" swAng="9487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339" y="99"/>
                      </a:moveTo>
                      <a:arcTo wR="10800" hR="10800" stAng="-5866405" swAng="948759"/>
                    </a:path>
                  </a:pathLst>
                </a:custGeom>
                <a:noFill/>
                <a:ln cap="rnd" w="5076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993600" y="3692520"/>
                  <a:ext cx="106128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S pha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619280" y="2800080"/>
                  <a:ext cx="8449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69696"/>
                      </a:solidFill>
                      <a:latin typeface="Arial"/>
                    </a:rPr>
                    <a:t>G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69696"/>
                      </a:solidFill>
                      <a:latin typeface="Arial"/>
                    </a:rPr>
                    <a:t>pha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2600" y="2800080"/>
                  <a:ext cx="8449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69696"/>
                      </a:solidFill>
                      <a:latin typeface="Arial"/>
                    </a:rPr>
                    <a:t>G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69696"/>
                      </a:solidFill>
                      <a:latin typeface="Arial"/>
                    </a:rPr>
                    <a:t>pha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007280" y="2241360"/>
                  <a:ext cx="97308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itosi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2440080" y="3274920"/>
                <a:ext cx="182520" cy="182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611440" y="3187080"/>
                <a:ext cx="41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006720" y="2792520"/>
              <a:ext cx="1939680" cy="1852560"/>
              <a:chOff x="3006720" y="2792520"/>
              <a:chExt cx="1939680" cy="185256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3006720" y="3147840"/>
                <a:ext cx="954000" cy="927000"/>
                <a:chOff x="3006720" y="3147840"/>
                <a:chExt cx="954000" cy="9270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006720" y="3147840"/>
                  <a:ext cx="954000" cy="927000"/>
                </a:xfrm>
                <a:prstGeom prst="ellipse">
                  <a:avLst/>
                </a:prstGeom>
                <a:solidFill>
                  <a:srgbClr val="ff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033360" y="3177000"/>
                  <a:ext cx="8938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yclin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E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dk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inas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798720" y="2792520"/>
                <a:ext cx="1147680" cy="1852560"/>
                <a:chOff x="3798720" y="2792520"/>
                <a:chExt cx="1147680" cy="1852560"/>
              </a:xfrm>
            </p:grpSpPr>
            <p:sp>
              <p:nvSpPr>
                <p:cNvPr id="217" name=""/>
                <p:cNvSpPr/>
                <p:nvPr/>
              </p:nvSpPr>
              <p:spPr>
                <a:xfrm rot="5400000">
                  <a:off x="3446280" y="3144960"/>
                  <a:ext cx="1852560" cy="1147680"/>
                </a:xfrm>
                <a:custGeom>
                  <a:avLst/>
                  <a:gdLst>
                    <a:gd name="textAreaLeft" fmla="*/ 231480 w 1852560"/>
                    <a:gd name="textAreaRight" fmla="*/ 1621080 w 1852560"/>
                    <a:gd name="textAreaTop" fmla="*/ 286920 h 1147680"/>
                    <a:gd name="textAreaBottom" fmla="*/ 860760 h 114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0" y="16200"/>
                      </a:lnTo>
                      <a:lnTo>
                        <a:pt x="2700" y="108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4157640" y="3635280"/>
                  <a:ext cx="392040" cy="417600"/>
                  <a:chOff x="4157640" y="3635280"/>
                  <a:chExt cx="392040" cy="41760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4157640" y="3635280"/>
                    <a:ext cx="392040" cy="417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4210560" y="3645360"/>
                    <a:ext cx="33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00"/>
                        </a:solidFill>
                        <a:latin typeface="Arial Black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1" name=""/>
                <p:cNvSpPr/>
                <p:nvPr/>
              </p:nvSpPr>
              <p:spPr>
                <a:xfrm>
                  <a:off x="4182480" y="32688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Black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2" name=""/>
          <p:cNvSpPr/>
          <p:nvPr/>
        </p:nvSpPr>
        <p:spPr>
          <a:xfrm flipH="1" rot="13369200">
            <a:off x="7779960" y="4363200"/>
            <a:ext cx="682560" cy="228600"/>
          </a:xfrm>
          <a:prstGeom prst="rightArrow">
            <a:avLst>
              <a:gd name="adj1" fmla="val 29583"/>
              <a:gd name="adj2" fmla="val 15262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303960" y="4851360"/>
            <a:ext cx="1755720" cy="600840"/>
            <a:chOff x="6303960" y="4851360"/>
            <a:chExt cx="1755720" cy="600840"/>
          </a:xfrm>
        </p:grpSpPr>
        <p:grpSp>
          <p:nvGrpSpPr>
            <p:cNvPr id="224" name=""/>
            <p:cNvGrpSpPr/>
            <p:nvPr/>
          </p:nvGrpSpPr>
          <p:grpSpPr>
            <a:xfrm>
              <a:off x="7032600" y="4851360"/>
              <a:ext cx="766800" cy="303120"/>
              <a:chOff x="7032600" y="4851360"/>
              <a:chExt cx="766800" cy="303120"/>
            </a:xfrm>
          </p:grpSpPr>
          <p:sp>
            <p:nvSpPr>
              <p:cNvPr id="225" name=""/>
              <p:cNvSpPr/>
              <p:nvPr/>
            </p:nvSpPr>
            <p:spPr>
              <a:xfrm>
                <a:off x="7032600" y="4851360"/>
                <a:ext cx="766800" cy="3031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170840" y="4863960"/>
                <a:ext cx="5173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ol.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6303960" y="5081760"/>
              <a:ext cx="1755720" cy="370440"/>
              <a:chOff x="6303960" y="5081760"/>
              <a:chExt cx="1755720" cy="370440"/>
            </a:xfrm>
          </p:grpSpPr>
          <p:sp>
            <p:nvSpPr>
              <p:cNvPr id="228" name=""/>
              <p:cNvSpPr/>
              <p:nvPr/>
            </p:nvSpPr>
            <p:spPr>
              <a:xfrm>
                <a:off x="7351920" y="5081760"/>
                <a:ext cx="70776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7" y="9355"/>
                    </a:moveTo>
                    <a:arcTo wR="10800" hR="10800" stAng="-10338808" swAng="49303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7" y="9355"/>
                    </a:moveTo>
                    <a:arcTo wR="10800" hR="10800" stAng="-10338808" swAng="4930361"/>
                  </a:path>
                </a:pathLst>
              </a:custGeom>
              <a:noFill/>
              <a:ln cap="rnd" w="507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303960" y="5146200"/>
                <a:ext cx="1047600" cy="20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23"/>
                    </a:moveTo>
                    <a:arcTo wR="10800" hR="10800" stAng="-88274" swAng="487326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23"/>
                    </a:moveTo>
                    <a:arcTo wR="10800" hR="10800" stAng="-88274" swAng="4873266"/>
                  </a:path>
                </a:pathLst>
              </a:custGeom>
              <a:noFill/>
              <a:ln cap="rnd" w="507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H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0:57:39Z</dcterms:created>
  <dc:creator>Jakob H. Waterborg</dc:creator>
  <dc:description/>
  <dc:language>en-US</dc:language>
  <cp:lastModifiedBy>Jakob H. Waterborg</cp:lastModifiedBy>
  <cp:lastPrinted>1999-03-10T03:31:36Z</cp:lastPrinted>
  <dcterms:modified xsi:type="dcterms:W3CDTF">1999-03-24T13:25:23Z</dcterms:modified>
  <cp:revision>14</cp:revision>
  <dc:subject/>
  <dc:title>CHROMATIN</dc:title>
</cp:coreProperties>
</file>