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E2612-8C3A-446D-B3E2-6F0A3D3F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8A688-5E77-4764-8D56-B75EB076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F345F-F1A9-4A71-8422-3B529AE9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D6A5-B078-4367-9662-D7B672F9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8CA1-051B-4EBF-B20D-9803CA05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C848-8D59-45EC-BCDB-F792EE14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9B470-7A6E-45BE-9BA2-4BE17206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6F0A-06ED-4B0B-854A-569D42B2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B572-0F63-4A79-8809-9401DEE8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EFC97-0E4F-4E2E-B97F-5649AD6E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7E6D0-EEA2-4226-AB7C-45091411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B2779-5351-4409-8397-880979C5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366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AD5A-3DD0-494F-AA2F-719B213FF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3576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1120" y="357120"/>
            <a:ext cx="9436320" cy="9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eacetylation of Chromatin</a:t>
            </a:r>
            <a:br>
              <a:rPr sz="36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ranscriptional Silencing   —   X-chromosome In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160" y="6348240"/>
            <a:ext cx="6829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n et al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l.Cell.Biol. 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414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l 8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ones et al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.Genet. 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187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61000" y="1498680"/>
            <a:ext cx="5013360" cy="2608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meC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G DNA modification is observed in repressed genes and inactivated X chromos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me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pG-methylation is maintained after DNA replication by Maintenance Methylase action on hemi-methylated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me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ds transcriptional represso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P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y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bind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tein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P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ds Sin3 wi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PD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istone deacetyl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0880" y="4396320"/>
            <a:ext cx="3504960" cy="881280"/>
            <a:chOff x="110880" y="4396320"/>
            <a:chExt cx="3504960" cy="881280"/>
          </a:xfrm>
        </p:grpSpPr>
        <p:grpSp>
          <p:nvGrpSpPr>
            <p:cNvPr id="47" name=""/>
            <p:cNvGrpSpPr/>
            <p:nvPr/>
          </p:nvGrpSpPr>
          <p:grpSpPr>
            <a:xfrm>
              <a:off x="1521720" y="4396320"/>
              <a:ext cx="2094120" cy="881280"/>
              <a:chOff x="1521720" y="4396320"/>
              <a:chExt cx="2094120" cy="88128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1776960" y="4452840"/>
                <a:ext cx="267120" cy="615240"/>
                <a:chOff x="1776960" y="4452840"/>
                <a:chExt cx="267120" cy="615240"/>
              </a:xfrm>
            </p:grpSpPr>
            <p:sp>
              <p:nvSpPr>
                <p:cNvPr id="49" name=""/>
                <p:cNvSpPr/>
                <p:nvPr/>
              </p:nvSpPr>
              <p:spPr>
                <a:xfrm flipH="1">
                  <a:off x="1776960" y="4761000"/>
                  <a:ext cx="129600" cy="27180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flipH="1">
                  <a:off x="1895760" y="4452840"/>
                  <a:ext cx="72720" cy="31284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823040" y="4474440"/>
                  <a:ext cx="33120" cy="27360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flipH="1">
                  <a:off x="1881360" y="4789800"/>
                  <a:ext cx="39960" cy="27828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918800" y="4752000"/>
                  <a:ext cx="125280" cy="27144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2699640" y="4664160"/>
                <a:ext cx="267120" cy="613440"/>
                <a:chOff x="2699640" y="4664160"/>
                <a:chExt cx="267120" cy="613440"/>
              </a:xfrm>
            </p:grpSpPr>
            <p:sp>
              <p:nvSpPr>
                <p:cNvPr id="55" name=""/>
                <p:cNvSpPr/>
                <p:nvPr/>
              </p:nvSpPr>
              <p:spPr>
                <a:xfrm flipH="1">
                  <a:off x="2699640" y="4972320"/>
                  <a:ext cx="133920" cy="26856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>
                  <a:off x="2825280" y="4664160"/>
                  <a:ext cx="75960" cy="31248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754720" y="4684320"/>
                  <a:ext cx="30600" cy="27432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H="1">
                  <a:off x="2803320" y="5001480"/>
                  <a:ext cx="43920" cy="27612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846520" y="4963680"/>
                  <a:ext cx="120240" cy="27216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2227320" y="4396320"/>
                <a:ext cx="265320" cy="619200"/>
                <a:chOff x="2227320" y="4396320"/>
                <a:chExt cx="265320" cy="619200"/>
              </a:xfrm>
            </p:grpSpPr>
            <p:sp>
              <p:nvSpPr>
                <p:cNvPr id="61" name=""/>
                <p:cNvSpPr/>
                <p:nvPr/>
              </p:nvSpPr>
              <p:spPr>
                <a:xfrm flipV="1">
                  <a:off x="2383200" y="4424400"/>
                  <a:ext cx="109440" cy="27900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V="1">
                  <a:off x="2341800" y="4697640"/>
                  <a:ext cx="50040" cy="31788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H="1" flipV="1">
                  <a:off x="2432880" y="4713480"/>
                  <a:ext cx="53640" cy="27072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flipV="1">
                  <a:off x="2366640" y="4396320"/>
                  <a:ext cx="19800" cy="27864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 flipV="1">
                  <a:off x="2227320" y="4451760"/>
                  <a:ext cx="143640" cy="26028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069000" y="4475520"/>
                <a:ext cx="501840" cy="571680"/>
                <a:chOff x="3069000" y="4475520"/>
                <a:chExt cx="501840" cy="571680"/>
              </a:xfrm>
            </p:grpSpPr>
            <p:sp>
              <p:nvSpPr>
                <p:cNvPr id="67" name=""/>
                <p:cNvSpPr/>
                <p:nvPr/>
              </p:nvSpPr>
              <p:spPr>
                <a:xfrm flipV="1">
                  <a:off x="3304080" y="4629240"/>
                  <a:ext cx="266760" cy="13824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flipV="1">
                  <a:off x="3069000" y="4769280"/>
                  <a:ext cx="245880" cy="20736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V="1">
                  <a:off x="3198600" y="4807800"/>
                  <a:ext cx="137160" cy="23940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V="1">
                  <a:off x="3309840" y="4538160"/>
                  <a:ext cx="199080" cy="19800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3289320" y="4475520"/>
                  <a:ext cx="62280" cy="291600"/>
                </a:xfrm>
                <a:prstGeom prst="line">
                  <a:avLst/>
                </a:prstGeom>
                <a:ln w="12600">
                  <a:solidFill>
                    <a:srgbClr val="00cc99"/>
                  </a:solidFill>
                  <a:miter/>
                  <a:headEnd len="med" type="diamond" w="med"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1521720" y="4500360"/>
                <a:ext cx="2094120" cy="649440"/>
                <a:chOff x="1521720" y="4500360"/>
                <a:chExt cx="2094120" cy="649440"/>
              </a:xfrm>
            </p:grpSpPr>
            <p:sp>
              <p:nvSpPr>
                <p:cNvPr id="73" name=""/>
                <p:cNvSpPr/>
                <p:nvPr/>
              </p:nvSpPr>
              <p:spPr>
                <a:xfrm rot="207600">
                  <a:off x="2642040" y="4767480"/>
                  <a:ext cx="369720" cy="371520"/>
                </a:xfrm>
                <a:custGeom>
                  <a:avLst/>
                  <a:gdLst>
                    <a:gd name="textAreaLeft" fmla="*/ 84240 w 369720"/>
                    <a:gd name="textAreaRight" fmla="*/ 285480 w 369720"/>
                    <a:gd name="textAreaTop" fmla="*/ 84600 h 371520"/>
                    <a:gd name="textAreaBottom" fmla="*/ 286920 h 37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2529720" y="4706640"/>
                  <a:ext cx="324000" cy="43884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2900520" y="4700520"/>
                  <a:ext cx="278280" cy="11628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1992600" y="4676760"/>
                  <a:ext cx="264960" cy="19980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1521720" y="4692240"/>
                  <a:ext cx="258840" cy="6552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rot="207600">
                  <a:off x="1739160" y="4559760"/>
                  <a:ext cx="368280" cy="371520"/>
                </a:xfrm>
                <a:custGeom>
                  <a:avLst/>
                  <a:gdLst>
                    <a:gd name="textAreaLeft" fmla="*/ 83880 w 368280"/>
                    <a:gd name="textAreaRight" fmla="*/ 284400 w 368280"/>
                    <a:gd name="textAreaTop" fmla="*/ 84600 h 371520"/>
                    <a:gd name="textAreaBottom" fmla="*/ 286920 h 37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207600">
                  <a:off x="2199600" y="4510800"/>
                  <a:ext cx="368280" cy="371520"/>
                </a:xfrm>
                <a:custGeom>
                  <a:avLst/>
                  <a:gdLst>
                    <a:gd name="textAreaLeft" fmla="*/ 83880 w 368280"/>
                    <a:gd name="textAreaRight" fmla="*/ 284400 w 368280"/>
                    <a:gd name="textAreaTop" fmla="*/ 84600 h 371520"/>
                    <a:gd name="textAreaBottom" fmla="*/ 286920 h 37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207600">
                  <a:off x="3113640" y="4565880"/>
                  <a:ext cx="368280" cy="371520"/>
                </a:xfrm>
                <a:custGeom>
                  <a:avLst/>
                  <a:gdLst>
                    <a:gd name="textAreaLeft" fmla="*/ 83880 w 368280"/>
                    <a:gd name="textAreaRight" fmla="*/ 284400 w 368280"/>
                    <a:gd name="textAreaTop" fmla="*/ 84600 h 371520"/>
                    <a:gd name="textAreaBottom" fmla="*/ 286920 h 3715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lnTo>
                        <a:pt x="2652" y="12384"/>
                      </a:lnTo>
                      <a:lnTo>
                        <a:pt x="786" y="14846"/>
                      </a:lnTo>
                      <a:lnTo>
                        <a:pt x="3839" y="15321"/>
                      </a:lnTo>
                      <a:lnTo>
                        <a:pt x="3163" y="18437"/>
                      </a:lnTo>
                      <a:lnTo>
                        <a:pt x="6159" y="17681"/>
                      </a:lnTo>
                      <a:lnTo>
                        <a:pt x="6580" y="20741"/>
                      </a:lnTo>
                      <a:lnTo>
                        <a:pt x="9074" y="18919"/>
                      </a:lnTo>
                      <a:lnTo>
                        <a:pt x="10800" y="21600"/>
                      </a:lnTo>
                      <a:lnTo>
                        <a:pt x="12384" y="18948"/>
                      </a:lnTo>
                      <a:lnTo>
                        <a:pt x="14846" y="20814"/>
                      </a:lnTo>
                      <a:lnTo>
                        <a:pt x="15321" y="17761"/>
                      </a:lnTo>
                      <a:lnTo>
                        <a:pt x="18437" y="18437"/>
                      </a:lnTo>
                      <a:lnTo>
                        <a:pt x="17681" y="15441"/>
                      </a:lnTo>
                      <a:lnTo>
                        <a:pt x="20741" y="15020"/>
                      </a:lnTo>
                      <a:lnTo>
                        <a:pt x="18919" y="12526"/>
                      </a:lnTo>
                      <a:lnTo>
                        <a:pt x="21600" y="10800"/>
                      </a:lnTo>
                      <a:lnTo>
                        <a:pt x="18948" y="9216"/>
                      </a:lnTo>
                      <a:lnTo>
                        <a:pt x="20814" y="6754"/>
                      </a:lnTo>
                      <a:lnTo>
                        <a:pt x="17761" y="6279"/>
                      </a:lnTo>
                      <a:lnTo>
                        <a:pt x="18437" y="3163"/>
                      </a:lnTo>
                      <a:lnTo>
                        <a:pt x="15441" y="3919"/>
                      </a:lnTo>
                      <a:lnTo>
                        <a:pt x="15020" y="859"/>
                      </a:lnTo>
                      <a:lnTo>
                        <a:pt x="12526" y="2681"/>
                      </a:lnTo>
                      <a:lnTo>
                        <a:pt x="10800" y="0"/>
                      </a:lnTo>
                      <a:lnTo>
                        <a:pt x="9216" y="2652"/>
                      </a:lnTo>
                      <a:lnTo>
                        <a:pt x="6754" y="786"/>
                      </a:lnTo>
                      <a:lnTo>
                        <a:pt x="6279" y="3839"/>
                      </a:lnTo>
                      <a:lnTo>
                        <a:pt x="3163" y="3163"/>
                      </a:lnTo>
                      <a:lnTo>
                        <a:pt x="3919" y="6159"/>
                      </a:lnTo>
                      <a:lnTo>
                        <a:pt x="859" y="6580"/>
                      </a:lnTo>
                      <a:lnTo>
                        <a:pt x="2681" y="9074"/>
                      </a:lnTo>
                      <a:lnTo>
                        <a:pt x="0" y="10800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1260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flipV="1">
                  <a:off x="1727280" y="4558680"/>
                  <a:ext cx="246960" cy="28980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flipV="1">
                  <a:off x="1873440" y="4642560"/>
                  <a:ext cx="248040" cy="29052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2298960" y="4533480"/>
                  <a:ext cx="31320" cy="33840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flipH="1" flipV="1">
                  <a:off x="2433960" y="4523400"/>
                  <a:ext cx="29880" cy="35712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747160" y="4809240"/>
                  <a:ext cx="226800" cy="26100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V="1">
                  <a:off x="3161160" y="4577040"/>
                  <a:ext cx="178200" cy="32616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3303000" y="4658400"/>
                  <a:ext cx="153000" cy="30384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flipV="1">
                  <a:off x="3458880" y="4745160"/>
                  <a:ext cx="156960" cy="68400"/>
                </a:xfrm>
                <a:prstGeom prst="line">
                  <a:avLst/>
                </a:prstGeom>
                <a:ln w="507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" name=""/>
            <p:cNvGrpSpPr/>
            <p:nvPr/>
          </p:nvGrpSpPr>
          <p:grpSpPr>
            <a:xfrm>
              <a:off x="110880" y="4608360"/>
              <a:ext cx="1819800" cy="595080"/>
              <a:chOff x="110880" y="4608360"/>
              <a:chExt cx="1819800" cy="595080"/>
            </a:xfrm>
          </p:grpSpPr>
          <p:sp>
            <p:nvSpPr>
              <p:cNvPr id="90" name=""/>
              <p:cNvSpPr/>
              <p:nvPr/>
            </p:nvSpPr>
            <p:spPr>
              <a:xfrm>
                <a:off x="885960" y="4608360"/>
                <a:ext cx="766800" cy="30168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197000" y="4809960"/>
                <a:ext cx="733680" cy="39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" y="9324"/>
                    </a:moveTo>
                    <a:arcTo wR="10800" hR="10800" stAng="-10328600" swAng="49137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" y="9324"/>
                    </a:moveTo>
                    <a:arcTo wR="10800" hR="10800" stAng="-10328600" swAng="4913750"/>
                  </a:path>
                </a:pathLst>
              </a:custGeom>
              <a:noFill/>
              <a:ln cap="rnd" w="507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0880" y="4879800"/>
                <a:ext cx="1086120" cy="21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0" y="10333"/>
                    </a:moveTo>
                    <a:arcTo wR="10800" hR="10800" stAng="-148734" swAng="49298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0" y="10333"/>
                    </a:moveTo>
                    <a:arcTo wR="10800" hR="10800" stAng="-148734" swAng="4929889"/>
                  </a:path>
                </a:pathLst>
              </a:custGeom>
              <a:noFill/>
              <a:ln cap="rnd" w="507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968760" y="5337000"/>
            <a:ext cx="2509200" cy="581400"/>
            <a:chOff x="968760" y="5337000"/>
            <a:chExt cx="2509200" cy="581400"/>
          </a:xfrm>
        </p:grpSpPr>
        <p:sp>
          <p:nvSpPr>
            <p:cNvPr id="94" name=""/>
            <p:cNvSpPr/>
            <p:nvPr/>
          </p:nvSpPr>
          <p:spPr>
            <a:xfrm rot="17520000">
              <a:off x="1586880" y="5491440"/>
              <a:ext cx="268200" cy="269640"/>
            </a:xfrm>
            <a:custGeom>
              <a:avLst/>
              <a:gdLst>
                <a:gd name="textAreaLeft" fmla="*/ 61200 w 268200"/>
                <a:gd name="textAreaRight" fmla="*/ 207000 w 268200"/>
                <a:gd name="textAreaTop" fmla="*/ 61560 h 269640"/>
                <a:gd name="textAreaBottom" fmla="*/ 208080 h 26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33cc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714760" y="5446080"/>
              <a:ext cx="763200" cy="361800"/>
              <a:chOff x="2714760" y="5446080"/>
              <a:chExt cx="763200" cy="361800"/>
            </a:xfrm>
          </p:grpSpPr>
          <p:sp>
            <p:nvSpPr>
              <p:cNvPr id="96" name=""/>
              <p:cNvSpPr/>
              <p:nvPr/>
            </p:nvSpPr>
            <p:spPr>
              <a:xfrm flipH="1" flipV="1" rot="5400000">
                <a:off x="2890080" y="5573880"/>
                <a:ext cx="342360" cy="104760"/>
              </a:xfrm>
              <a:custGeom>
                <a:avLst/>
                <a:gdLst>
                  <a:gd name="textAreaLeft" fmla="*/ 37800 w 342360"/>
                  <a:gd name="textAreaRight" fmla="*/ 304560 w 342360"/>
                  <a:gd name="textAreaTop" fmla="*/ 11520 h 104760"/>
                  <a:gd name="textAreaBottom" fmla="*/ 93240 h 1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24" y="21600"/>
                    </a:lnTo>
                    <a:lnTo>
                      <a:pt x="1176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6200000">
                <a:off x="3115800" y="5418720"/>
                <a:ext cx="31212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solidFill>
                <a:srgbClr val="ff3300">
                  <a:alpha val="50000"/>
                </a:srgbClr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200000">
                <a:off x="2593080" y="5567400"/>
                <a:ext cx="361800" cy="11880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968760" y="533700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71800" y="5337000"/>
              <a:ext cx="418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4151160" y="4565520"/>
            <a:ext cx="743040" cy="1370160"/>
          </a:xfrm>
          <a:prstGeom prst="rightArrow">
            <a:avLst>
              <a:gd name="adj1" fmla="val 49944"/>
              <a:gd name="adj2" fmla="val 67093"/>
            </a:avLst>
          </a:prstGeom>
          <a:solidFill>
            <a:srgbClr val="ff3300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94240" y="4204080"/>
            <a:ext cx="3868200" cy="1595880"/>
            <a:chOff x="5394240" y="4204080"/>
            <a:chExt cx="3868200" cy="1595880"/>
          </a:xfrm>
        </p:grpSpPr>
        <p:sp>
          <p:nvSpPr>
            <p:cNvPr id="103" name=""/>
            <p:cNvSpPr/>
            <p:nvPr/>
          </p:nvSpPr>
          <p:spPr>
            <a:xfrm rot="1200000">
              <a:off x="5913000" y="447012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200000">
              <a:off x="6981480" y="453996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200000">
              <a:off x="6668640" y="472716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200000">
              <a:off x="6552720" y="509544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200000">
              <a:off x="7743240" y="468432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200000">
              <a:off x="6144840" y="5124240"/>
              <a:ext cx="367920" cy="37116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160"/>
                <a:gd name="textAreaBottom" fmla="*/ 286560 h 3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200000">
              <a:off x="7387560" y="4555800"/>
              <a:ext cx="368280" cy="371520"/>
            </a:xfrm>
            <a:custGeom>
              <a:avLst/>
              <a:gdLst>
                <a:gd name="textAreaLeft" fmla="*/ 83880 w 368280"/>
                <a:gd name="textAreaRight" fmla="*/ 284400 w 36828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200000">
              <a:off x="7824240" y="505116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200000">
              <a:off x="7002000" y="493344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200000">
              <a:off x="5703480" y="524484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200000">
              <a:off x="5820840" y="485568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200000">
              <a:off x="8075160" y="4570200"/>
              <a:ext cx="367920" cy="37116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160"/>
                <a:gd name="textAreaBottom" fmla="*/ 286560 h 3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200000">
              <a:off x="7425720" y="494640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200000">
              <a:off x="5498640" y="458100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200000">
              <a:off x="6251040" y="473040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200000">
              <a:off x="6419520" y="4403520"/>
              <a:ext cx="367920" cy="37116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160"/>
                <a:gd name="textAreaBottom" fmla="*/ 286560 h 37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200000">
              <a:off x="5446440" y="495252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648760" y="5015880"/>
              <a:ext cx="468720" cy="655560"/>
              <a:chOff x="5648760" y="5015880"/>
              <a:chExt cx="468720" cy="655560"/>
            </a:xfrm>
          </p:grpSpPr>
          <p:sp>
            <p:nvSpPr>
              <p:cNvPr id="121" name=""/>
              <p:cNvSpPr/>
              <p:nvPr/>
            </p:nvSpPr>
            <p:spPr>
              <a:xfrm rot="1320000">
                <a:off x="5689440" y="5056200"/>
                <a:ext cx="268200" cy="270000"/>
              </a:xfrm>
              <a:custGeom>
                <a:avLst/>
                <a:gdLst>
                  <a:gd name="textAreaLeft" fmla="*/ 61200 w 268200"/>
                  <a:gd name="textAreaRight" fmla="*/ 207000 w 268200"/>
                  <a:gd name="textAreaTop" fmla="*/ 61560 h 270000"/>
                  <a:gd name="textAreaBottom" fmla="*/ 208440 h 2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 rot="10800000">
                <a:off x="5766840" y="5361840"/>
                <a:ext cx="342720" cy="102960"/>
              </a:xfrm>
              <a:custGeom>
                <a:avLst/>
                <a:gdLst>
                  <a:gd name="textAreaLeft" fmla="*/ 38160 w 342720"/>
                  <a:gd name="textAreaRight" fmla="*/ 304560 w 342720"/>
                  <a:gd name="textAreaTop" fmla="*/ 11160 h 102960"/>
                  <a:gd name="textAreaBottom" fmla="*/ 9180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24" y="21600"/>
                    </a:lnTo>
                    <a:lnTo>
                      <a:pt x="1176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81240" y="5259240"/>
                <a:ext cx="31284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solidFill>
                <a:srgbClr val="ff3300">
                  <a:alpha val="50000"/>
                </a:srgbClr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55680" y="5247000"/>
                <a:ext cx="361800" cy="11880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7868160" y="4537440"/>
              <a:ext cx="468360" cy="655560"/>
              <a:chOff x="7868160" y="4537440"/>
              <a:chExt cx="468360" cy="655560"/>
            </a:xfrm>
          </p:grpSpPr>
          <p:sp>
            <p:nvSpPr>
              <p:cNvPr id="126" name=""/>
              <p:cNvSpPr/>
              <p:nvPr/>
            </p:nvSpPr>
            <p:spPr>
              <a:xfrm flipV="1" rot="20280000">
                <a:off x="7908840" y="4882680"/>
                <a:ext cx="267840" cy="270000"/>
              </a:xfrm>
              <a:custGeom>
                <a:avLst/>
                <a:gdLst>
                  <a:gd name="textAreaLeft" fmla="*/ 61200 w 267840"/>
                  <a:gd name="textAreaRight" fmla="*/ 206640 w 267840"/>
                  <a:gd name="textAreaTop" fmla="*/ 61560 h 270000"/>
                  <a:gd name="textAreaBottom" fmla="*/ 208440 h 2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 rot="10800000">
                <a:off x="7985160" y="4744080"/>
                <a:ext cx="342360" cy="102960"/>
              </a:xfrm>
              <a:custGeom>
                <a:avLst/>
                <a:gdLst>
                  <a:gd name="textAreaLeft" fmla="*/ 37800 w 342360"/>
                  <a:gd name="textAreaRight" fmla="*/ 304560 w 342360"/>
                  <a:gd name="textAreaTop" fmla="*/ 11160 h 102960"/>
                  <a:gd name="textAreaBottom" fmla="*/ 9180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24" y="21600"/>
                    </a:lnTo>
                    <a:lnTo>
                      <a:pt x="1176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8000640" y="4537080"/>
                <a:ext cx="31248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solidFill>
                <a:srgbClr val="ff3300">
                  <a:alpha val="50000"/>
                </a:srgbClr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7975080" y="4843080"/>
                <a:ext cx="361440" cy="11880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7047000" y="4368240"/>
              <a:ext cx="520920" cy="732960"/>
              <a:chOff x="7047000" y="4368240"/>
              <a:chExt cx="520920" cy="732960"/>
            </a:xfrm>
          </p:grpSpPr>
          <p:sp>
            <p:nvSpPr>
              <p:cNvPr id="131" name=""/>
              <p:cNvSpPr/>
              <p:nvPr/>
            </p:nvSpPr>
            <p:spPr>
              <a:xfrm flipV="1" rot="18132000">
                <a:off x="7227720" y="4780800"/>
                <a:ext cx="268200" cy="270000"/>
              </a:xfrm>
              <a:custGeom>
                <a:avLst/>
                <a:gdLst>
                  <a:gd name="textAreaLeft" fmla="*/ 61200 w 268200"/>
                  <a:gd name="textAreaRight" fmla="*/ 207000 w 268200"/>
                  <a:gd name="textAreaTop" fmla="*/ 61560 h 270000"/>
                  <a:gd name="textAreaBottom" fmla="*/ 208440 h 2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rot="8651400">
                <a:off x="7153200" y="4617000"/>
                <a:ext cx="342720" cy="102960"/>
              </a:xfrm>
              <a:custGeom>
                <a:avLst/>
                <a:gdLst>
                  <a:gd name="textAreaLeft" fmla="*/ 38160 w 342720"/>
                  <a:gd name="textAreaRight" fmla="*/ 304560 w 342720"/>
                  <a:gd name="textAreaTop" fmla="*/ 11160 h 102960"/>
                  <a:gd name="textAreaBottom" fmla="*/ 9180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24" y="21600"/>
                    </a:lnTo>
                    <a:lnTo>
                      <a:pt x="1176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9452000">
                <a:off x="7137720" y="4420080"/>
                <a:ext cx="31284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solidFill>
                <a:srgbClr val="ff3300">
                  <a:alpha val="50000"/>
                </a:srgbClr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 rot="19452000">
                <a:off x="7205400" y="4696560"/>
                <a:ext cx="361800" cy="11880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6271200" y="4626360"/>
              <a:ext cx="468360" cy="655560"/>
              <a:chOff x="6271200" y="4626360"/>
              <a:chExt cx="468360" cy="655560"/>
            </a:xfrm>
          </p:grpSpPr>
          <p:sp>
            <p:nvSpPr>
              <p:cNvPr id="136" name=""/>
              <p:cNvSpPr/>
              <p:nvPr/>
            </p:nvSpPr>
            <p:spPr>
              <a:xfrm flipV="1" rot="20280000">
                <a:off x="6311880" y="4971600"/>
                <a:ext cx="267840" cy="270000"/>
              </a:xfrm>
              <a:custGeom>
                <a:avLst/>
                <a:gdLst>
                  <a:gd name="textAreaLeft" fmla="*/ 61200 w 267840"/>
                  <a:gd name="textAreaRight" fmla="*/ 206640 w 267840"/>
                  <a:gd name="textAreaTop" fmla="*/ 61560 h 270000"/>
                  <a:gd name="textAreaBottom" fmla="*/ 208440 h 2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0800000">
                <a:off x="6388200" y="4833000"/>
                <a:ext cx="342360" cy="102960"/>
              </a:xfrm>
              <a:custGeom>
                <a:avLst/>
                <a:gdLst>
                  <a:gd name="textAreaLeft" fmla="*/ 37800 w 342360"/>
                  <a:gd name="textAreaRight" fmla="*/ 304560 w 342360"/>
                  <a:gd name="textAreaTop" fmla="*/ 11160 h 102960"/>
                  <a:gd name="textAreaBottom" fmla="*/ 9180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24" y="21600"/>
                    </a:lnTo>
                    <a:lnTo>
                      <a:pt x="1176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6403680" y="4626000"/>
                <a:ext cx="31248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solidFill>
                <a:srgbClr val="ff3300">
                  <a:alpha val="50000"/>
                </a:srgbClr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V="1">
                <a:off x="6378120" y="4932000"/>
                <a:ext cx="361440" cy="11880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rot="1200000">
              <a:off x="7184520" y="524628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200000">
              <a:off x="7587720" y="529884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200000">
              <a:off x="8216280" y="492084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200000">
              <a:off x="8032320" y="537660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200000">
              <a:off x="8411760" y="526068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200000">
              <a:off x="6741720" y="425556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200000">
              <a:off x="8606880" y="493344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200000">
              <a:off x="8451360" y="456696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200000">
              <a:off x="8841960" y="5271840"/>
              <a:ext cx="367920" cy="371520"/>
            </a:xfrm>
            <a:custGeom>
              <a:avLst/>
              <a:gdLst>
                <a:gd name="textAreaLeft" fmla="*/ 83880 w 367920"/>
                <a:gd name="textAreaRight" fmla="*/ 284040 w 367920"/>
                <a:gd name="textAreaTop" fmla="*/ 84600 h 371520"/>
                <a:gd name="textAreaBottom" fmla="*/ 286920 h 37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8343000" y="5076000"/>
              <a:ext cx="486360" cy="648360"/>
              <a:chOff x="8343000" y="5076000"/>
              <a:chExt cx="486360" cy="648360"/>
            </a:xfrm>
          </p:grpSpPr>
          <p:sp>
            <p:nvSpPr>
              <p:cNvPr id="150" name=""/>
              <p:cNvSpPr/>
              <p:nvPr/>
            </p:nvSpPr>
            <p:spPr>
              <a:xfrm rot="945600">
                <a:off x="8374680" y="5106960"/>
                <a:ext cx="267840" cy="270000"/>
              </a:xfrm>
              <a:custGeom>
                <a:avLst/>
                <a:gdLst>
                  <a:gd name="textAreaLeft" fmla="*/ 61200 w 267840"/>
                  <a:gd name="textAreaRight" fmla="*/ 206640 w 267840"/>
                  <a:gd name="textAreaTop" fmla="*/ 61560 h 270000"/>
                  <a:gd name="textAreaBottom" fmla="*/ 208440 h 2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 rot="10425600">
                <a:off x="8474760" y="5398560"/>
                <a:ext cx="342360" cy="102960"/>
              </a:xfrm>
              <a:custGeom>
                <a:avLst/>
                <a:gdLst>
                  <a:gd name="textAreaLeft" fmla="*/ 37800 w 342360"/>
                  <a:gd name="textAreaRight" fmla="*/ 304560 w 342360"/>
                  <a:gd name="textAreaTop" fmla="*/ 11160 h 102960"/>
                  <a:gd name="textAreaBottom" fmla="*/ 9180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24" y="21600"/>
                    </a:lnTo>
                    <a:lnTo>
                      <a:pt x="1176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1225600">
                <a:off x="8495280" y="5296320"/>
                <a:ext cx="31248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solidFill>
                <a:srgbClr val="ff3300">
                  <a:alpha val="50000"/>
                </a:srgbClr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21225600">
                <a:off x="8452440" y="5284800"/>
                <a:ext cx="361440" cy="11880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7584120" y="5128560"/>
              <a:ext cx="468360" cy="655560"/>
              <a:chOff x="7584120" y="5128560"/>
              <a:chExt cx="468360" cy="655560"/>
            </a:xfrm>
          </p:grpSpPr>
          <p:sp>
            <p:nvSpPr>
              <p:cNvPr id="155" name=""/>
              <p:cNvSpPr/>
              <p:nvPr/>
            </p:nvSpPr>
            <p:spPr>
              <a:xfrm rot="1320000">
                <a:off x="7624800" y="5168880"/>
                <a:ext cx="267840" cy="270000"/>
              </a:xfrm>
              <a:custGeom>
                <a:avLst/>
                <a:gdLst>
                  <a:gd name="textAreaLeft" fmla="*/ 61200 w 267840"/>
                  <a:gd name="textAreaRight" fmla="*/ 206640 w 267840"/>
                  <a:gd name="textAreaTop" fmla="*/ 61560 h 270000"/>
                  <a:gd name="textAreaBottom" fmla="*/ 208440 h 2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 rot="10800000">
                <a:off x="7701120" y="5474520"/>
                <a:ext cx="342360" cy="102960"/>
              </a:xfrm>
              <a:custGeom>
                <a:avLst/>
                <a:gdLst>
                  <a:gd name="textAreaLeft" fmla="*/ 37800 w 342360"/>
                  <a:gd name="textAreaRight" fmla="*/ 304560 w 342360"/>
                  <a:gd name="textAreaTop" fmla="*/ 11160 h 102960"/>
                  <a:gd name="textAreaBottom" fmla="*/ 9180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24" y="21600"/>
                    </a:lnTo>
                    <a:lnTo>
                      <a:pt x="1176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16600" y="5371920"/>
                <a:ext cx="31248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solidFill>
                <a:srgbClr val="ff3300">
                  <a:alpha val="50000"/>
                </a:srgbClr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91040" y="5359680"/>
                <a:ext cx="361440" cy="11880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6818760" y="4998600"/>
              <a:ext cx="460800" cy="733680"/>
              <a:chOff x="6818760" y="4998600"/>
              <a:chExt cx="460800" cy="733680"/>
            </a:xfrm>
          </p:grpSpPr>
          <p:sp>
            <p:nvSpPr>
              <p:cNvPr id="160" name=""/>
              <p:cNvSpPr/>
              <p:nvPr/>
            </p:nvSpPr>
            <p:spPr>
              <a:xfrm rot="2519400">
                <a:off x="6888240" y="5053320"/>
                <a:ext cx="268200" cy="270000"/>
              </a:xfrm>
              <a:custGeom>
                <a:avLst/>
                <a:gdLst>
                  <a:gd name="textAreaLeft" fmla="*/ 61200 w 268200"/>
                  <a:gd name="textAreaRight" fmla="*/ 207000 w 268200"/>
                  <a:gd name="textAreaTop" fmla="*/ 61560 h 270000"/>
                  <a:gd name="textAreaBottom" fmla="*/ 208440 h 2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 rot="11999400">
                <a:off x="6882480" y="5384520"/>
                <a:ext cx="342720" cy="102960"/>
              </a:xfrm>
              <a:custGeom>
                <a:avLst/>
                <a:gdLst>
                  <a:gd name="textAreaLeft" fmla="*/ 38160 w 342720"/>
                  <a:gd name="textAreaRight" fmla="*/ 304560 w 342720"/>
                  <a:gd name="textAreaTop" fmla="*/ 11160 h 102960"/>
                  <a:gd name="textAreaBottom" fmla="*/ 9180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24" y="21600"/>
                    </a:lnTo>
                    <a:lnTo>
                      <a:pt x="1176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199400">
                <a:off x="6879600" y="5279040"/>
                <a:ext cx="31284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solidFill>
                <a:srgbClr val="ff3300">
                  <a:alpha val="50000"/>
                </a:srgbClr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199400">
                <a:off x="6908400" y="5275800"/>
                <a:ext cx="361800" cy="11880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5781240" y="4398840"/>
              <a:ext cx="468360" cy="679320"/>
              <a:chOff x="5781240" y="4398840"/>
              <a:chExt cx="468360" cy="679320"/>
            </a:xfrm>
          </p:grpSpPr>
          <p:sp>
            <p:nvSpPr>
              <p:cNvPr id="165" name=""/>
              <p:cNvSpPr/>
              <p:nvPr/>
            </p:nvSpPr>
            <p:spPr>
              <a:xfrm rot="12378600">
                <a:off x="5935680" y="4762440"/>
                <a:ext cx="267840" cy="270000"/>
              </a:xfrm>
              <a:custGeom>
                <a:avLst/>
                <a:gdLst>
                  <a:gd name="textAreaLeft" fmla="*/ 61200 w 267840"/>
                  <a:gd name="textAreaRight" fmla="*/ 206640 w 267840"/>
                  <a:gd name="textAreaTop" fmla="*/ 61560 h 270000"/>
                  <a:gd name="textAreaBottom" fmla="*/ 208440 h 27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 rot="258600">
                <a:off x="5801040" y="4615920"/>
                <a:ext cx="342360" cy="102960"/>
              </a:xfrm>
              <a:custGeom>
                <a:avLst/>
                <a:gdLst>
                  <a:gd name="textAreaLeft" fmla="*/ 37800 w 342360"/>
                  <a:gd name="textAreaRight" fmla="*/ 304560 w 342360"/>
                  <a:gd name="textAreaTop" fmla="*/ 11160 h 102960"/>
                  <a:gd name="textAreaBottom" fmla="*/ 91800 h 102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24" y="21600"/>
                    </a:lnTo>
                    <a:lnTo>
                      <a:pt x="1176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1058600">
                <a:off x="5820480" y="4410000"/>
                <a:ext cx="312480" cy="41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108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10800000"/>
                  </a:path>
                </a:pathLst>
              </a:custGeom>
              <a:solidFill>
                <a:srgbClr val="ff3300">
                  <a:alpha val="50000"/>
                </a:srgbClr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1058600">
                <a:off x="5784840" y="4714920"/>
                <a:ext cx="361440" cy="11880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"/>
          <p:cNvSpPr/>
          <p:nvPr/>
        </p:nvSpPr>
        <p:spPr>
          <a:xfrm>
            <a:off x="5302440" y="5888160"/>
            <a:ext cx="410184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o-acetyl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pressed chromatin f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2440" y="1504800"/>
            <a:ext cx="4071960" cy="2602080"/>
            <a:chOff x="352440" y="1504800"/>
            <a:chExt cx="4071960" cy="2602080"/>
          </a:xfrm>
        </p:grpSpPr>
        <p:sp>
          <p:nvSpPr>
            <p:cNvPr id="171" name=""/>
            <p:cNvSpPr/>
            <p:nvPr/>
          </p:nvSpPr>
          <p:spPr>
            <a:xfrm>
              <a:off x="475560" y="2819520"/>
              <a:ext cx="2297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transcriptional repr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53200" y="3390840"/>
              <a:ext cx="19180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H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stone </a:t>
              </a:r>
              <a:r>
                <a:rPr b="1" i="1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D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acetyl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80480" y="1637640"/>
              <a:ext cx="1681560" cy="2276640"/>
              <a:chOff x="2580480" y="1637640"/>
              <a:chExt cx="1681560" cy="2276640"/>
            </a:xfrm>
          </p:grpSpPr>
          <p:sp>
            <p:nvSpPr>
              <p:cNvPr id="174" name=""/>
              <p:cNvSpPr/>
              <p:nvPr/>
            </p:nvSpPr>
            <p:spPr>
              <a:xfrm rot="1320000">
                <a:off x="2817360" y="2285640"/>
                <a:ext cx="709560" cy="714240"/>
              </a:xfrm>
              <a:custGeom>
                <a:avLst/>
                <a:gdLst>
                  <a:gd name="textAreaLeft" fmla="*/ 162000 w 709560"/>
                  <a:gd name="textAreaRight" fmla="*/ 547560 w 709560"/>
                  <a:gd name="textAreaTop" fmla="*/ 163080 h 714240"/>
                  <a:gd name="textAreaBottom" fmla="*/ 551160 h 7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flipV="1" rot="10800000">
                <a:off x="3022560" y="3092760"/>
                <a:ext cx="906480" cy="273240"/>
              </a:xfrm>
              <a:custGeom>
                <a:avLst/>
                <a:gdLst>
                  <a:gd name="textAreaLeft" fmla="*/ 100800 w 906480"/>
                  <a:gd name="textAreaRight" fmla="*/ 805680 w 906480"/>
                  <a:gd name="textAreaTop" fmla="*/ 30240 h 273240"/>
                  <a:gd name="textAreaBottom" fmla="*/ 243000 h 273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24" y="21600"/>
                    </a:lnTo>
                    <a:lnTo>
                      <a:pt x="1176" y="21600"/>
                    </a:lnTo>
                    <a:close/>
                  </a:path>
                </a:pathLst>
              </a:custGeom>
              <a:solidFill>
                <a:srgbClr val="ff3300"/>
              </a:solidFill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232800" y="3122640"/>
                <a:ext cx="507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in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3060720" y="2822400"/>
                <a:ext cx="828360" cy="1091880"/>
                <a:chOff x="3060720" y="2822400"/>
                <a:chExt cx="828360" cy="10918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060720" y="2822400"/>
                  <a:ext cx="828360" cy="1091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10800000"/>
                    </a:path>
                  </a:pathLst>
                </a:custGeom>
                <a:solidFill>
                  <a:srgbClr val="ff3300">
                    <a:alpha val="50000"/>
                  </a:srgbClr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147840" y="3576600"/>
                  <a:ext cx="6591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3300"/>
                      </a:solidFill>
                      <a:latin typeface="Arial"/>
                    </a:rPr>
                    <a:t>RPD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227400" y="3419280"/>
                  <a:ext cx="523800" cy="223560"/>
                  <a:chOff x="3227400" y="3419280"/>
                  <a:chExt cx="523800" cy="22356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27400" y="3419280"/>
                    <a:ext cx="523800" cy="2235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251160" y="3441240"/>
                    <a:ext cx="79200" cy="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251160" y="3571560"/>
                    <a:ext cx="79200" cy="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V="1">
                    <a:off x="3271680" y="3438000"/>
                    <a:ext cx="425520" cy="130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3286080" y="3493800"/>
                    <a:ext cx="417600" cy="93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V="1">
                    <a:off x="3267000" y="3493440"/>
                    <a:ext cx="147600" cy="745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274920" y="3490560"/>
                    <a:ext cx="142920" cy="65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V="1">
                    <a:off x="3414600" y="3435120"/>
                    <a:ext cx="306360" cy="55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3417840" y="3555720"/>
                    <a:ext cx="299880" cy="34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3373200" y="3516120"/>
                    <a:ext cx="12960" cy="14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2994120" y="2790720"/>
                <a:ext cx="957240" cy="314280"/>
              </a:xfrm>
              <a:prstGeom prst="roundRect">
                <a:avLst>
                  <a:gd name="adj" fmla="val 16667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eCP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580480" y="2411280"/>
                <a:ext cx="167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..</a:t>
                </a: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p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C</a:t>
                </a: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800" spc="-1" strike="noStrike">
                    <a:solidFill>
                      <a:srgbClr val="969696"/>
                    </a:solidFill>
                    <a:latin typeface="Arial"/>
                  </a:rPr>
                  <a:t>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..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31040" y="23763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936160" y="22669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5400000">
                <a:off x="3021120" y="2008800"/>
                <a:ext cx="584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 rot="20280000">
                <a:off x="3311280" y="1744200"/>
                <a:ext cx="709200" cy="714240"/>
              </a:xfrm>
              <a:custGeom>
                <a:avLst/>
                <a:gdLst>
                  <a:gd name="textAreaLeft" fmla="*/ 161640 w 709200"/>
                  <a:gd name="textAreaRight" fmla="*/ 547560 w 709200"/>
                  <a:gd name="textAreaTop" fmla="*/ 163080 h 714240"/>
                  <a:gd name="textAreaBottom" fmla="*/ 551160 h 7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3333cc"/>
              </a:solidFill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 rot="16200000">
                <a:off x="3370320" y="2021400"/>
                <a:ext cx="584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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86960" y="1865160"/>
                <a:ext cx="167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..</a:t>
                </a:r>
                <a:r>
                  <a:rPr b="0" lang="en-US" sz="1800" spc="-1" strike="noStrike">
                    <a:solidFill>
                      <a:srgbClr val="969696"/>
                    </a:solidFill>
                    <a:latin typeface="Arial"/>
                  </a:rPr>
                  <a:t>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p</a:t>
                </a:r>
                <a:r>
                  <a:rPr b="1" lang="en-US" sz="2400" spc="-1" strike="noStrike">
                    <a:solidFill>
                      <a:srgbClr val="ffff00"/>
                    </a:solidFill>
                    <a:latin typeface="Arial"/>
                  </a:rPr>
                  <a:t>C</a:t>
                </a:r>
                <a:r>
                  <a:rPr b="0" lang="en-US" sz="1800" spc="-1" strike="noStrike">
                    <a:solidFill>
                      <a:srgbClr val="b2b2b2"/>
                    </a:solidFill>
                    <a:latin typeface="Arial"/>
                  </a:rPr>
                  <a:t>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..</a:t>
                </a:r>
                <a:r>
                  <a:rPr b="0" i="1" lang="en-US" sz="1600" spc="-1" strike="noStrike">
                    <a:solidFill>
                      <a:srgbClr val="000000"/>
                    </a:solidFill>
                    <a:latin typeface="Arial"/>
                  </a:rPr>
                  <a:t>5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28440" y="172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05760" y="184284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Arial"/>
                  </a:rPr>
                  <a:t>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52440" y="1504800"/>
              <a:ext cx="4071960" cy="2602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94000" y="3102120"/>
              <a:ext cx="127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-repr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783720" y="583740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G methy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31:36Z</cp:lastPrinted>
  <dcterms:modified xsi:type="dcterms:W3CDTF">1999-03-24T13:26:04Z</dcterms:modified>
  <cp:revision>14</cp:revision>
  <dc:subject/>
  <dc:title>CHROMATIN</dc:title>
</cp:coreProperties>
</file>