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66FD-23B5-45B1-A093-90BBD2B9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9090-32C8-4424-B5D8-7737C328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E9DE-7964-4F65-BB91-9ADDC1A8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E77B-DAF2-4BB8-9347-BF1B44C5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57A1-143F-4B5E-9C73-190A067C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363C-10D5-4725-8312-FD4ADCC1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2CF0-5888-419B-B877-9DA33473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7564-514B-4ED1-ADEA-BB2931B4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87D3-2907-4A23-B77C-934B3628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1B482-3621-49F8-BD00-5810B28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65D3-A3AE-47AA-9E1B-7C41CB9F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028E-E6F4-4E61-B225-1DE15AD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F82A-E349-486F-9D0C-1C26471A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1120" y="460080"/>
            <a:ext cx="943632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cetylation of Chromatin Dom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3640" y="6348240"/>
            <a:ext cx="571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bbes, Clayton, Thorne, Crane-Robin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BO J. 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823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5560" y="114444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the chicken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globin gene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9800" y="5154480"/>
            <a:ext cx="8048880" cy="10674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evels of chromatin acety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cross complete chromatin 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NA loops), induces chromatin changes detected as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DNase I sensiti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in these chromatin domains, at functional genes or transcription factor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hromatin structure is interrupted by small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ase I hypersensitive si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9000" y="3492360"/>
            <a:ext cx="5824800" cy="174600"/>
            <a:chOff x="819000" y="3492360"/>
            <a:chExt cx="5824800" cy="174600"/>
          </a:xfrm>
        </p:grpSpPr>
        <p:sp>
          <p:nvSpPr>
            <p:cNvPr id="48" name=""/>
            <p:cNvSpPr/>
            <p:nvPr/>
          </p:nvSpPr>
          <p:spPr>
            <a:xfrm>
              <a:off x="1371600" y="3492360"/>
              <a:ext cx="433440" cy="7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19000" y="3592440"/>
              <a:ext cx="5824800" cy="74520"/>
              <a:chOff x="819000" y="3592440"/>
              <a:chExt cx="5824800" cy="74520"/>
            </a:xfrm>
          </p:grpSpPr>
          <p:sp>
            <p:nvSpPr>
              <p:cNvPr id="50" name=""/>
              <p:cNvSpPr/>
              <p:nvPr/>
            </p:nvSpPr>
            <p:spPr>
              <a:xfrm>
                <a:off x="1666800" y="3592440"/>
                <a:ext cx="138240" cy="74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819000" y="3592440"/>
                <a:ext cx="5824800" cy="74520"/>
                <a:chOff x="819000" y="3592440"/>
                <a:chExt cx="58248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971960" y="3592440"/>
                  <a:ext cx="443160" cy="74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19000" y="3592440"/>
                  <a:ext cx="185760" cy="745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610080" y="3592440"/>
                  <a:ext cx="142920" cy="745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772080" y="3592440"/>
                  <a:ext cx="152280" cy="74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452680" y="3592440"/>
                  <a:ext cx="561960" cy="7452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5695920" y="3592440"/>
                  <a:ext cx="423720" cy="745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157800" y="3592440"/>
                  <a:ext cx="486000" cy="7452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809720" y="3592440"/>
                  <a:ext cx="542880" cy="74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004760" y="3592440"/>
                  <a:ext cx="366840" cy="74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" name=""/>
          <p:cNvGrpSpPr/>
          <p:nvPr/>
        </p:nvGrpSpPr>
        <p:grpSpPr>
          <a:xfrm>
            <a:off x="432720" y="1546200"/>
            <a:ext cx="9364680" cy="3870000"/>
            <a:chOff x="432720" y="1546200"/>
            <a:chExt cx="9364680" cy="3870000"/>
          </a:xfrm>
        </p:grpSpPr>
        <p:grpSp>
          <p:nvGrpSpPr>
            <p:cNvPr id="62" name=""/>
            <p:cNvGrpSpPr/>
            <p:nvPr/>
          </p:nvGrpSpPr>
          <p:grpSpPr>
            <a:xfrm>
              <a:off x="436680" y="1546200"/>
              <a:ext cx="9360720" cy="2773080"/>
              <a:chOff x="436680" y="1546200"/>
              <a:chExt cx="9360720" cy="277308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436680" y="1546200"/>
                <a:ext cx="9360720" cy="2773080"/>
                <a:chOff x="436680" y="1546200"/>
                <a:chExt cx="9360720" cy="2773080"/>
              </a:xfrm>
            </p:grpSpPr>
            <p:grpSp>
              <p:nvGrpSpPr>
                <p:cNvPr id="64" name=""/>
                <p:cNvGrpSpPr/>
                <p:nvPr/>
              </p:nvGrpSpPr>
              <p:grpSpPr>
                <a:xfrm>
                  <a:off x="448200" y="2548080"/>
                  <a:ext cx="6312960" cy="1014120"/>
                  <a:chOff x="448200" y="2548080"/>
                  <a:chExt cx="6312960" cy="101412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448200" y="2882880"/>
                    <a:ext cx="6312960" cy="679320"/>
                    <a:chOff x="448200" y="2882880"/>
                    <a:chExt cx="6312960" cy="67932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5694120" y="2882880"/>
                      <a:ext cx="1067040" cy="679320"/>
                    </a:xfrm>
                    <a:prstGeom prst="rect">
                      <a:avLst/>
                    </a:prstGeom>
                    <a:solidFill>
                      <a:srgbClr val="00cc99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684000" y="2882880"/>
                      <a:ext cx="648000" cy="679320"/>
                    </a:xfrm>
                    <a:prstGeom prst="rect">
                      <a:avLst/>
                    </a:prstGeom>
                    <a:solidFill>
                      <a:srgbClr val="00cc99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685800" y="3211200"/>
                      <a:ext cx="5935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5728320" y="2955600"/>
                      <a:ext cx="92448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nd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448200" y="2946240"/>
                      <a:ext cx="92448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nd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1330200" y="2890800"/>
                    <a:ext cx="3232080" cy="649440"/>
                    <a:chOff x="1330200" y="2890800"/>
                    <a:chExt cx="3232080" cy="64944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2684520" y="3171960"/>
                      <a:ext cx="218880" cy="98280"/>
                    </a:xfrm>
                    <a:prstGeom prst="rect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3319560" y="3171960"/>
                      <a:ext cx="218880" cy="101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4281480" y="3171960"/>
                      <a:ext cx="206280" cy="98280"/>
                    </a:xfrm>
                    <a:prstGeom prst="rect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757680" y="3171960"/>
                      <a:ext cx="193680" cy="101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2631240" y="2890800"/>
                      <a:ext cx="342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3246120" y="2890800"/>
                      <a:ext cx="3636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3681000" y="2890800"/>
                      <a:ext cx="3560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4228200" y="2890800"/>
                      <a:ext cx="328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1330200" y="3249720"/>
                      <a:ext cx="98640" cy="290520"/>
                    </a:xfrm>
                    <a:prstGeom prst="upArrow">
                      <a:avLst>
                        <a:gd name="adj1" fmla="val 29028"/>
                        <a:gd name="adj2" fmla="val 170593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1896840" y="3249720"/>
                      <a:ext cx="98640" cy="290520"/>
                    </a:xfrm>
                    <a:prstGeom prst="upArrow">
                      <a:avLst>
                        <a:gd name="adj1" fmla="val 29028"/>
                        <a:gd name="adj2" fmla="val 170593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2130480" y="3249720"/>
                      <a:ext cx="98280" cy="290520"/>
                    </a:xfrm>
                    <a:prstGeom prst="upArrow">
                      <a:avLst>
                        <a:gd name="adj1" fmla="val 29028"/>
                        <a:gd name="adj2" fmla="val 171218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2487600" y="3249720"/>
                      <a:ext cx="98280" cy="290520"/>
                    </a:xfrm>
                    <a:prstGeom prst="upArrow">
                      <a:avLst>
                        <a:gd name="adj1" fmla="val 29028"/>
                        <a:gd name="adj2" fmla="val 171218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3944880" y="3249720"/>
                      <a:ext cx="98280" cy="290520"/>
                    </a:xfrm>
                    <a:prstGeom prst="upArrow">
                      <a:avLst>
                        <a:gd name="adj1" fmla="val 29028"/>
                        <a:gd name="adj2" fmla="val 171218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4273560" y="3249720"/>
                      <a:ext cx="98280" cy="290520"/>
                    </a:xfrm>
                    <a:prstGeom prst="upArrow">
                      <a:avLst>
                        <a:gd name="adj1" fmla="val 29028"/>
                        <a:gd name="adj2" fmla="val 171218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2625480" y="3249720"/>
                      <a:ext cx="98640" cy="290520"/>
                    </a:xfrm>
                    <a:prstGeom prst="upArrow">
                      <a:avLst>
                        <a:gd name="adj1" fmla="val 29028"/>
                        <a:gd name="adj2" fmla="val 170593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2811240" y="3249720"/>
                      <a:ext cx="98640" cy="290520"/>
                    </a:xfrm>
                    <a:prstGeom prst="upArrow">
                      <a:avLst>
                        <a:gd name="adj1" fmla="val 29028"/>
                        <a:gd name="adj2" fmla="val 170593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4464000" y="3249720"/>
                      <a:ext cx="98280" cy="290520"/>
                    </a:xfrm>
                    <a:prstGeom prst="upArrow">
                      <a:avLst>
                        <a:gd name="adj1" fmla="val 29028"/>
                        <a:gd name="adj2" fmla="val 171218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3297240" y="3249720"/>
                      <a:ext cx="98280" cy="290520"/>
                    </a:xfrm>
                    <a:prstGeom prst="upArrow">
                      <a:avLst>
                        <a:gd name="adj1" fmla="val 29028"/>
                        <a:gd name="adj2" fmla="val 171218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3678120" y="3249720"/>
                      <a:ext cx="98640" cy="290520"/>
                    </a:xfrm>
                    <a:prstGeom prst="upArrow">
                      <a:avLst>
                        <a:gd name="adj1" fmla="val 29028"/>
                        <a:gd name="adj2" fmla="val 170593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3544920" y="3249720"/>
                      <a:ext cx="98280" cy="290520"/>
                    </a:xfrm>
                    <a:prstGeom prst="upArrow">
                      <a:avLst>
                        <a:gd name="adj1" fmla="val 29028"/>
                        <a:gd name="adj2" fmla="val 171218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" name=""/>
                  <p:cNvGrpSpPr/>
                  <p:nvPr/>
                </p:nvGrpSpPr>
                <p:grpSpPr>
                  <a:xfrm>
                    <a:off x="1202760" y="2548080"/>
                    <a:ext cx="4593240" cy="325080"/>
                    <a:chOff x="1202760" y="2548080"/>
                    <a:chExt cx="4593240" cy="32508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1344600" y="2840040"/>
                      <a:ext cx="4343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 flipV="1">
                      <a:off x="1339920" y="2801520"/>
                      <a:ext cx="0" cy="7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 flipV="1">
                      <a:off x="2644920" y="2801520"/>
                      <a:ext cx="0" cy="7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V="1">
                      <a:off x="3949560" y="2801520"/>
                      <a:ext cx="0" cy="7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 flipV="1">
                      <a:off x="5281560" y="2801520"/>
                      <a:ext cx="0" cy="7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8" name=""/>
                    <p:cNvGrpSpPr/>
                    <p:nvPr/>
                  </p:nvGrpSpPr>
                  <p:grpSpPr>
                    <a:xfrm>
                      <a:off x="1202760" y="2548080"/>
                      <a:ext cx="4593240" cy="290520"/>
                      <a:chOff x="1202760" y="2548080"/>
                      <a:chExt cx="4593240" cy="290520"/>
                    </a:xfrm>
                  </p:grpSpPr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1202760" y="2548080"/>
                        <a:ext cx="26604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0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2402280" y="2548080"/>
                        <a:ext cx="3513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0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" name=""/>
                      <p:cNvSpPr/>
                      <p:nvPr/>
                    </p:nvSpPr>
                    <p:spPr>
                      <a:xfrm>
                        <a:off x="3877200" y="2562120"/>
                        <a:ext cx="3513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20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5188320" y="2548080"/>
                        <a:ext cx="3513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0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5437080" y="2552760"/>
                        <a:ext cx="35892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kb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788160" y="2100240"/>
                  <a:ext cx="1812960" cy="2219040"/>
                  <a:chOff x="6788160" y="2100240"/>
                  <a:chExt cx="1812960" cy="22190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6788160" y="2100240"/>
                    <a:ext cx="1812960" cy="2219040"/>
                    <a:chOff x="6788160" y="2100240"/>
                    <a:chExt cx="1812960" cy="22190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907320" y="3259080"/>
                      <a:ext cx="97920" cy="290520"/>
                    </a:xfrm>
                    <a:prstGeom prst="upArrow">
                      <a:avLst>
                        <a:gd name="adj1" fmla="val 29028"/>
                        <a:gd name="adj2" fmla="val 171847"/>
                      </a:avLst>
                    </a:prstGeom>
                    <a:solidFill>
                      <a:srgbClr val="00cc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788160" y="3287880"/>
                      <a:ext cx="181296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se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-sensitive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790680" y="2913120"/>
                      <a:ext cx="1702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globin gen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792120" y="2100240"/>
                      <a:ext cx="179604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c-Lys) antibo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osome p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793560" y="2589120"/>
                      <a:ext cx="15768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loop 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792120" y="3799080"/>
                      <a:ext cx="154944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DNase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2" name=""/>
                  <p:cNvSpPr/>
                  <p:nvPr/>
                </p:nvSpPr>
                <p:spPr>
                  <a:xfrm>
                    <a:off x="6829200" y="2131920"/>
                    <a:ext cx="1685880" cy="21351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8557920" y="2625840"/>
                  <a:ext cx="1239480" cy="1005840"/>
                  <a:chOff x="8557920" y="2625840"/>
                  <a:chExt cx="1239480" cy="100584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8563680" y="2625840"/>
                    <a:ext cx="12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Control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inactive gen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557920" y="3111480"/>
                    <a:ext cx="107064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chicke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ovalbumi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436680" y="1546200"/>
                  <a:ext cx="8964000" cy="1028520"/>
                  <a:chOff x="436680" y="1546200"/>
                  <a:chExt cx="8964000" cy="1028520"/>
                </a:xfrm>
              </p:grpSpPr>
              <p:pic>
                <p:nvPicPr>
                  <p:cNvPr id="117" name="Hebbes94%20Ac-blot%201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36680" y="1555560"/>
                    <a:ext cx="63338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8" name="Hebbes94%20Ac-blot%20+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4040" y="1546200"/>
                    <a:ext cx="6566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19" name=""/>
              <p:cNvGrpSpPr/>
              <p:nvPr/>
            </p:nvGrpSpPr>
            <p:grpSpPr>
              <a:xfrm>
                <a:off x="900000" y="2552760"/>
                <a:ext cx="5362560" cy="195120"/>
                <a:chOff x="900000" y="2552760"/>
                <a:chExt cx="5362560" cy="1951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900000" y="2743200"/>
                  <a:ext cx="71640" cy="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062000" y="2743200"/>
                  <a:ext cx="61920" cy="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724040" y="2747880"/>
                  <a:ext cx="100080" cy="0"/>
                </a:xfrm>
                <a:prstGeom prst="line">
                  <a:avLst/>
                </a:prstGeom>
                <a:ln w="76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271600" y="2747880"/>
                  <a:ext cx="66960" cy="0"/>
                </a:xfrm>
                <a:prstGeom prst="line">
                  <a:avLst/>
                </a:prstGeom>
                <a:ln w="76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09720" y="2738520"/>
                  <a:ext cx="190800" cy="0"/>
                </a:xfrm>
                <a:prstGeom prst="line">
                  <a:avLst/>
                </a:prstGeom>
                <a:ln w="76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610080" y="2733840"/>
                  <a:ext cx="142920" cy="0"/>
                </a:xfrm>
                <a:prstGeom prst="line">
                  <a:avLst/>
                </a:prstGeom>
                <a:ln w="76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776760" y="2733840"/>
                  <a:ext cx="162000" cy="0"/>
                </a:xfrm>
                <a:prstGeom prst="line">
                  <a:avLst/>
                </a:prstGeom>
                <a:ln w="76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81760" y="2743200"/>
                  <a:ext cx="147600" cy="0"/>
                </a:xfrm>
                <a:prstGeom prst="line">
                  <a:avLst/>
                </a:prstGeom>
                <a:ln w="76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767560" y="2738520"/>
                  <a:ext cx="85680" cy="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176880" y="2743200"/>
                  <a:ext cx="85680" cy="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28800" y="2557440"/>
                  <a:ext cx="0" cy="13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1085760" y="2557440"/>
                  <a:ext cx="6192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766880" y="2557440"/>
                  <a:ext cx="0" cy="13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2333520" y="2552760"/>
                  <a:ext cx="6192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2914200" y="2557440"/>
                  <a:ext cx="10980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666960" y="2552760"/>
                  <a:ext cx="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3881520" y="2557440"/>
                  <a:ext cx="37152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48360" y="2552760"/>
                  <a:ext cx="0" cy="13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805360" y="2557440"/>
                  <a:ext cx="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210360" y="255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743040" y="2576880"/>
              <a:ext cx="8788680" cy="2839320"/>
              <a:chOff x="743040" y="2576880"/>
              <a:chExt cx="8788680" cy="28393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743040" y="3691080"/>
                <a:ext cx="657000" cy="1190160"/>
                <a:chOff x="743040" y="3691080"/>
                <a:chExt cx="657000" cy="1190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62120" y="3691080"/>
                  <a:ext cx="0" cy="11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47720" y="4805280"/>
                  <a:ext cx="652320" cy="75960"/>
                  <a:chOff x="747720" y="4805280"/>
                  <a:chExt cx="652320" cy="759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47720" y="4805640"/>
                    <a:ext cx="652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762120" y="480528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V="1">
                    <a:off x="1052640" y="480996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V="1">
                    <a:off x="1343160" y="481464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43040" y="3776760"/>
                  <a:ext cx="641160" cy="347760"/>
                  <a:chOff x="743040" y="3776760"/>
                  <a:chExt cx="641160" cy="34776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757080" y="3776760"/>
                    <a:ext cx="627120" cy="79560"/>
                    <a:chOff x="757080" y="3776760"/>
                    <a:chExt cx="627120" cy="7956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 flipH="1">
                      <a:off x="757080" y="3819600"/>
                      <a:ext cx="609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1" name=""/>
                    <p:cNvGrpSpPr/>
                    <p:nvPr/>
                  </p:nvGrpSpPr>
                  <p:grpSpPr>
                    <a:xfrm>
                      <a:off x="757080" y="3776760"/>
                      <a:ext cx="627120" cy="79560"/>
                      <a:chOff x="757080" y="3776760"/>
                      <a:chExt cx="627120" cy="79560"/>
                    </a:xfrm>
                  </p:grpSpPr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885960" y="3776760"/>
                        <a:ext cx="74520" cy="7452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757080" y="3781440"/>
                        <a:ext cx="74880" cy="7488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080" bIns="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1014480" y="3781440"/>
                        <a:ext cx="74520" cy="7488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080" bIns="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1171440" y="3781440"/>
                        <a:ext cx="74880" cy="7488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080" bIns="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1309680" y="3776760"/>
                        <a:ext cx="74520" cy="7452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824040" y="3776760"/>
                        <a:ext cx="74520" cy="7452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1260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743040" y="3791160"/>
                    <a:ext cx="637920" cy="333360"/>
                    <a:chOff x="743040" y="3791160"/>
                    <a:chExt cx="637920" cy="333360"/>
                  </a:xfrm>
                </p:grpSpPr>
                <p:grpSp>
                  <p:nvGrpSpPr>
                    <p:cNvPr id="159" name=""/>
                    <p:cNvGrpSpPr/>
                    <p:nvPr/>
                  </p:nvGrpSpPr>
                  <p:grpSpPr>
                    <a:xfrm>
                      <a:off x="852480" y="3919680"/>
                      <a:ext cx="452520" cy="152280"/>
                      <a:chOff x="852480" y="3919680"/>
                      <a:chExt cx="452520" cy="152280"/>
                    </a:xfrm>
                  </p:grpSpPr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852480" y="3919680"/>
                        <a:ext cx="119160" cy="763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971640" y="3996000"/>
                        <a:ext cx="128520" cy="42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1100160" y="4038840"/>
                        <a:ext cx="20484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743040" y="3791160"/>
                      <a:ext cx="637920" cy="333360"/>
                      <a:chOff x="743040" y="3791160"/>
                      <a:chExt cx="637920" cy="33336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1281240" y="4024440"/>
                        <a:ext cx="99720" cy="1000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480" bIns="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1147680" y="4000680"/>
                        <a:ext cx="100080" cy="1000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480" bIns="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1004760" y="3924360"/>
                        <a:ext cx="100080" cy="1000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480" bIns="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880920" y="3976920"/>
                        <a:ext cx="100080" cy="1000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480" bIns="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800280" y="3853080"/>
                        <a:ext cx="99720" cy="1000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480" bIns="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785880" y="3791160"/>
                        <a:ext cx="100080" cy="1000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480" bIns="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743040" y="3824280"/>
                        <a:ext cx="100080" cy="1000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480" bIns="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1623960" y="3686040"/>
                <a:ext cx="1201320" cy="1195200"/>
                <a:chOff x="1623960" y="3686040"/>
                <a:chExt cx="1201320" cy="1195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638360" y="3695760"/>
                  <a:ext cx="0" cy="11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1623960" y="4805280"/>
                  <a:ext cx="652320" cy="75960"/>
                  <a:chOff x="1623960" y="4805280"/>
                  <a:chExt cx="652320" cy="759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1623960" y="4805640"/>
                    <a:ext cx="652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V="1">
                    <a:off x="1638360" y="480528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V="1">
                    <a:off x="1928880" y="480996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V="1">
                    <a:off x="2219400" y="481464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1638360" y="3686040"/>
                  <a:ext cx="1130040" cy="905040"/>
                  <a:chOff x="1638360" y="3686040"/>
                  <a:chExt cx="1130040" cy="90504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1685880" y="3686040"/>
                    <a:ext cx="1082520" cy="891720"/>
                    <a:chOff x="1685880" y="3686040"/>
                    <a:chExt cx="1082520" cy="89172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 flipV="1">
                      <a:off x="1692360" y="3685680"/>
                      <a:ext cx="1076040" cy="89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782"/>
                          </a:moveTo>
                          <a:arcTo wR="10800" hR="10800" stAng="-10794272" swAng="530592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782"/>
                          </a:moveTo>
                          <a:arcTo wR="10800" hR="10800" stAng="-10794272" swAng="5305923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685880" y="3857760"/>
                      <a:ext cx="9720" cy="29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1638360" y="3814920"/>
                    <a:ext cx="628560" cy="776160"/>
                    <a:chOff x="1638360" y="3814920"/>
                    <a:chExt cx="628560" cy="77616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1638360" y="3814920"/>
                      <a:ext cx="9504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1657440" y="4210200"/>
                      <a:ext cx="9504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1690560" y="4286520"/>
                      <a:ext cx="9540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1766880" y="4381560"/>
                      <a:ext cx="95400" cy="90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1886040" y="4448160"/>
                      <a:ext cx="95040" cy="90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2033640" y="4500720"/>
                      <a:ext cx="9504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2171880" y="4491000"/>
                      <a:ext cx="95040" cy="90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1647720" y="3735360"/>
                  <a:ext cx="1177560" cy="1020960"/>
                  <a:chOff x="1647720" y="3735360"/>
                  <a:chExt cx="1177560" cy="10209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V="1">
                    <a:off x="1692360" y="3735000"/>
                    <a:ext cx="1132920" cy="98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" y="11376"/>
                        </a:moveTo>
                        <a:arcTo wR="10800" hR="10800" stAng="10616418" swAng="55074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" y="11376"/>
                        </a:moveTo>
                        <a:arcTo wR="10800" hR="10800" stAng="10616418" swAng="5507483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1647720" y="3848400"/>
                    <a:ext cx="603360" cy="907920"/>
                    <a:chOff x="1647720" y="3848400"/>
                    <a:chExt cx="603360" cy="90792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1647720" y="3848400"/>
                      <a:ext cx="7488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1662120" y="424368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1662120" y="435312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1766880" y="449604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1905120" y="462456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033640" y="468180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2176560" y="466740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28640" y="3838680"/>
                  <a:ext cx="1111680" cy="876240"/>
                  <a:chOff x="1628640" y="3838680"/>
                  <a:chExt cx="1111680" cy="87624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1671480" y="3886200"/>
                    <a:ext cx="1068840" cy="801360"/>
                    <a:chOff x="1671480" y="3886200"/>
                    <a:chExt cx="1068840" cy="8013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flipH="1">
                      <a:off x="1671480" y="3886200"/>
                      <a:ext cx="5040" cy="604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1675800" y="4297680"/>
                      <a:ext cx="1064520" cy="38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21786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217860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1628640" y="3838680"/>
                    <a:ext cx="628920" cy="876240"/>
                    <a:chOff x="1628640" y="3838680"/>
                    <a:chExt cx="628920" cy="87624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1628640" y="383868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2157480" y="460548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2019240" y="461016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1881360" y="4614840"/>
                      <a:ext cx="9972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1743120" y="456732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1666800" y="449100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633680" y="4448160"/>
                      <a:ext cx="9972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2448000" y="2576880"/>
                <a:ext cx="1578240" cy="2377440"/>
                <a:chOff x="2448000" y="2576880"/>
                <a:chExt cx="1578240" cy="23774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467080" y="3700440"/>
                  <a:ext cx="0" cy="11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2452680" y="4805280"/>
                  <a:ext cx="652320" cy="75960"/>
                  <a:chOff x="2452680" y="4805280"/>
                  <a:chExt cx="652320" cy="759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2452680" y="4805640"/>
                    <a:ext cx="652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V="1">
                    <a:off x="2467080" y="480528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V="1">
                    <a:off x="2757600" y="480996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V="1">
                    <a:off x="3048120" y="481464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2448000" y="2576880"/>
                  <a:ext cx="1578240" cy="2377440"/>
                  <a:chOff x="2448000" y="2576880"/>
                  <a:chExt cx="1578240" cy="237744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498400" y="2576880"/>
                    <a:ext cx="1527840" cy="2377440"/>
                    <a:chOff x="2498400" y="2576880"/>
                    <a:chExt cx="1527840" cy="237744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 flipH="1" flipV="1">
                      <a:off x="2514240" y="3155040"/>
                      <a:ext cx="1512000" cy="161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4415" y="623"/>
                          </a:moveTo>
                          <a:arcTo wR="10800" hR="10800" stAng="-4226683" swAng="326972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4415" y="623"/>
                          </a:moveTo>
                          <a:arcTo wR="10800" hR="10800" stAng="-4226683" swAng="3269727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2498400" y="2576880"/>
                      <a:ext cx="1238760" cy="23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683" y="14580"/>
                          </a:moveTo>
                          <a:arcTo wR="10800" hR="10800" stAng="9570635" swAng="110082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683" y="14580"/>
                          </a:moveTo>
                          <a:arcTo wR="10800" hR="10800" stAng="9570635" swAng="1100823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2448000" y="3814920"/>
                    <a:ext cx="628560" cy="885960"/>
                    <a:chOff x="2448000" y="3814920"/>
                    <a:chExt cx="628560" cy="88596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2448000" y="3814920"/>
                      <a:ext cx="9504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2467080" y="3915000"/>
                      <a:ext cx="9504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2481120" y="4077000"/>
                      <a:ext cx="9540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2557440" y="4267440"/>
                      <a:ext cx="9540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2695680" y="4567320"/>
                      <a:ext cx="9504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2847960" y="4610160"/>
                      <a:ext cx="95400" cy="90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2981160" y="4605480"/>
                      <a:ext cx="9540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31" name=""/>
              <p:cNvGrpSpPr/>
              <p:nvPr/>
            </p:nvGrpSpPr>
            <p:grpSpPr>
              <a:xfrm>
                <a:off x="3376800" y="3195720"/>
                <a:ext cx="1453320" cy="1685520"/>
                <a:chOff x="3376800" y="3195720"/>
                <a:chExt cx="1453320" cy="16855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438360" y="3691080"/>
                  <a:ext cx="0" cy="11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3424320" y="4805280"/>
                  <a:ext cx="652320" cy="75960"/>
                  <a:chOff x="3424320" y="4805280"/>
                  <a:chExt cx="652320" cy="759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3424320" y="4805640"/>
                    <a:ext cx="652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V="1">
                    <a:off x="3438720" y="480528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V="1">
                    <a:off x="3729240" y="480996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V="1">
                    <a:off x="4019760" y="481464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3376800" y="3810240"/>
                  <a:ext cx="1453320" cy="846000"/>
                  <a:chOff x="3376800" y="3810240"/>
                  <a:chExt cx="1453320" cy="846000"/>
                </a:xfrm>
              </p:grpSpPr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3376800" y="3838680"/>
                    <a:ext cx="1453320" cy="761040"/>
                    <a:chOff x="3376800" y="3838680"/>
                    <a:chExt cx="1453320" cy="76104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3462480" y="3838680"/>
                      <a:ext cx="9360" cy="528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3376800" y="3976200"/>
                      <a:ext cx="1453320" cy="62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463" y="21517"/>
                          </a:moveTo>
                          <a:arcTo wR="10800" hR="10800" stAng="5826561" swAng="263552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463" y="21517"/>
                          </a:moveTo>
                          <a:arcTo wR="10800" hR="10800" stAng="5826561" swAng="2635529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3419640" y="3810240"/>
                    <a:ext cx="626760" cy="846000"/>
                    <a:chOff x="3419640" y="3810240"/>
                    <a:chExt cx="626760" cy="84600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3419640" y="381024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3457440" y="4348440"/>
                      <a:ext cx="7488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3481560" y="442440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3562200" y="4524480"/>
                      <a:ext cx="7488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3686040" y="4581720"/>
                      <a:ext cx="7488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3843360" y="455796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3971880" y="447696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454560" y="3195720"/>
                  <a:ext cx="1312920" cy="1518480"/>
                  <a:chOff x="3454560" y="3195720"/>
                  <a:chExt cx="1312920" cy="15184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529080" y="4033080"/>
                    <a:ext cx="123840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37" y="21214"/>
                        </a:moveTo>
                        <a:arcTo wR="10800" hR="10800" stAng="6322427" swAng="336931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37" y="21214"/>
                        </a:moveTo>
                        <a:arcTo wR="10800" hR="10800" stAng="6322427" swAng="336931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454560" y="3195720"/>
                    <a:ext cx="387000" cy="1352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235" y="20588"/>
                        </a:moveTo>
                        <a:arcTo wR="10800" hR="10800" stAng="6900309" swAng="39645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235" y="20588"/>
                        </a:moveTo>
                        <a:arcTo wR="10800" hR="10800" stAng="6900309" swAng="3964538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3409920" y="3805200"/>
                  <a:ext cx="638280" cy="919440"/>
                  <a:chOff x="3409920" y="3805200"/>
                  <a:chExt cx="638280" cy="9194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3409920" y="3805200"/>
                    <a:ext cx="100080" cy="100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3424320" y="4157640"/>
                    <a:ext cx="100080" cy="100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533760" y="4519800"/>
                    <a:ext cx="100080" cy="100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662280" y="4624560"/>
                    <a:ext cx="100080" cy="100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3462480" y="4376880"/>
                    <a:ext cx="99720" cy="100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800520" y="4586400"/>
                    <a:ext cx="100080" cy="100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948120" y="4605480"/>
                    <a:ext cx="100080" cy="1000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" name=""/>
              <p:cNvGrpSpPr/>
              <p:nvPr/>
            </p:nvGrpSpPr>
            <p:grpSpPr>
              <a:xfrm>
                <a:off x="4915080" y="2977200"/>
                <a:ext cx="1294920" cy="1904040"/>
                <a:chOff x="4915080" y="2977200"/>
                <a:chExt cx="1294920" cy="19040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938840" y="3691080"/>
                  <a:ext cx="0" cy="11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" name=""/>
                <p:cNvGrpSpPr/>
                <p:nvPr/>
              </p:nvGrpSpPr>
              <p:grpSpPr>
                <a:xfrm>
                  <a:off x="4924440" y="4805280"/>
                  <a:ext cx="652320" cy="75960"/>
                  <a:chOff x="4924440" y="4805280"/>
                  <a:chExt cx="652320" cy="7596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4924440" y="4805640"/>
                    <a:ext cx="652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938840" y="480528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229360" y="480996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19880" y="481464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4915080" y="2977200"/>
                  <a:ext cx="1294920" cy="1685520"/>
                  <a:chOff x="4915080" y="2977200"/>
                  <a:chExt cx="1294920" cy="168552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4915080" y="3810240"/>
                    <a:ext cx="637920" cy="852480"/>
                    <a:chOff x="4915080" y="3810240"/>
                    <a:chExt cx="637920" cy="85248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915080" y="3810240"/>
                      <a:ext cx="99720" cy="997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120" bIns="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943520" y="390996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971960" y="398628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043600" y="4348440"/>
                      <a:ext cx="100080" cy="997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120" bIns="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172120" y="439596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319720" y="454356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452920" y="456264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7" name=""/>
                  <p:cNvSpPr/>
                  <p:nvPr/>
                </p:nvSpPr>
                <p:spPr>
                  <a:xfrm>
                    <a:off x="4974840" y="2977200"/>
                    <a:ext cx="1235160" cy="1659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316" y="21498"/>
                        </a:moveTo>
                        <a:arcTo wR="10800" hR="10800" stAng="5873935" swAng="47964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316" y="21498"/>
                        </a:moveTo>
                        <a:arcTo wR="10800" hR="10800" stAng="5873935" swAng="4796439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8" name=""/>
              <p:cNvGrpSpPr/>
              <p:nvPr/>
            </p:nvGrpSpPr>
            <p:grpSpPr>
              <a:xfrm>
                <a:off x="5738760" y="3695760"/>
                <a:ext cx="652320" cy="1185480"/>
                <a:chOff x="5738760" y="3695760"/>
                <a:chExt cx="652320" cy="1185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753160" y="3695760"/>
                  <a:ext cx="0" cy="11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5738760" y="4805280"/>
                  <a:ext cx="652320" cy="75960"/>
                  <a:chOff x="5738760" y="4805280"/>
                  <a:chExt cx="652320" cy="759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738760" y="4805640"/>
                    <a:ext cx="652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V="1">
                    <a:off x="5753160" y="480528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V="1">
                    <a:off x="6043680" y="480996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V="1">
                    <a:off x="6334200" y="481464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5738760" y="3776760"/>
                  <a:ext cx="622440" cy="270000"/>
                  <a:chOff x="5738760" y="3776760"/>
                  <a:chExt cx="622440" cy="2700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H="1" flipV="1">
                    <a:off x="5871960" y="3928680"/>
                    <a:ext cx="43812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738760" y="3776760"/>
                    <a:ext cx="622440" cy="270000"/>
                    <a:chOff x="5738760" y="3776760"/>
                    <a:chExt cx="622440" cy="27000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5738760" y="383400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5805360" y="3853080"/>
                      <a:ext cx="7488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5776920" y="377676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5891040" y="3915000"/>
                      <a:ext cx="7488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6024600" y="3971880"/>
                      <a:ext cx="74520" cy="7488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080" bIns="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6162840" y="3924360"/>
                      <a:ext cx="74520" cy="745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6286680" y="3929040"/>
                      <a:ext cx="74520" cy="7488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080" bIns="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5738760" y="3700440"/>
                  <a:ext cx="642960" cy="271440"/>
                  <a:chOff x="5738760" y="3700440"/>
                  <a:chExt cx="642960" cy="2714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flipH="1">
                    <a:off x="5857560" y="3848400"/>
                    <a:ext cx="476280" cy="2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5738760" y="3700440"/>
                    <a:ext cx="642960" cy="271440"/>
                    <a:chOff x="5738760" y="3700440"/>
                    <a:chExt cx="642960" cy="27144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5762520" y="3881520"/>
                      <a:ext cx="9540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5800680" y="3810240"/>
                      <a:ext cx="9540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5738760" y="3814920"/>
                      <a:ext cx="9540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5867280" y="3781440"/>
                      <a:ext cx="95400" cy="90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6005520" y="3848400"/>
                      <a:ext cx="95400" cy="9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6143760" y="3700440"/>
                      <a:ext cx="95040" cy="90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6286680" y="3843360"/>
                      <a:ext cx="95040" cy="90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3333cc"/>
                    </a:solidFill>
                    <a:ln w="1260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05" name=""/>
              <p:cNvGrpSpPr/>
              <p:nvPr/>
            </p:nvGrpSpPr>
            <p:grpSpPr>
              <a:xfrm>
                <a:off x="8667720" y="3691080"/>
                <a:ext cx="657360" cy="1190160"/>
                <a:chOff x="8667720" y="3691080"/>
                <a:chExt cx="657360" cy="119016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8672400" y="4805280"/>
                  <a:ext cx="652320" cy="75960"/>
                  <a:chOff x="8672400" y="4805280"/>
                  <a:chExt cx="652320" cy="759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8672400" y="4805640"/>
                    <a:ext cx="652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8686800" y="480528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8977320" y="480996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V="1">
                    <a:off x="9267840" y="4814640"/>
                    <a:ext cx="0" cy="66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8686800" y="3691080"/>
                  <a:ext cx="0" cy="11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8667720" y="3753000"/>
                  <a:ext cx="657360" cy="299880"/>
                  <a:chOff x="8667720" y="3753000"/>
                  <a:chExt cx="657360" cy="2998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8772480" y="3934080"/>
                    <a:ext cx="53820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8667720" y="3753000"/>
                    <a:ext cx="657360" cy="299880"/>
                    <a:chOff x="8667720" y="3753000"/>
                    <a:chExt cx="657360" cy="29988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8667720" y="382428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8696160" y="388152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724960" y="375300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8810640" y="390060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8943840" y="3953160"/>
                      <a:ext cx="100080" cy="997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120" bIns="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9072720" y="3905280"/>
                      <a:ext cx="9972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9225000" y="3915000"/>
                      <a:ext cx="100080" cy="100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2" name=""/>
              <p:cNvGrpSpPr/>
              <p:nvPr/>
            </p:nvGrpSpPr>
            <p:grpSpPr>
              <a:xfrm>
                <a:off x="8540280" y="4833360"/>
                <a:ext cx="991440" cy="582840"/>
                <a:chOff x="8540280" y="4833360"/>
                <a:chExt cx="991440" cy="5828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8540280" y="4833360"/>
                  <a:ext cx="991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     1     2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604360" y="4957200"/>
                  <a:ext cx="7416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se 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U/ml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5" name=""/>
            <p:cNvSpPr/>
            <p:nvPr/>
          </p:nvSpPr>
          <p:spPr>
            <a:xfrm rot="16200000">
              <a:off x="-70200" y="4070520"/>
              <a:ext cx="128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NA rem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6040" y="48697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Nase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1:36Z</cp:lastPrinted>
  <dcterms:modified xsi:type="dcterms:W3CDTF">1999-03-24T13:26:36Z</dcterms:modified>
  <cp:revision>14</cp:revision>
  <dc:subject/>
  <dc:title>CHROMATIN</dc:title>
</cp:coreProperties>
</file>