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56AE4-9A9F-494D-9B82-32EA20B29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FAADA-E4C7-47EE-9E73-4315DB300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0A3F5-0CDB-4366-AB42-60DB588C1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B1234-FEAF-4B08-868C-5E55D39AB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A85CE-8B55-44F3-B5FC-21656E93F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47797-E460-4364-AE5E-6E6828B2A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BB9C3-CB83-45F5-B457-4BF6BD301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6A43F-9DAE-43B3-A6B2-6B4E60821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73DFD-541C-4600-B2B5-BB8D59F0B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B0323-9F27-47FD-A9F3-039822CF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5E7EE-39A6-4A90-966F-B916CC60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79ADA-E063-429E-9F3E-4BCA49CA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572320" y="6477120"/>
            <a:ext cx="94284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9527760" y="6382800"/>
            <a:ext cx="43668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482BC-FA43-46A4-AED5-F00AB6494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247680" y="6259680"/>
            <a:ext cx="1390680" cy="4251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630360" y="6480000"/>
            <a:ext cx="550800" cy="2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8735760" y="5310000"/>
            <a:ext cx="282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1999, J.H.Waterborg, UMK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432480" y="1274760"/>
            <a:ext cx="1800360" cy="10638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27720" y="1274760"/>
            <a:ext cx="1819080" cy="10638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443640" y="5305320"/>
            <a:ext cx="1819440" cy="95256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3080" y="460080"/>
            <a:ext cx="8221680" cy="72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most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All Acetylation is Dyna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79400" y="6348240"/>
            <a:ext cx="3807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aterbor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. Biol. Chem. 27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27602 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9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349200" y="1249200"/>
            <a:ext cx="1729080" cy="4132440"/>
            <a:chOff x="349200" y="1249200"/>
            <a:chExt cx="1729080" cy="4132440"/>
          </a:xfrm>
        </p:grpSpPr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372960" y="1249200"/>
              <a:ext cx="1676520" cy="336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415440" y="1295280"/>
              <a:ext cx="159192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14097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Example: </a:t>
              </a: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alg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14097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00"/>
                  </a:solidFill>
                  <a:latin typeface="Times New Roman"/>
                </a:rPr>
                <a:t>Chlamydomon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14097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00"/>
                  </a:solidFill>
                  <a:latin typeface="Times New Roman"/>
                </a:rPr>
                <a:t>	</a:t>
              </a:r>
              <a:r>
                <a:rPr b="1" i="1" lang="en-US" sz="1600" spc="-1" strike="noStrike">
                  <a:solidFill>
                    <a:srgbClr val="ffff00"/>
                  </a:solidFill>
                  <a:latin typeface="Times New Roman"/>
                </a:rPr>
                <a:t>reinhardti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9200" y="4648320"/>
              <a:ext cx="1729080" cy="7333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ranscriptionall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tive fra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f genome </a:t>
              </a: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20 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1347480" y="1265400"/>
            <a:ext cx="8310240" cy="5234400"/>
            <a:chOff x="1347480" y="1265400"/>
            <a:chExt cx="8310240" cy="5234400"/>
          </a:xfrm>
        </p:grpSpPr>
        <p:pic>
          <p:nvPicPr>
            <p:cNvPr id="53" name="" descr=""/>
            <p:cNvPicPr/>
            <p:nvPr/>
          </p:nvPicPr>
          <p:blipFill>
            <a:blip r:embed="rId2"/>
            <a:srcRect l="5209" t="12730" r="5915" b="7930"/>
            <a:stretch/>
          </p:blipFill>
          <p:spPr>
            <a:xfrm>
              <a:off x="3957480" y="2352600"/>
              <a:ext cx="4791240" cy="2959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" name=""/>
            <p:cNvGrpSpPr/>
            <p:nvPr/>
          </p:nvGrpSpPr>
          <p:grpSpPr>
            <a:xfrm>
              <a:off x="2081880" y="1265400"/>
              <a:ext cx="6169320" cy="1176840"/>
              <a:chOff x="2081880" y="1265400"/>
              <a:chExt cx="6169320" cy="1176840"/>
            </a:xfrm>
          </p:grpSpPr>
          <p:grpSp>
            <p:nvGrpSpPr>
              <p:cNvPr id="55" name=""/>
              <p:cNvGrpSpPr/>
              <p:nvPr/>
            </p:nvGrpSpPr>
            <p:grpSpPr>
              <a:xfrm>
                <a:off x="2081880" y="1275120"/>
                <a:ext cx="6169320" cy="1167120"/>
                <a:chOff x="2081880" y="1275120"/>
                <a:chExt cx="6169320" cy="1167120"/>
              </a:xfrm>
            </p:grpSpPr>
            <p:sp>
              <p:nvSpPr>
                <p:cNvPr id="56" name=""/>
                <p:cNvSpPr/>
                <p:nvPr/>
              </p:nvSpPr>
              <p:spPr>
                <a:xfrm>
                  <a:off x="2157120" y="1275120"/>
                  <a:ext cx="5752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Level of histone acetylation:        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32 % of H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                     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6 % of H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2128680" y="1539720"/>
                  <a:ext cx="5994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Average level of acetylation:      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2.4 AcLys/H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                 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.6 AcLys/H4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2081880" y="1747080"/>
                  <a:ext cx="616932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Average AcLys turnover T</a:t>
                  </a:r>
                  <a:r>
                    <a:rPr b="0" lang="en-US" sz="1800" spc="-1" strike="noStrike" baseline="-20000">
                      <a:solidFill>
                        <a:srgbClr val="000000"/>
                      </a:solidFill>
                      <a:latin typeface="Arial"/>
                    </a:rPr>
                    <a:t>½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:    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.9 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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.4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min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  (H3)          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3.5 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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.1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min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 (H4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2393640" y="2047680"/>
                  <a:ext cx="404568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AcLys turnover T</a:t>
                  </a:r>
                  <a:r>
                    <a:rPr b="0" lang="en-US" sz="1800" spc="-1" strike="noStrike" baseline="-20000">
                      <a:solidFill>
                        <a:srgbClr val="000000"/>
                      </a:solidFill>
                      <a:latin typeface="Arial"/>
                    </a:rPr>
                    <a:t>½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 (min):   2.8  1.8  1.8  1.6  1.5 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" name=""/>
              <p:cNvSpPr/>
              <p:nvPr/>
            </p:nvSpPr>
            <p:spPr>
              <a:xfrm>
                <a:off x="2192400" y="1265400"/>
                <a:ext cx="6054840" cy="10825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" name=""/>
            <p:cNvGrpSpPr/>
            <p:nvPr/>
          </p:nvGrpSpPr>
          <p:grpSpPr>
            <a:xfrm>
              <a:off x="1347480" y="5271840"/>
              <a:ext cx="8310240" cy="1227960"/>
              <a:chOff x="1347480" y="5271840"/>
              <a:chExt cx="8310240" cy="122796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1347480" y="5271840"/>
                <a:ext cx="8310240" cy="981360"/>
                <a:chOff x="1347480" y="5271840"/>
                <a:chExt cx="8310240" cy="98136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4529160" y="5281560"/>
                  <a:ext cx="1819080" cy="971640"/>
                </a:xfrm>
                <a:prstGeom prst="rect">
                  <a:avLst/>
                </a:prstGeom>
                <a:solidFill>
                  <a:srgbClr val="ffff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1347480" y="5601600"/>
                  <a:ext cx="72097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Fraction of acetylated histone    </a:t>
                  </a:r>
                  <a:r>
                    <a:rPr b="1" lang="en-US" sz="1500" spc="-1" strike="noStrike">
                      <a:solidFill>
                        <a:srgbClr val="000000"/>
                      </a:solidFill>
                      <a:latin typeface="Arial"/>
                    </a:rPr>
                    <a:t>100  92  104 106  82    39  58   81 100   76  %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      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subject to AcLys turnover: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  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100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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12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% of H3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     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55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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4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% of H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4572720" y="5271840"/>
                  <a:ext cx="50850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1     2     3     4     5    </a:t>
                  </a:r>
                  <a:r>
                    <a:rPr b="1" i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1" i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   1     2     3     4     5    #AcLys/histon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6468840" y="6162480"/>
                <a:ext cx="2608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(67%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of multi-acetylated H4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JH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-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5T20:57:39Z</dcterms:created>
  <dc:creator>Jakob H. Waterborg</dc:creator>
  <dc:description/>
  <dc:language>en-US</dc:language>
  <cp:lastModifiedBy>Jakob H. Waterborg</cp:lastModifiedBy>
  <cp:lastPrinted>1999-03-10T03:31:36Z</cp:lastPrinted>
  <dcterms:modified xsi:type="dcterms:W3CDTF">1999-03-24T13:27:13Z</dcterms:modified>
  <cp:revision>14</cp:revision>
  <dc:subject/>
  <dc:title>CHROMATIN</dc:title>
</cp:coreProperties>
</file>