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9CF01-3533-4811-B500-9F3D00EA5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C81DB-8EDA-423C-80F6-4B24CAFCB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40F62-5A12-42D9-B27E-FF188B2F5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7977C-B284-4C94-84D3-F33F15DB6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B1FE3-3182-48D4-9D23-2B9D60366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F714D-FCD5-4AC3-8DDE-1B60571DF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886E5-C4A2-4E8C-B3AE-3BF8FD0B3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2ED04-4D1D-4D21-B0DE-0D5725AB8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3BBD0-8551-4A9A-AF6A-34E2C0BD7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7D546-E386-4CD6-998F-926D64AE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FA9CE-5DA1-4942-AE57-F5658BA0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CB13A-51A1-4F12-943B-BF3FA856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572320" y="6477120"/>
            <a:ext cx="94284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9528120" y="6370200"/>
            <a:ext cx="371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6960B-750B-48CB-B7CF-C87EC3FBB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247680" y="6259680"/>
            <a:ext cx="1390680" cy="4251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630360" y="6480000"/>
            <a:ext cx="550800" cy="2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8735760" y="5310000"/>
            <a:ext cx="282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1999, J.H.Waterborg, UMK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32880" y="46620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Chromatin transcription: split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40600" y="1190520"/>
            <a:ext cx="4202280" cy="45828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idea how this may wor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5091840" y="1139760"/>
            <a:ext cx="4250520" cy="1002240"/>
            <a:chOff x="5091840" y="1139760"/>
            <a:chExt cx="4250520" cy="1002240"/>
          </a:xfrm>
        </p:grpSpPr>
        <p:sp>
          <p:nvSpPr>
            <p:cNvPr id="46" name=""/>
            <p:cNvSpPr/>
            <p:nvPr/>
          </p:nvSpPr>
          <p:spPr>
            <a:xfrm flipV="1">
              <a:off x="7648560" y="1389240"/>
              <a:ext cx="1693800" cy="144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514840" y="1382760"/>
              <a:ext cx="930240" cy="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5629320" y="1193400"/>
              <a:ext cx="345600" cy="363600"/>
              <a:chOff x="5629320" y="1193400"/>
              <a:chExt cx="345600" cy="363600"/>
            </a:xfrm>
          </p:grpSpPr>
          <p:sp>
            <p:nvSpPr>
              <p:cNvPr id="49" name=""/>
              <p:cNvSpPr/>
              <p:nvPr/>
            </p:nvSpPr>
            <p:spPr>
              <a:xfrm>
                <a:off x="5629320" y="1201320"/>
                <a:ext cx="345600" cy="355320"/>
              </a:xfrm>
              <a:custGeom>
                <a:avLst/>
                <a:gdLst>
                  <a:gd name="textAreaLeft" fmla="*/ 78840 w 345600"/>
                  <a:gd name="textAreaRight" fmla="*/ 266760 w 345600"/>
                  <a:gd name="textAreaTop" fmla="*/ 81000 h 355320"/>
                  <a:gd name="textAreaBottom" fmla="*/ 274320 h 355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cc99"/>
              </a:solidFill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flipV="1">
                <a:off x="5642640" y="1193400"/>
                <a:ext cx="195480" cy="302040"/>
              </a:xfrm>
              <a:prstGeom prst="line">
                <a:avLst/>
              </a:prstGeom>
              <a:ln w="507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V="1">
                <a:off x="5760360" y="1252440"/>
                <a:ext cx="198000" cy="304560"/>
              </a:xfrm>
              <a:prstGeom prst="line">
                <a:avLst/>
              </a:prstGeom>
              <a:ln w="507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021520" y="1198800"/>
              <a:ext cx="340920" cy="368640"/>
              <a:chOff x="8021520" y="1198800"/>
              <a:chExt cx="340920" cy="368640"/>
            </a:xfrm>
          </p:grpSpPr>
          <p:sp>
            <p:nvSpPr>
              <p:cNvPr id="53" name=""/>
              <p:cNvSpPr/>
              <p:nvPr/>
            </p:nvSpPr>
            <p:spPr>
              <a:xfrm>
                <a:off x="8021520" y="1209600"/>
                <a:ext cx="340920" cy="355320"/>
              </a:xfrm>
              <a:custGeom>
                <a:avLst/>
                <a:gdLst>
                  <a:gd name="textAreaLeft" fmla="*/ 77760 w 340920"/>
                  <a:gd name="textAreaRight" fmla="*/ 263160 w 340920"/>
                  <a:gd name="textAreaTop" fmla="*/ 81000 h 355320"/>
                  <a:gd name="textAreaBottom" fmla="*/ 274320 h 355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cc99"/>
              </a:solidFill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flipV="1">
                <a:off x="8034480" y="1198800"/>
                <a:ext cx="194400" cy="307440"/>
              </a:xfrm>
              <a:prstGeom prst="line">
                <a:avLst/>
              </a:prstGeom>
              <a:ln w="507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V="1">
                <a:off x="8151840" y="1262520"/>
                <a:ext cx="196920" cy="304920"/>
              </a:xfrm>
              <a:prstGeom prst="line">
                <a:avLst/>
              </a:prstGeom>
              <a:ln w="507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8470800" y="1206720"/>
              <a:ext cx="340920" cy="365400"/>
              <a:chOff x="8470800" y="1206720"/>
              <a:chExt cx="340920" cy="365400"/>
            </a:xfrm>
          </p:grpSpPr>
          <p:sp>
            <p:nvSpPr>
              <p:cNvPr id="57" name=""/>
              <p:cNvSpPr/>
              <p:nvPr/>
            </p:nvSpPr>
            <p:spPr>
              <a:xfrm>
                <a:off x="8470800" y="1212120"/>
                <a:ext cx="340920" cy="358200"/>
              </a:xfrm>
              <a:custGeom>
                <a:avLst/>
                <a:gdLst>
                  <a:gd name="textAreaLeft" fmla="*/ 77760 w 340920"/>
                  <a:gd name="textAreaRight" fmla="*/ 263160 w 340920"/>
                  <a:gd name="textAreaTop" fmla="*/ 81720 h 358200"/>
                  <a:gd name="textAreaBottom" fmla="*/ 276480 h 358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cc99"/>
              </a:solidFill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V="1">
                <a:off x="8480880" y="1206720"/>
                <a:ext cx="194400" cy="299520"/>
              </a:xfrm>
              <a:prstGeom prst="line">
                <a:avLst/>
              </a:prstGeom>
              <a:ln w="507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8598240" y="1267920"/>
                <a:ext cx="197640" cy="304200"/>
              </a:xfrm>
              <a:prstGeom prst="line">
                <a:avLst/>
              </a:prstGeom>
              <a:ln w="507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8921520" y="1198800"/>
              <a:ext cx="342720" cy="368640"/>
              <a:chOff x="8921520" y="1198800"/>
              <a:chExt cx="342720" cy="368640"/>
            </a:xfrm>
          </p:grpSpPr>
          <p:sp>
            <p:nvSpPr>
              <p:cNvPr id="61" name=""/>
              <p:cNvSpPr/>
              <p:nvPr/>
            </p:nvSpPr>
            <p:spPr>
              <a:xfrm>
                <a:off x="8921520" y="1209600"/>
                <a:ext cx="342720" cy="355320"/>
              </a:xfrm>
              <a:custGeom>
                <a:avLst/>
                <a:gdLst>
                  <a:gd name="textAreaLeft" fmla="*/ 78120 w 342720"/>
                  <a:gd name="textAreaRight" fmla="*/ 264600 w 342720"/>
                  <a:gd name="textAreaTop" fmla="*/ 81000 h 355320"/>
                  <a:gd name="textAreaBottom" fmla="*/ 274320 h 355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cc99"/>
              </a:solidFill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V="1">
                <a:off x="8929080" y="1198800"/>
                <a:ext cx="195480" cy="307440"/>
              </a:xfrm>
              <a:prstGeom prst="line">
                <a:avLst/>
              </a:prstGeom>
              <a:ln w="507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V="1">
                <a:off x="9050040" y="1262520"/>
                <a:ext cx="192600" cy="304920"/>
              </a:xfrm>
              <a:prstGeom prst="line">
                <a:avLst/>
              </a:prstGeom>
              <a:ln w="507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5091840" y="1139760"/>
              <a:ext cx="3065040" cy="1002240"/>
              <a:chOff x="5091840" y="1139760"/>
              <a:chExt cx="3065040" cy="1002240"/>
            </a:xfrm>
          </p:grpSpPr>
          <p:sp>
            <p:nvSpPr>
              <p:cNvPr id="65" name=""/>
              <p:cNvSpPr/>
              <p:nvPr/>
            </p:nvSpPr>
            <p:spPr>
              <a:xfrm>
                <a:off x="6397200" y="1139760"/>
                <a:ext cx="1291680" cy="50832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6921000" y="1479240"/>
                <a:ext cx="1235880" cy="66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1" y="9324"/>
                    </a:moveTo>
                    <a:arcTo wR="10800" hR="10800" stAng="-10328600" swAng="49137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1" y="9324"/>
                    </a:moveTo>
                    <a:arcTo wR="10800" hR="10800" stAng="-10328600" swAng="4913750"/>
                  </a:path>
                </a:pathLst>
              </a:custGeom>
              <a:noFill/>
              <a:ln cap="rnd" w="507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091840" y="1596960"/>
                <a:ext cx="1829880" cy="36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0" y="10333"/>
                    </a:moveTo>
                    <a:arcTo wR="10800" hR="10800" stAng="-148734" swAng="49298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0" y="10333"/>
                    </a:moveTo>
                    <a:arcTo wR="10800" hR="10800" stAng="-148734" swAng="4929889"/>
                  </a:path>
                </a:pathLst>
              </a:custGeom>
              <a:noFill/>
              <a:ln cap="rnd" w="507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 flipV="1">
              <a:off x="6405480" y="1303560"/>
              <a:ext cx="890640" cy="5544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27800" y="1303560"/>
              <a:ext cx="433440" cy="7920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6519960" y="1254240"/>
              <a:ext cx="342360" cy="144000"/>
              <a:chOff x="6519960" y="1254240"/>
              <a:chExt cx="342360" cy="144000"/>
            </a:xfrm>
          </p:grpSpPr>
          <p:sp>
            <p:nvSpPr>
              <p:cNvPr id="71" name=""/>
              <p:cNvSpPr/>
              <p:nvPr/>
            </p:nvSpPr>
            <p:spPr>
              <a:xfrm>
                <a:off x="6519960" y="1256400"/>
                <a:ext cx="342360" cy="138600"/>
              </a:xfrm>
              <a:custGeom>
                <a:avLst/>
                <a:gdLst>
                  <a:gd name="textAreaLeft" fmla="*/ 78120 w 342360"/>
                  <a:gd name="textAreaRight" fmla="*/ 264240 w 342360"/>
                  <a:gd name="textAreaTop" fmla="*/ 31680 h 138600"/>
                  <a:gd name="textAreaBottom" fmla="*/ 106920 h 13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V="1">
                <a:off x="6653880" y="1254240"/>
                <a:ext cx="82080" cy="144000"/>
              </a:xfrm>
              <a:prstGeom prst="line">
                <a:avLst/>
              </a:prstGeom>
              <a:ln w="507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6151320" y="1295640"/>
              <a:ext cx="342720" cy="144000"/>
              <a:chOff x="6151320" y="1295640"/>
              <a:chExt cx="342720" cy="144000"/>
            </a:xfrm>
          </p:grpSpPr>
          <p:sp>
            <p:nvSpPr>
              <p:cNvPr id="74" name=""/>
              <p:cNvSpPr/>
              <p:nvPr/>
            </p:nvSpPr>
            <p:spPr>
              <a:xfrm>
                <a:off x="6151320" y="1297800"/>
                <a:ext cx="342720" cy="138960"/>
              </a:xfrm>
              <a:custGeom>
                <a:avLst/>
                <a:gdLst>
                  <a:gd name="textAreaLeft" fmla="*/ 78120 w 342720"/>
                  <a:gd name="textAreaRight" fmla="*/ 264600 w 342720"/>
                  <a:gd name="textAreaTop" fmla="*/ 31680 h 138960"/>
                  <a:gd name="textAreaBottom" fmla="*/ 107280 h 138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V="1">
                <a:off x="6284880" y="1295640"/>
                <a:ext cx="83160" cy="144000"/>
              </a:xfrm>
              <a:prstGeom prst="line">
                <a:avLst/>
              </a:prstGeom>
              <a:ln w="507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" name=""/>
            <p:cNvGrpSpPr/>
            <p:nvPr/>
          </p:nvGrpSpPr>
          <p:grpSpPr>
            <a:xfrm>
              <a:off x="7122960" y="1230480"/>
              <a:ext cx="340920" cy="144000"/>
              <a:chOff x="7122960" y="1230480"/>
              <a:chExt cx="340920" cy="144000"/>
            </a:xfrm>
          </p:grpSpPr>
          <p:sp>
            <p:nvSpPr>
              <p:cNvPr id="77" name=""/>
              <p:cNvSpPr/>
              <p:nvPr/>
            </p:nvSpPr>
            <p:spPr>
              <a:xfrm>
                <a:off x="7122960" y="1232640"/>
                <a:ext cx="340920" cy="138960"/>
              </a:xfrm>
              <a:custGeom>
                <a:avLst/>
                <a:gdLst>
                  <a:gd name="textAreaLeft" fmla="*/ 77760 w 340920"/>
                  <a:gd name="textAreaRight" fmla="*/ 263160 w 340920"/>
                  <a:gd name="textAreaTop" fmla="*/ 31680 h 138960"/>
                  <a:gd name="textAreaBottom" fmla="*/ 107280 h 138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V="1">
                <a:off x="7256160" y="1230480"/>
                <a:ext cx="82080" cy="144000"/>
              </a:xfrm>
              <a:prstGeom prst="line">
                <a:avLst/>
              </a:prstGeom>
              <a:ln w="507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7491240" y="1254240"/>
              <a:ext cx="342720" cy="144000"/>
              <a:chOff x="7491240" y="1254240"/>
              <a:chExt cx="342720" cy="144000"/>
            </a:xfrm>
          </p:grpSpPr>
          <p:sp>
            <p:nvSpPr>
              <p:cNvPr id="80" name=""/>
              <p:cNvSpPr/>
              <p:nvPr/>
            </p:nvSpPr>
            <p:spPr>
              <a:xfrm>
                <a:off x="7491240" y="1256400"/>
                <a:ext cx="342720" cy="138600"/>
              </a:xfrm>
              <a:custGeom>
                <a:avLst/>
                <a:gdLst>
                  <a:gd name="textAreaLeft" fmla="*/ 78120 w 342720"/>
                  <a:gd name="textAreaRight" fmla="*/ 264600 w 342720"/>
                  <a:gd name="textAreaTop" fmla="*/ 31680 h 138600"/>
                  <a:gd name="textAreaBottom" fmla="*/ 106920 h 13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V="1">
                <a:off x="7624800" y="1254240"/>
                <a:ext cx="83160" cy="144000"/>
              </a:xfrm>
              <a:prstGeom prst="line">
                <a:avLst/>
              </a:prstGeom>
              <a:ln w="507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"/>
          <p:cNvSpPr/>
          <p:nvPr/>
        </p:nvSpPr>
        <p:spPr>
          <a:xfrm>
            <a:off x="1564560" y="6062760"/>
            <a:ext cx="289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rior, Allfr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ll 34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103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8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6120" y="2001600"/>
            <a:ext cx="5908680" cy="1006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35080" indent="-235080">
              <a:lnSpc>
                <a:spcPct val="100000"/>
              </a:lnSpc>
              <a:tabLst>
                <a:tab algn="l" pos="0"/>
                <a:tab algn="r" pos="5022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Smooth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 chromatin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is seen by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lectron Micros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buClr>
                <a:srgbClr val="ffffff"/>
              </a:buClr>
              <a:buFont typeface="Wingdings" charset="2"/>
              <a:buChar char=""/>
              <a:tabLst>
                <a:tab algn="r" pos="5022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 strand observed is thicker than naked D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buClr>
                <a:srgbClr val="ffffff"/>
              </a:buClr>
              <a:buFont typeface="Wingdings" charset="2"/>
              <a:buChar char=""/>
              <a:tabLst>
                <a:tab algn="r" pos="5022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ntibodies detect the presence of hist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tabLst>
                <a:tab algn="l" pos="0"/>
                <a:tab algn="r" pos="5022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Is this an artifact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2320" y="6365880"/>
            <a:ext cx="323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Lee, Garrar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EMBO J. 10,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60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9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6981840" y="1982880"/>
            <a:ext cx="2649600" cy="4715280"/>
            <a:chOff x="6981840" y="1982880"/>
            <a:chExt cx="2649600" cy="4715280"/>
          </a:xfrm>
        </p:grpSpPr>
        <p:sp>
          <p:nvSpPr>
            <p:cNvPr id="86" name=""/>
            <p:cNvSpPr/>
            <p:nvPr/>
          </p:nvSpPr>
          <p:spPr>
            <a:xfrm>
              <a:off x="7007040" y="5538600"/>
              <a:ext cx="2606760" cy="11595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alf-nucleosome repeats 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een upon DNase I diges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of transcribed chromat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7102440" y="2018880"/>
              <a:ext cx="2486880" cy="3648240"/>
              <a:chOff x="7102440" y="2018880"/>
              <a:chExt cx="2486880" cy="3648240"/>
            </a:xfrm>
          </p:grpSpPr>
          <p:grpSp>
            <p:nvGrpSpPr>
              <p:cNvPr id="88" name=""/>
              <p:cNvGrpSpPr/>
              <p:nvPr/>
            </p:nvGrpSpPr>
            <p:grpSpPr>
              <a:xfrm>
                <a:off x="7102440" y="2375280"/>
                <a:ext cx="2486880" cy="3291840"/>
                <a:chOff x="7102440" y="2375280"/>
                <a:chExt cx="2486880" cy="3291840"/>
              </a:xfrm>
            </p:grpSpPr>
            <p:grpSp>
              <p:nvGrpSpPr>
                <p:cNvPr id="89" name=""/>
                <p:cNvGrpSpPr/>
                <p:nvPr/>
              </p:nvGrpSpPr>
              <p:grpSpPr>
                <a:xfrm>
                  <a:off x="8780400" y="2499120"/>
                  <a:ext cx="808920" cy="2595960"/>
                  <a:chOff x="8780400" y="2499120"/>
                  <a:chExt cx="808920" cy="259596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>
                    <a:off x="8870400" y="5043240"/>
                    <a:ext cx="2430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>
                    <a:off x="8880480" y="4271760"/>
                    <a:ext cx="2426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 flipH="1">
                    <a:off x="8898840" y="3500280"/>
                    <a:ext cx="2430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 flipH="1">
                    <a:off x="8780400" y="2738160"/>
                    <a:ext cx="2426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4" name=""/>
                  <p:cNvGrpSpPr/>
                  <p:nvPr/>
                </p:nvGrpSpPr>
                <p:grpSpPr>
                  <a:xfrm>
                    <a:off x="8928360" y="2499120"/>
                    <a:ext cx="660960" cy="2595960"/>
                    <a:chOff x="8928360" y="2499120"/>
                    <a:chExt cx="660960" cy="2595960"/>
                  </a:xfrm>
                </p:grpSpPr>
                <p:sp>
                  <p:nvSpPr>
                    <p:cNvPr id="95" name=""/>
                    <p:cNvSpPr/>
                    <p:nvPr/>
                  </p:nvSpPr>
                  <p:spPr>
                    <a:xfrm>
                      <a:off x="8928360" y="4818600"/>
                      <a:ext cx="66096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2.0k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" name=""/>
                    <p:cNvSpPr/>
                    <p:nvPr/>
                  </p:nvSpPr>
                  <p:spPr>
                    <a:xfrm>
                      <a:off x="8928360" y="4042440"/>
                      <a:ext cx="66096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2.5k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" name=""/>
                    <p:cNvSpPr/>
                    <p:nvPr/>
                  </p:nvSpPr>
                  <p:spPr>
                    <a:xfrm>
                      <a:off x="8928360" y="3256560"/>
                      <a:ext cx="66096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3.0k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" name=""/>
                    <p:cNvSpPr/>
                    <p:nvPr/>
                  </p:nvSpPr>
                  <p:spPr>
                    <a:xfrm>
                      <a:off x="8928360" y="2499120"/>
                      <a:ext cx="66096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3.5k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99" name=""/>
                <p:cNvGrpSpPr/>
                <p:nvPr/>
              </p:nvGrpSpPr>
              <p:grpSpPr>
                <a:xfrm>
                  <a:off x="7102440" y="2375280"/>
                  <a:ext cx="1830240" cy="3291840"/>
                  <a:chOff x="7102440" y="2375280"/>
                  <a:chExt cx="1830240" cy="3291840"/>
                </a:xfrm>
              </p:grpSpPr>
              <p:grpSp>
                <p:nvGrpSpPr>
                  <p:cNvPr id="100" name=""/>
                  <p:cNvGrpSpPr/>
                  <p:nvPr/>
                </p:nvGrpSpPr>
                <p:grpSpPr>
                  <a:xfrm>
                    <a:off x="7473600" y="2431800"/>
                    <a:ext cx="1459080" cy="3235320"/>
                    <a:chOff x="7473600" y="2431800"/>
                    <a:chExt cx="1459080" cy="3235320"/>
                  </a:xfrm>
                </p:grpSpPr>
                <p:grpSp>
                  <p:nvGrpSpPr>
                    <p:cNvPr id="101" name=""/>
                    <p:cNvGrpSpPr/>
                    <p:nvPr/>
                  </p:nvGrpSpPr>
                  <p:grpSpPr>
                    <a:xfrm>
                      <a:off x="7473600" y="2431800"/>
                      <a:ext cx="873000" cy="3137040"/>
                      <a:chOff x="7473600" y="2431800"/>
                      <a:chExt cx="873000" cy="3137040"/>
                    </a:xfrm>
                  </p:grpSpPr>
                  <p:pic>
                    <p:nvPicPr>
                      <p:cNvPr id="102" name="lexosome-gel%20Lee,Garrard%20EMBO10,607,91" descr=""/>
                      <p:cNvPicPr/>
                      <p:nvPr/>
                    </p:nvPicPr>
                    <p:blipFill>
                      <a:blip r:embed="rId1"/>
                      <a:stretch/>
                    </p:blipFill>
                    <p:spPr>
                      <a:xfrm>
                        <a:off x="7737480" y="2431800"/>
                        <a:ext cx="392040" cy="3137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grpSp>
                    <p:nvGrpSpPr>
                      <p:cNvPr id="103" name=""/>
                      <p:cNvGrpSpPr/>
                      <p:nvPr/>
                    </p:nvGrpSpPr>
                    <p:grpSpPr>
                      <a:xfrm>
                        <a:off x="7473600" y="4162320"/>
                        <a:ext cx="249120" cy="881640"/>
                        <a:chOff x="7473600" y="4162320"/>
                        <a:chExt cx="249120" cy="881640"/>
                      </a:xfrm>
                    </p:grpSpPr>
                    <p:grpSp>
                      <p:nvGrpSpPr>
                        <p:cNvPr id="104" name=""/>
                        <p:cNvGrpSpPr/>
                        <p:nvPr/>
                      </p:nvGrpSpPr>
                      <p:grpSpPr>
                        <a:xfrm>
                          <a:off x="7473600" y="4776480"/>
                          <a:ext cx="247320" cy="267480"/>
                          <a:chOff x="7473600" y="4776480"/>
                          <a:chExt cx="247320" cy="267480"/>
                        </a:xfrm>
                      </p:grpSpPr>
                      <p:sp>
                        <p:nvSpPr>
                          <p:cNvPr id="105" name=""/>
                          <p:cNvSpPr/>
                          <p:nvPr/>
                        </p:nvSpPr>
                        <p:spPr>
                          <a:xfrm>
                            <a:off x="7473600" y="4784400"/>
                            <a:ext cx="247320" cy="257760"/>
                          </a:xfrm>
                          <a:custGeom>
                            <a:avLst/>
                            <a:gdLst>
                              <a:gd name="textAreaLeft" fmla="*/ 56520 w 247320"/>
                              <a:gd name="textAreaRight" fmla="*/ 190800 w 247320"/>
                              <a:gd name="textAreaTop" fmla="*/ 58680 h 257760"/>
                              <a:gd name="textAreaBottom" fmla="*/ 199080 h 257760"/>
                            </a:gdLst>
                            <a:ahLst/>
                            <a:rect l="textAreaLeft" t="textAreaTop" r="textAreaRight" b="textAreaBottom"/>
                            <a:pathLst>
                              <a:path w="21600" h="21600">
                                <a:moveTo>
                                  <a:pt x="0" y="10800"/>
                                </a:moveTo>
                                <a:lnTo>
                                  <a:pt x="2652" y="12384"/>
                                </a:lnTo>
                                <a:lnTo>
                                  <a:pt x="786" y="14846"/>
                                </a:lnTo>
                                <a:lnTo>
                                  <a:pt x="3839" y="15321"/>
                                </a:lnTo>
                                <a:lnTo>
                                  <a:pt x="3163" y="18437"/>
                                </a:lnTo>
                                <a:lnTo>
                                  <a:pt x="6159" y="17681"/>
                                </a:lnTo>
                                <a:lnTo>
                                  <a:pt x="6580" y="20741"/>
                                </a:lnTo>
                                <a:lnTo>
                                  <a:pt x="9074" y="18919"/>
                                </a:lnTo>
                                <a:lnTo>
                                  <a:pt x="10800" y="21600"/>
                                </a:lnTo>
                                <a:lnTo>
                                  <a:pt x="12384" y="18948"/>
                                </a:lnTo>
                                <a:lnTo>
                                  <a:pt x="14846" y="20814"/>
                                </a:lnTo>
                                <a:lnTo>
                                  <a:pt x="15321" y="17761"/>
                                </a:lnTo>
                                <a:lnTo>
                                  <a:pt x="18437" y="18437"/>
                                </a:lnTo>
                                <a:lnTo>
                                  <a:pt x="17681" y="15441"/>
                                </a:lnTo>
                                <a:lnTo>
                                  <a:pt x="20741" y="15020"/>
                                </a:lnTo>
                                <a:lnTo>
                                  <a:pt x="18919" y="12526"/>
                                </a:lnTo>
                                <a:lnTo>
                                  <a:pt x="21600" y="10800"/>
                                </a:lnTo>
                                <a:lnTo>
                                  <a:pt x="18948" y="9216"/>
                                </a:lnTo>
                                <a:lnTo>
                                  <a:pt x="20814" y="6754"/>
                                </a:lnTo>
                                <a:lnTo>
                                  <a:pt x="17761" y="6279"/>
                                </a:lnTo>
                                <a:lnTo>
                                  <a:pt x="18437" y="3163"/>
                                </a:lnTo>
                                <a:lnTo>
                                  <a:pt x="15441" y="3919"/>
                                </a:lnTo>
                                <a:lnTo>
                                  <a:pt x="15020" y="859"/>
                                </a:lnTo>
                                <a:lnTo>
                                  <a:pt x="12526" y="2681"/>
                                </a:lnTo>
                                <a:lnTo>
                                  <a:pt x="10800" y="0"/>
                                </a:lnTo>
                                <a:lnTo>
                                  <a:pt x="9216" y="2652"/>
                                </a:lnTo>
                                <a:lnTo>
                                  <a:pt x="6754" y="786"/>
                                </a:lnTo>
                                <a:lnTo>
                                  <a:pt x="6279" y="3839"/>
                                </a:lnTo>
                                <a:lnTo>
                                  <a:pt x="3163" y="3163"/>
                                </a:lnTo>
                                <a:lnTo>
                                  <a:pt x="3919" y="6159"/>
                                </a:lnTo>
                                <a:lnTo>
                                  <a:pt x="859" y="6580"/>
                                </a:lnTo>
                                <a:lnTo>
                                  <a:pt x="2681" y="9074"/>
                                </a:lnTo>
                                <a:lnTo>
                                  <a:pt x="0" y="1080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cc99"/>
                          </a:solidFill>
                          <a:ln w="12600">
                            <a:solidFill>
                              <a:srgbClr val="00cc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6" name=""/>
                          <p:cNvSpPr/>
                          <p:nvPr/>
                        </p:nvSpPr>
                        <p:spPr>
                          <a:xfrm flipV="1">
                            <a:off x="7482960" y="4776480"/>
                            <a:ext cx="141120" cy="22320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3333cc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7" name=""/>
                          <p:cNvSpPr/>
                          <p:nvPr/>
                        </p:nvSpPr>
                        <p:spPr>
                          <a:xfrm flipV="1">
                            <a:off x="7568280" y="4822560"/>
                            <a:ext cx="142920" cy="22140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3333cc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8" name=""/>
                        <p:cNvGrpSpPr/>
                        <p:nvPr/>
                      </p:nvGrpSpPr>
                      <p:grpSpPr>
                        <a:xfrm>
                          <a:off x="7473600" y="4509720"/>
                          <a:ext cx="247320" cy="267480"/>
                          <a:chOff x="7473600" y="4509720"/>
                          <a:chExt cx="247320" cy="267480"/>
                        </a:xfrm>
                      </p:grpSpPr>
                      <p:sp>
                        <p:nvSpPr>
                          <p:cNvPr id="109" name=""/>
                          <p:cNvSpPr/>
                          <p:nvPr/>
                        </p:nvSpPr>
                        <p:spPr>
                          <a:xfrm>
                            <a:off x="7473600" y="4517640"/>
                            <a:ext cx="247320" cy="257760"/>
                          </a:xfrm>
                          <a:custGeom>
                            <a:avLst/>
                            <a:gdLst>
                              <a:gd name="textAreaLeft" fmla="*/ 56520 w 247320"/>
                              <a:gd name="textAreaRight" fmla="*/ 190800 w 247320"/>
                              <a:gd name="textAreaTop" fmla="*/ 58680 h 257760"/>
                              <a:gd name="textAreaBottom" fmla="*/ 199080 h 257760"/>
                            </a:gdLst>
                            <a:ahLst/>
                            <a:rect l="textAreaLeft" t="textAreaTop" r="textAreaRight" b="textAreaBottom"/>
                            <a:pathLst>
                              <a:path w="21600" h="21600">
                                <a:moveTo>
                                  <a:pt x="0" y="10800"/>
                                </a:moveTo>
                                <a:lnTo>
                                  <a:pt x="2652" y="12384"/>
                                </a:lnTo>
                                <a:lnTo>
                                  <a:pt x="786" y="14846"/>
                                </a:lnTo>
                                <a:lnTo>
                                  <a:pt x="3839" y="15321"/>
                                </a:lnTo>
                                <a:lnTo>
                                  <a:pt x="3163" y="18437"/>
                                </a:lnTo>
                                <a:lnTo>
                                  <a:pt x="6159" y="17681"/>
                                </a:lnTo>
                                <a:lnTo>
                                  <a:pt x="6580" y="20741"/>
                                </a:lnTo>
                                <a:lnTo>
                                  <a:pt x="9074" y="18919"/>
                                </a:lnTo>
                                <a:lnTo>
                                  <a:pt x="10800" y="21600"/>
                                </a:lnTo>
                                <a:lnTo>
                                  <a:pt x="12384" y="18948"/>
                                </a:lnTo>
                                <a:lnTo>
                                  <a:pt x="14846" y="20814"/>
                                </a:lnTo>
                                <a:lnTo>
                                  <a:pt x="15321" y="17761"/>
                                </a:lnTo>
                                <a:lnTo>
                                  <a:pt x="18437" y="18437"/>
                                </a:lnTo>
                                <a:lnTo>
                                  <a:pt x="17681" y="15441"/>
                                </a:lnTo>
                                <a:lnTo>
                                  <a:pt x="20741" y="15020"/>
                                </a:lnTo>
                                <a:lnTo>
                                  <a:pt x="18919" y="12526"/>
                                </a:lnTo>
                                <a:lnTo>
                                  <a:pt x="21600" y="10800"/>
                                </a:lnTo>
                                <a:lnTo>
                                  <a:pt x="18948" y="9216"/>
                                </a:lnTo>
                                <a:lnTo>
                                  <a:pt x="20814" y="6754"/>
                                </a:lnTo>
                                <a:lnTo>
                                  <a:pt x="17761" y="6279"/>
                                </a:lnTo>
                                <a:lnTo>
                                  <a:pt x="18437" y="3163"/>
                                </a:lnTo>
                                <a:lnTo>
                                  <a:pt x="15441" y="3919"/>
                                </a:lnTo>
                                <a:lnTo>
                                  <a:pt x="15020" y="859"/>
                                </a:lnTo>
                                <a:lnTo>
                                  <a:pt x="12526" y="2681"/>
                                </a:lnTo>
                                <a:lnTo>
                                  <a:pt x="10800" y="0"/>
                                </a:lnTo>
                                <a:lnTo>
                                  <a:pt x="9216" y="2652"/>
                                </a:lnTo>
                                <a:lnTo>
                                  <a:pt x="6754" y="786"/>
                                </a:lnTo>
                                <a:lnTo>
                                  <a:pt x="6279" y="3839"/>
                                </a:lnTo>
                                <a:lnTo>
                                  <a:pt x="3163" y="3163"/>
                                </a:lnTo>
                                <a:lnTo>
                                  <a:pt x="3919" y="6159"/>
                                </a:lnTo>
                                <a:lnTo>
                                  <a:pt x="859" y="6580"/>
                                </a:lnTo>
                                <a:lnTo>
                                  <a:pt x="2681" y="9074"/>
                                </a:lnTo>
                                <a:lnTo>
                                  <a:pt x="0" y="1080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cc99"/>
                          </a:solidFill>
                          <a:ln w="12600">
                            <a:solidFill>
                              <a:srgbClr val="00cc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0" name=""/>
                          <p:cNvSpPr/>
                          <p:nvPr/>
                        </p:nvSpPr>
                        <p:spPr>
                          <a:xfrm flipV="1">
                            <a:off x="7482960" y="4509720"/>
                            <a:ext cx="141120" cy="22320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3333cc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1" name=""/>
                          <p:cNvSpPr/>
                          <p:nvPr/>
                        </p:nvSpPr>
                        <p:spPr>
                          <a:xfrm flipV="1">
                            <a:off x="7568280" y="4555800"/>
                            <a:ext cx="142920" cy="22140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3333cc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2" name=""/>
                        <p:cNvGrpSpPr/>
                        <p:nvPr/>
                      </p:nvGrpSpPr>
                      <p:grpSpPr>
                        <a:xfrm>
                          <a:off x="7475400" y="4162320"/>
                          <a:ext cx="247320" cy="267480"/>
                          <a:chOff x="7475400" y="4162320"/>
                          <a:chExt cx="247320" cy="267480"/>
                        </a:xfrm>
                      </p:grpSpPr>
                      <p:sp>
                        <p:nvSpPr>
                          <p:cNvPr id="113" name=""/>
                          <p:cNvSpPr/>
                          <p:nvPr/>
                        </p:nvSpPr>
                        <p:spPr>
                          <a:xfrm>
                            <a:off x="7475400" y="4170240"/>
                            <a:ext cx="247320" cy="257760"/>
                          </a:xfrm>
                          <a:custGeom>
                            <a:avLst/>
                            <a:gdLst>
                              <a:gd name="textAreaLeft" fmla="*/ 56520 w 247320"/>
                              <a:gd name="textAreaRight" fmla="*/ 190800 w 247320"/>
                              <a:gd name="textAreaTop" fmla="*/ 58680 h 257760"/>
                              <a:gd name="textAreaBottom" fmla="*/ 199080 h 257760"/>
                            </a:gdLst>
                            <a:ahLst/>
                            <a:rect l="textAreaLeft" t="textAreaTop" r="textAreaRight" b="textAreaBottom"/>
                            <a:pathLst>
                              <a:path w="21600" h="21600">
                                <a:moveTo>
                                  <a:pt x="0" y="10800"/>
                                </a:moveTo>
                                <a:lnTo>
                                  <a:pt x="2652" y="12384"/>
                                </a:lnTo>
                                <a:lnTo>
                                  <a:pt x="786" y="14846"/>
                                </a:lnTo>
                                <a:lnTo>
                                  <a:pt x="3839" y="15321"/>
                                </a:lnTo>
                                <a:lnTo>
                                  <a:pt x="3163" y="18437"/>
                                </a:lnTo>
                                <a:lnTo>
                                  <a:pt x="6159" y="17681"/>
                                </a:lnTo>
                                <a:lnTo>
                                  <a:pt x="6580" y="20741"/>
                                </a:lnTo>
                                <a:lnTo>
                                  <a:pt x="9074" y="18919"/>
                                </a:lnTo>
                                <a:lnTo>
                                  <a:pt x="10800" y="21600"/>
                                </a:lnTo>
                                <a:lnTo>
                                  <a:pt x="12384" y="18948"/>
                                </a:lnTo>
                                <a:lnTo>
                                  <a:pt x="14846" y="20814"/>
                                </a:lnTo>
                                <a:lnTo>
                                  <a:pt x="15321" y="17761"/>
                                </a:lnTo>
                                <a:lnTo>
                                  <a:pt x="18437" y="18437"/>
                                </a:lnTo>
                                <a:lnTo>
                                  <a:pt x="17681" y="15441"/>
                                </a:lnTo>
                                <a:lnTo>
                                  <a:pt x="20741" y="15020"/>
                                </a:lnTo>
                                <a:lnTo>
                                  <a:pt x="18919" y="12526"/>
                                </a:lnTo>
                                <a:lnTo>
                                  <a:pt x="21600" y="10800"/>
                                </a:lnTo>
                                <a:lnTo>
                                  <a:pt x="18948" y="9216"/>
                                </a:lnTo>
                                <a:lnTo>
                                  <a:pt x="20814" y="6754"/>
                                </a:lnTo>
                                <a:lnTo>
                                  <a:pt x="17761" y="6279"/>
                                </a:lnTo>
                                <a:lnTo>
                                  <a:pt x="18437" y="3163"/>
                                </a:lnTo>
                                <a:lnTo>
                                  <a:pt x="15441" y="3919"/>
                                </a:lnTo>
                                <a:lnTo>
                                  <a:pt x="15020" y="859"/>
                                </a:lnTo>
                                <a:lnTo>
                                  <a:pt x="12526" y="2681"/>
                                </a:lnTo>
                                <a:lnTo>
                                  <a:pt x="10800" y="0"/>
                                </a:lnTo>
                                <a:lnTo>
                                  <a:pt x="9216" y="2652"/>
                                </a:lnTo>
                                <a:lnTo>
                                  <a:pt x="6754" y="786"/>
                                </a:lnTo>
                                <a:lnTo>
                                  <a:pt x="6279" y="3839"/>
                                </a:lnTo>
                                <a:lnTo>
                                  <a:pt x="3163" y="3163"/>
                                </a:lnTo>
                                <a:lnTo>
                                  <a:pt x="3919" y="6159"/>
                                </a:lnTo>
                                <a:lnTo>
                                  <a:pt x="859" y="6580"/>
                                </a:lnTo>
                                <a:lnTo>
                                  <a:pt x="2681" y="9074"/>
                                </a:lnTo>
                                <a:lnTo>
                                  <a:pt x="0" y="1080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cc99"/>
                          </a:solidFill>
                          <a:ln w="12600">
                            <a:solidFill>
                              <a:srgbClr val="00cc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4" name=""/>
                          <p:cNvSpPr/>
                          <p:nvPr/>
                        </p:nvSpPr>
                        <p:spPr>
                          <a:xfrm flipV="1">
                            <a:off x="7484760" y="4162320"/>
                            <a:ext cx="141120" cy="22320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3333cc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5" name=""/>
                          <p:cNvSpPr/>
                          <p:nvPr/>
                        </p:nvSpPr>
                        <p:spPr>
                          <a:xfrm flipV="1">
                            <a:off x="7570080" y="4208400"/>
                            <a:ext cx="142920" cy="22140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3333cc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16" name=""/>
                      <p:cNvGrpSpPr/>
                      <p:nvPr/>
                    </p:nvGrpSpPr>
                    <p:grpSpPr>
                      <a:xfrm>
                        <a:off x="8097840" y="4219200"/>
                        <a:ext cx="248760" cy="980640"/>
                        <a:chOff x="8097840" y="4219200"/>
                        <a:chExt cx="248760" cy="980640"/>
                      </a:xfrm>
                    </p:grpSpPr>
                    <p:grpSp>
                      <p:nvGrpSpPr>
                        <p:cNvPr id="117" name=""/>
                        <p:cNvGrpSpPr/>
                        <p:nvPr/>
                      </p:nvGrpSpPr>
                      <p:grpSpPr>
                        <a:xfrm>
                          <a:off x="8097840" y="4219200"/>
                          <a:ext cx="248760" cy="104400"/>
                          <a:chOff x="8097840" y="4219200"/>
                          <a:chExt cx="248760" cy="104400"/>
                        </a:xfrm>
                      </p:grpSpPr>
                      <p:sp>
                        <p:nvSpPr>
                          <p:cNvPr id="118" name=""/>
                          <p:cNvSpPr/>
                          <p:nvPr/>
                        </p:nvSpPr>
                        <p:spPr>
                          <a:xfrm>
                            <a:off x="8097840" y="4220640"/>
                            <a:ext cx="248760" cy="100440"/>
                          </a:xfrm>
                          <a:custGeom>
                            <a:avLst/>
                            <a:gdLst>
                              <a:gd name="textAreaLeft" fmla="*/ 56520 w 248760"/>
                              <a:gd name="textAreaRight" fmla="*/ 192240 w 248760"/>
                              <a:gd name="textAreaTop" fmla="*/ 22680 h 100440"/>
                              <a:gd name="textAreaBottom" fmla="*/ 77760 h 100440"/>
                            </a:gdLst>
                            <a:ahLst/>
                            <a:rect l="textAreaLeft" t="textAreaTop" r="textAreaRight" b="textAreaBottom"/>
                            <a:pathLst>
                              <a:path w="21600" h="21600">
                                <a:moveTo>
                                  <a:pt x="0" y="10800"/>
                                </a:moveTo>
                                <a:lnTo>
                                  <a:pt x="2652" y="12384"/>
                                </a:lnTo>
                                <a:lnTo>
                                  <a:pt x="786" y="14846"/>
                                </a:lnTo>
                                <a:lnTo>
                                  <a:pt x="3839" y="15321"/>
                                </a:lnTo>
                                <a:lnTo>
                                  <a:pt x="3163" y="18437"/>
                                </a:lnTo>
                                <a:lnTo>
                                  <a:pt x="6159" y="17681"/>
                                </a:lnTo>
                                <a:lnTo>
                                  <a:pt x="6580" y="20741"/>
                                </a:lnTo>
                                <a:lnTo>
                                  <a:pt x="9074" y="18919"/>
                                </a:lnTo>
                                <a:lnTo>
                                  <a:pt x="10800" y="21600"/>
                                </a:lnTo>
                                <a:lnTo>
                                  <a:pt x="12384" y="18948"/>
                                </a:lnTo>
                                <a:lnTo>
                                  <a:pt x="14846" y="20814"/>
                                </a:lnTo>
                                <a:lnTo>
                                  <a:pt x="15321" y="17761"/>
                                </a:lnTo>
                                <a:lnTo>
                                  <a:pt x="18437" y="18437"/>
                                </a:lnTo>
                                <a:lnTo>
                                  <a:pt x="17681" y="15441"/>
                                </a:lnTo>
                                <a:lnTo>
                                  <a:pt x="20741" y="15020"/>
                                </a:lnTo>
                                <a:lnTo>
                                  <a:pt x="18919" y="12526"/>
                                </a:lnTo>
                                <a:lnTo>
                                  <a:pt x="21600" y="10800"/>
                                </a:lnTo>
                                <a:lnTo>
                                  <a:pt x="18948" y="9216"/>
                                </a:lnTo>
                                <a:lnTo>
                                  <a:pt x="20814" y="6754"/>
                                </a:lnTo>
                                <a:lnTo>
                                  <a:pt x="17761" y="6279"/>
                                </a:lnTo>
                                <a:lnTo>
                                  <a:pt x="18437" y="3163"/>
                                </a:lnTo>
                                <a:lnTo>
                                  <a:pt x="15441" y="3919"/>
                                </a:lnTo>
                                <a:lnTo>
                                  <a:pt x="15020" y="859"/>
                                </a:lnTo>
                                <a:lnTo>
                                  <a:pt x="12526" y="2681"/>
                                </a:lnTo>
                                <a:lnTo>
                                  <a:pt x="10800" y="0"/>
                                </a:lnTo>
                                <a:lnTo>
                                  <a:pt x="9216" y="2652"/>
                                </a:lnTo>
                                <a:lnTo>
                                  <a:pt x="6754" y="786"/>
                                </a:lnTo>
                                <a:lnTo>
                                  <a:pt x="6279" y="3839"/>
                                </a:lnTo>
                                <a:lnTo>
                                  <a:pt x="3163" y="3163"/>
                                </a:lnTo>
                                <a:lnTo>
                                  <a:pt x="3919" y="6159"/>
                                </a:lnTo>
                                <a:lnTo>
                                  <a:pt x="859" y="6580"/>
                                </a:lnTo>
                                <a:lnTo>
                                  <a:pt x="2681" y="9074"/>
                                </a:lnTo>
                                <a:lnTo>
                                  <a:pt x="0" y="1080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cc99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8280" bIns="8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9" name=""/>
                          <p:cNvSpPr/>
                          <p:nvPr/>
                        </p:nvSpPr>
                        <p:spPr>
                          <a:xfrm flipV="1">
                            <a:off x="8194680" y="4219200"/>
                            <a:ext cx="60480" cy="10440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3333cc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20" name=""/>
                        <p:cNvGrpSpPr/>
                        <p:nvPr/>
                      </p:nvGrpSpPr>
                      <p:grpSpPr>
                        <a:xfrm>
                          <a:off x="8097840" y="4343040"/>
                          <a:ext cx="248760" cy="104400"/>
                          <a:chOff x="8097840" y="4343040"/>
                          <a:chExt cx="248760" cy="104400"/>
                        </a:xfrm>
                      </p:grpSpPr>
                      <p:sp>
                        <p:nvSpPr>
                          <p:cNvPr id="121" name=""/>
                          <p:cNvSpPr/>
                          <p:nvPr/>
                        </p:nvSpPr>
                        <p:spPr>
                          <a:xfrm>
                            <a:off x="8097840" y="4344480"/>
                            <a:ext cx="248760" cy="100440"/>
                          </a:xfrm>
                          <a:custGeom>
                            <a:avLst/>
                            <a:gdLst>
                              <a:gd name="textAreaLeft" fmla="*/ 56520 w 248760"/>
                              <a:gd name="textAreaRight" fmla="*/ 192240 w 248760"/>
                              <a:gd name="textAreaTop" fmla="*/ 22680 h 100440"/>
                              <a:gd name="textAreaBottom" fmla="*/ 77760 h 100440"/>
                            </a:gdLst>
                            <a:ahLst/>
                            <a:rect l="textAreaLeft" t="textAreaTop" r="textAreaRight" b="textAreaBottom"/>
                            <a:pathLst>
                              <a:path w="21600" h="21600">
                                <a:moveTo>
                                  <a:pt x="0" y="10800"/>
                                </a:moveTo>
                                <a:lnTo>
                                  <a:pt x="2652" y="12384"/>
                                </a:lnTo>
                                <a:lnTo>
                                  <a:pt x="786" y="14846"/>
                                </a:lnTo>
                                <a:lnTo>
                                  <a:pt x="3839" y="15321"/>
                                </a:lnTo>
                                <a:lnTo>
                                  <a:pt x="3163" y="18437"/>
                                </a:lnTo>
                                <a:lnTo>
                                  <a:pt x="6159" y="17681"/>
                                </a:lnTo>
                                <a:lnTo>
                                  <a:pt x="6580" y="20741"/>
                                </a:lnTo>
                                <a:lnTo>
                                  <a:pt x="9074" y="18919"/>
                                </a:lnTo>
                                <a:lnTo>
                                  <a:pt x="10800" y="21600"/>
                                </a:lnTo>
                                <a:lnTo>
                                  <a:pt x="12384" y="18948"/>
                                </a:lnTo>
                                <a:lnTo>
                                  <a:pt x="14846" y="20814"/>
                                </a:lnTo>
                                <a:lnTo>
                                  <a:pt x="15321" y="17761"/>
                                </a:lnTo>
                                <a:lnTo>
                                  <a:pt x="18437" y="18437"/>
                                </a:lnTo>
                                <a:lnTo>
                                  <a:pt x="17681" y="15441"/>
                                </a:lnTo>
                                <a:lnTo>
                                  <a:pt x="20741" y="15020"/>
                                </a:lnTo>
                                <a:lnTo>
                                  <a:pt x="18919" y="12526"/>
                                </a:lnTo>
                                <a:lnTo>
                                  <a:pt x="21600" y="10800"/>
                                </a:lnTo>
                                <a:lnTo>
                                  <a:pt x="18948" y="9216"/>
                                </a:lnTo>
                                <a:lnTo>
                                  <a:pt x="20814" y="6754"/>
                                </a:lnTo>
                                <a:lnTo>
                                  <a:pt x="17761" y="6279"/>
                                </a:lnTo>
                                <a:lnTo>
                                  <a:pt x="18437" y="3163"/>
                                </a:lnTo>
                                <a:lnTo>
                                  <a:pt x="15441" y="3919"/>
                                </a:lnTo>
                                <a:lnTo>
                                  <a:pt x="15020" y="859"/>
                                </a:lnTo>
                                <a:lnTo>
                                  <a:pt x="12526" y="2681"/>
                                </a:lnTo>
                                <a:lnTo>
                                  <a:pt x="10800" y="0"/>
                                </a:lnTo>
                                <a:lnTo>
                                  <a:pt x="9216" y="2652"/>
                                </a:lnTo>
                                <a:lnTo>
                                  <a:pt x="6754" y="786"/>
                                </a:lnTo>
                                <a:lnTo>
                                  <a:pt x="6279" y="3839"/>
                                </a:lnTo>
                                <a:lnTo>
                                  <a:pt x="3163" y="3163"/>
                                </a:lnTo>
                                <a:lnTo>
                                  <a:pt x="3919" y="6159"/>
                                </a:lnTo>
                                <a:lnTo>
                                  <a:pt x="859" y="6580"/>
                                </a:lnTo>
                                <a:lnTo>
                                  <a:pt x="2681" y="9074"/>
                                </a:lnTo>
                                <a:lnTo>
                                  <a:pt x="0" y="1080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cc99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8280" bIns="8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2" name=""/>
                          <p:cNvSpPr/>
                          <p:nvPr/>
                        </p:nvSpPr>
                        <p:spPr>
                          <a:xfrm flipV="1">
                            <a:off x="8194680" y="4343040"/>
                            <a:ext cx="60480" cy="10440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3333cc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23" name=""/>
                        <p:cNvGrpSpPr/>
                        <p:nvPr/>
                      </p:nvGrpSpPr>
                      <p:grpSpPr>
                        <a:xfrm>
                          <a:off x="8097840" y="4457520"/>
                          <a:ext cx="248760" cy="104400"/>
                          <a:chOff x="8097840" y="4457520"/>
                          <a:chExt cx="248760" cy="104400"/>
                        </a:xfrm>
                      </p:grpSpPr>
                      <p:sp>
                        <p:nvSpPr>
                          <p:cNvPr id="124" name=""/>
                          <p:cNvSpPr/>
                          <p:nvPr/>
                        </p:nvSpPr>
                        <p:spPr>
                          <a:xfrm>
                            <a:off x="8097840" y="4458960"/>
                            <a:ext cx="248760" cy="100440"/>
                          </a:xfrm>
                          <a:custGeom>
                            <a:avLst/>
                            <a:gdLst>
                              <a:gd name="textAreaLeft" fmla="*/ 56520 w 248760"/>
                              <a:gd name="textAreaRight" fmla="*/ 192240 w 248760"/>
                              <a:gd name="textAreaTop" fmla="*/ 22680 h 100440"/>
                              <a:gd name="textAreaBottom" fmla="*/ 77760 h 100440"/>
                            </a:gdLst>
                            <a:ahLst/>
                            <a:rect l="textAreaLeft" t="textAreaTop" r="textAreaRight" b="textAreaBottom"/>
                            <a:pathLst>
                              <a:path w="21600" h="21600">
                                <a:moveTo>
                                  <a:pt x="0" y="10800"/>
                                </a:moveTo>
                                <a:lnTo>
                                  <a:pt x="2652" y="12384"/>
                                </a:lnTo>
                                <a:lnTo>
                                  <a:pt x="786" y="14846"/>
                                </a:lnTo>
                                <a:lnTo>
                                  <a:pt x="3839" y="15321"/>
                                </a:lnTo>
                                <a:lnTo>
                                  <a:pt x="3163" y="18437"/>
                                </a:lnTo>
                                <a:lnTo>
                                  <a:pt x="6159" y="17681"/>
                                </a:lnTo>
                                <a:lnTo>
                                  <a:pt x="6580" y="20741"/>
                                </a:lnTo>
                                <a:lnTo>
                                  <a:pt x="9074" y="18919"/>
                                </a:lnTo>
                                <a:lnTo>
                                  <a:pt x="10800" y="21600"/>
                                </a:lnTo>
                                <a:lnTo>
                                  <a:pt x="12384" y="18948"/>
                                </a:lnTo>
                                <a:lnTo>
                                  <a:pt x="14846" y="20814"/>
                                </a:lnTo>
                                <a:lnTo>
                                  <a:pt x="15321" y="17761"/>
                                </a:lnTo>
                                <a:lnTo>
                                  <a:pt x="18437" y="18437"/>
                                </a:lnTo>
                                <a:lnTo>
                                  <a:pt x="17681" y="15441"/>
                                </a:lnTo>
                                <a:lnTo>
                                  <a:pt x="20741" y="15020"/>
                                </a:lnTo>
                                <a:lnTo>
                                  <a:pt x="18919" y="12526"/>
                                </a:lnTo>
                                <a:lnTo>
                                  <a:pt x="21600" y="10800"/>
                                </a:lnTo>
                                <a:lnTo>
                                  <a:pt x="18948" y="9216"/>
                                </a:lnTo>
                                <a:lnTo>
                                  <a:pt x="20814" y="6754"/>
                                </a:lnTo>
                                <a:lnTo>
                                  <a:pt x="17761" y="6279"/>
                                </a:lnTo>
                                <a:lnTo>
                                  <a:pt x="18437" y="3163"/>
                                </a:lnTo>
                                <a:lnTo>
                                  <a:pt x="15441" y="3919"/>
                                </a:lnTo>
                                <a:lnTo>
                                  <a:pt x="15020" y="859"/>
                                </a:lnTo>
                                <a:lnTo>
                                  <a:pt x="12526" y="2681"/>
                                </a:lnTo>
                                <a:lnTo>
                                  <a:pt x="10800" y="0"/>
                                </a:lnTo>
                                <a:lnTo>
                                  <a:pt x="9216" y="2652"/>
                                </a:lnTo>
                                <a:lnTo>
                                  <a:pt x="6754" y="786"/>
                                </a:lnTo>
                                <a:lnTo>
                                  <a:pt x="6279" y="3839"/>
                                </a:lnTo>
                                <a:lnTo>
                                  <a:pt x="3163" y="3163"/>
                                </a:lnTo>
                                <a:lnTo>
                                  <a:pt x="3919" y="6159"/>
                                </a:lnTo>
                                <a:lnTo>
                                  <a:pt x="859" y="6580"/>
                                </a:lnTo>
                                <a:lnTo>
                                  <a:pt x="2681" y="9074"/>
                                </a:lnTo>
                                <a:lnTo>
                                  <a:pt x="0" y="1080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cc99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8280" bIns="8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5" name=""/>
                          <p:cNvSpPr/>
                          <p:nvPr/>
                        </p:nvSpPr>
                        <p:spPr>
                          <a:xfrm flipV="1">
                            <a:off x="8194680" y="4457520"/>
                            <a:ext cx="60480" cy="10440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3333cc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26" name=""/>
                        <p:cNvGrpSpPr/>
                        <p:nvPr/>
                      </p:nvGrpSpPr>
                      <p:grpSpPr>
                        <a:xfrm>
                          <a:off x="8097840" y="4586040"/>
                          <a:ext cx="248760" cy="104400"/>
                          <a:chOff x="8097840" y="4586040"/>
                          <a:chExt cx="248760" cy="104400"/>
                        </a:xfrm>
                      </p:grpSpPr>
                      <p:sp>
                        <p:nvSpPr>
                          <p:cNvPr id="127" name=""/>
                          <p:cNvSpPr/>
                          <p:nvPr/>
                        </p:nvSpPr>
                        <p:spPr>
                          <a:xfrm>
                            <a:off x="8097840" y="4587480"/>
                            <a:ext cx="248760" cy="100440"/>
                          </a:xfrm>
                          <a:custGeom>
                            <a:avLst/>
                            <a:gdLst>
                              <a:gd name="textAreaLeft" fmla="*/ 56520 w 248760"/>
                              <a:gd name="textAreaRight" fmla="*/ 192240 w 248760"/>
                              <a:gd name="textAreaTop" fmla="*/ 22680 h 100440"/>
                              <a:gd name="textAreaBottom" fmla="*/ 77760 h 100440"/>
                            </a:gdLst>
                            <a:ahLst/>
                            <a:rect l="textAreaLeft" t="textAreaTop" r="textAreaRight" b="textAreaBottom"/>
                            <a:pathLst>
                              <a:path w="21600" h="21600">
                                <a:moveTo>
                                  <a:pt x="0" y="10800"/>
                                </a:moveTo>
                                <a:lnTo>
                                  <a:pt x="2652" y="12384"/>
                                </a:lnTo>
                                <a:lnTo>
                                  <a:pt x="786" y="14846"/>
                                </a:lnTo>
                                <a:lnTo>
                                  <a:pt x="3839" y="15321"/>
                                </a:lnTo>
                                <a:lnTo>
                                  <a:pt x="3163" y="18437"/>
                                </a:lnTo>
                                <a:lnTo>
                                  <a:pt x="6159" y="17681"/>
                                </a:lnTo>
                                <a:lnTo>
                                  <a:pt x="6580" y="20741"/>
                                </a:lnTo>
                                <a:lnTo>
                                  <a:pt x="9074" y="18919"/>
                                </a:lnTo>
                                <a:lnTo>
                                  <a:pt x="10800" y="21600"/>
                                </a:lnTo>
                                <a:lnTo>
                                  <a:pt x="12384" y="18948"/>
                                </a:lnTo>
                                <a:lnTo>
                                  <a:pt x="14846" y="20814"/>
                                </a:lnTo>
                                <a:lnTo>
                                  <a:pt x="15321" y="17761"/>
                                </a:lnTo>
                                <a:lnTo>
                                  <a:pt x="18437" y="18437"/>
                                </a:lnTo>
                                <a:lnTo>
                                  <a:pt x="17681" y="15441"/>
                                </a:lnTo>
                                <a:lnTo>
                                  <a:pt x="20741" y="15020"/>
                                </a:lnTo>
                                <a:lnTo>
                                  <a:pt x="18919" y="12526"/>
                                </a:lnTo>
                                <a:lnTo>
                                  <a:pt x="21600" y="10800"/>
                                </a:lnTo>
                                <a:lnTo>
                                  <a:pt x="18948" y="9216"/>
                                </a:lnTo>
                                <a:lnTo>
                                  <a:pt x="20814" y="6754"/>
                                </a:lnTo>
                                <a:lnTo>
                                  <a:pt x="17761" y="6279"/>
                                </a:lnTo>
                                <a:lnTo>
                                  <a:pt x="18437" y="3163"/>
                                </a:lnTo>
                                <a:lnTo>
                                  <a:pt x="15441" y="3919"/>
                                </a:lnTo>
                                <a:lnTo>
                                  <a:pt x="15020" y="859"/>
                                </a:lnTo>
                                <a:lnTo>
                                  <a:pt x="12526" y="2681"/>
                                </a:lnTo>
                                <a:lnTo>
                                  <a:pt x="10800" y="0"/>
                                </a:lnTo>
                                <a:lnTo>
                                  <a:pt x="9216" y="2652"/>
                                </a:lnTo>
                                <a:lnTo>
                                  <a:pt x="6754" y="786"/>
                                </a:lnTo>
                                <a:lnTo>
                                  <a:pt x="6279" y="3839"/>
                                </a:lnTo>
                                <a:lnTo>
                                  <a:pt x="3163" y="3163"/>
                                </a:lnTo>
                                <a:lnTo>
                                  <a:pt x="3919" y="6159"/>
                                </a:lnTo>
                                <a:lnTo>
                                  <a:pt x="859" y="6580"/>
                                </a:lnTo>
                                <a:lnTo>
                                  <a:pt x="2681" y="9074"/>
                                </a:lnTo>
                                <a:lnTo>
                                  <a:pt x="0" y="1080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cc99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8280" bIns="8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8" name=""/>
                          <p:cNvSpPr/>
                          <p:nvPr/>
                        </p:nvSpPr>
                        <p:spPr>
                          <a:xfrm flipV="1">
                            <a:off x="8194680" y="4586040"/>
                            <a:ext cx="60480" cy="10440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3333cc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29" name=""/>
                        <p:cNvGrpSpPr/>
                        <p:nvPr/>
                      </p:nvGrpSpPr>
                      <p:grpSpPr>
                        <a:xfrm>
                          <a:off x="8097840" y="4728960"/>
                          <a:ext cx="248760" cy="104400"/>
                          <a:chOff x="8097840" y="4728960"/>
                          <a:chExt cx="248760" cy="104400"/>
                        </a:xfrm>
                      </p:grpSpPr>
                      <p:sp>
                        <p:nvSpPr>
                          <p:cNvPr id="130" name=""/>
                          <p:cNvSpPr/>
                          <p:nvPr/>
                        </p:nvSpPr>
                        <p:spPr>
                          <a:xfrm>
                            <a:off x="8097840" y="4730400"/>
                            <a:ext cx="248760" cy="100440"/>
                          </a:xfrm>
                          <a:custGeom>
                            <a:avLst/>
                            <a:gdLst>
                              <a:gd name="textAreaLeft" fmla="*/ 56520 w 248760"/>
                              <a:gd name="textAreaRight" fmla="*/ 192240 w 248760"/>
                              <a:gd name="textAreaTop" fmla="*/ 22680 h 100440"/>
                              <a:gd name="textAreaBottom" fmla="*/ 77760 h 100440"/>
                            </a:gdLst>
                            <a:ahLst/>
                            <a:rect l="textAreaLeft" t="textAreaTop" r="textAreaRight" b="textAreaBottom"/>
                            <a:pathLst>
                              <a:path w="21600" h="21600">
                                <a:moveTo>
                                  <a:pt x="0" y="10800"/>
                                </a:moveTo>
                                <a:lnTo>
                                  <a:pt x="2652" y="12384"/>
                                </a:lnTo>
                                <a:lnTo>
                                  <a:pt x="786" y="14846"/>
                                </a:lnTo>
                                <a:lnTo>
                                  <a:pt x="3839" y="15321"/>
                                </a:lnTo>
                                <a:lnTo>
                                  <a:pt x="3163" y="18437"/>
                                </a:lnTo>
                                <a:lnTo>
                                  <a:pt x="6159" y="17681"/>
                                </a:lnTo>
                                <a:lnTo>
                                  <a:pt x="6580" y="20741"/>
                                </a:lnTo>
                                <a:lnTo>
                                  <a:pt x="9074" y="18919"/>
                                </a:lnTo>
                                <a:lnTo>
                                  <a:pt x="10800" y="21600"/>
                                </a:lnTo>
                                <a:lnTo>
                                  <a:pt x="12384" y="18948"/>
                                </a:lnTo>
                                <a:lnTo>
                                  <a:pt x="14846" y="20814"/>
                                </a:lnTo>
                                <a:lnTo>
                                  <a:pt x="15321" y="17761"/>
                                </a:lnTo>
                                <a:lnTo>
                                  <a:pt x="18437" y="18437"/>
                                </a:lnTo>
                                <a:lnTo>
                                  <a:pt x="17681" y="15441"/>
                                </a:lnTo>
                                <a:lnTo>
                                  <a:pt x="20741" y="15020"/>
                                </a:lnTo>
                                <a:lnTo>
                                  <a:pt x="18919" y="12526"/>
                                </a:lnTo>
                                <a:lnTo>
                                  <a:pt x="21600" y="10800"/>
                                </a:lnTo>
                                <a:lnTo>
                                  <a:pt x="18948" y="9216"/>
                                </a:lnTo>
                                <a:lnTo>
                                  <a:pt x="20814" y="6754"/>
                                </a:lnTo>
                                <a:lnTo>
                                  <a:pt x="17761" y="6279"/>
                                </a:lnTo>
                                <a:lnTo>
                                  <a:pt x="18437" y="3163"/>
                                </a:lnTo>
                                <a:lnTo>
                                  <a:pt x="15441" y="3919"/>
                                </a:lnTo>
                                <a:lnTo>
                                  <a:pt x="15020" y="859"/>
                                </a:lnTo>
                                <a:lnTo>
                                  <a:pt x="12526" y="2681"/>
                                </a:lnTo>
                                <a:lnTo>
                                  <a:pt x="10800" y="0"/>
                                </a:lnTo>
                                <a:lnTo>
                                  <a:pt x="9216" y="2652"/>
                                </a:lnTo>
                                <a:lnTo>
                                  <a:pt x="6754" y="786"/>
                                </a:lnTo>
                                <a:lnTo>
                                  <a:pt x="6279" y="3839"/>
                                </a:lnTo>
                                <a:lnTo>
                                  <a:pt x="3163" y="3163"/>
                                </a:lnTo>
                                <a:lnTo>
                                  <a:pt x="3919" y="6159"/>
                                </a:lnTo>
                                <a:lnTo>
                                  <a:pt x="859" y="6580"/>
                                </a:lnTo>
                                <a:lnTo>
                                  <a:pt x="2681" y="9074"/>
                                </a:lnTo>
                                <a:lnTo>
                                  <a:pt x="0" y="1080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cc99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8280" bIns="8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1" name=""/>
                          <p:cNvSpPr/>
                          <p:nvPr/>
                        </p:nvSpPr>
                        <p:spPr>
                          <a:xfrm flipV="1">
                            <a:off x="8194680" y="4728960"/>
                            <a:ext cx="60480" cy="10440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3333cc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32" name=""/>
                        <p:cNvGrpSpPr/>
                        <p:nvPr/>
                      </p:nvGrpSpPr>
                      <p:grpSpPr>
                        <a:xfrm>
                          <a:off x="8097840" y="4885920"/>
                          <a:ext cx="248760" cy="104400"/>
                          <a:chOff x="8097840" y="4885920"/>
                          <a:chExt cx="248760" cy="104400"/>
                        </a:xfrm>
                      </p:grpSpPr>
                      <p:sp>
                        <p:nvSpPr>
                          <p:cNvPr id="133" name=""/>
                          <p:cNvSpPr/>
                          <p:nvPr/>
                        </p:nvSpPr>
                        <p:spPr>
                          <a:xfrm>
                            <a:off x="8097840" y="4887360"/>
                            <a:ext cx="248760" cy="100440"/>
                          </a:xfrm>
                          <a:custGeom>
                            <a:avLst/>
                            <a:gdLst>
                              <a:gd name="textAreaLeft" fmla="*/ 56520 w 248760"/>
                              <a:gd name="textAreaRight" fmla="*/ 192240 w 248760"/>
                              <a:gd name="textAreaTop" fmla="*/ 22680 h 100440"/>
                              <a:gd name="textAreaBottom" fmla="*/ 77760 h 100440"/>
                            </a:gdLst>
                            <a:ahLst/>
                            <a:rect l="textAreaLeft" t="textAreaTop" r="textAreaRight" b="textAreaBottom"/>
                            <a:pathLst>
                              <a:path w="21600" h="21600">
                                <a:moveTo>
                                  <a:pt x="0" y="10800"/>
                                </a:moveTo>
                                <a:lnTo>
                                  <a:pt x="2652" y="12384"/>
                                </a:lnTo>
                                <a:lnTo>
                                  <a:pt x="786" y="14846"/>
                                </a:lnTo>
                                <a:lnTo>
                                  <a:pt x="3839" y="15321"/>
                                </a:lnTo>
                                <a:lnTo>
                                  <a:pt x="3163" y="18437"/>
                                </a:lnTo>
                                <a:lnTo>
                                  <a:pt x="6159" y="17681"/>
                                </a:lnTo>
                                <a:lnTo>
                                  <a:pt x="6580" y="20741"/>
                                </a:lnTo>
                                <a:lnTo>
                                  <a:pt x="9074" y="18919"/>
                                </a:lnTo>
                                <a:lnTo>
                                  <a:pt x="10800" y="21600"/>
                                </a:lnTo>
                                <a:lnTo>
                                  <a:pt x="12384" y="18948"/>
                                </a:lnTo>
                                <a:lnTo>
                                  <a:pt x="14846" y="20814"/>
                                </a:lnTo>
                                <a:lnTo>
                                  <a:pt x="15321" y="17761"/>
                                </a:lnTo>
                                <a:lnTo>
                                  <a:pt x="18437" y="18437"/>
                                </a:lnTo>
                                <a:lnTo>
                                  <a:pt x="17681" y="15441"/>
                                </a:lnTo>
                                <a:lnTo>
                                  <a:pt x="20741" y="15020"/>
                                </a:lnTo>
                                <a:lnTo>
                                  <a:pt x="18919" y="12526"/>
                                </a:lnTo>
                                <a:lnTo>
                                  <a:pt x="21600" y="10800"/>
                                </a:lnTo>
                                <a:lnTo>
                                  <a:pt x="18948" y="9216"/>
                                </a:lnTo>
                                <a:lnTo>
                                  <a:pt x="20814" y="6754"/>
                                </a:lnTo>
                                <a:lnTo>
                                  <a:pt x="17761" y="6279"/>
                                </a:lnTo>
                                <a:lnTo>
                                  <a:pt x="18437" y="3163"/>
                                </a:lnTo>
                                <a:lnTo>
                                  <a:pt x="15441" y="3919"/>
                                </a:lnTo>
                                <a:lnTo>
                                  <a:pt x="15020" y="859"/>
                                </a:lnTo>
                                <a:lnTo>
                                  <a:pt x="12526" y="2681"/>
                                </a:lnTo>
                                <a:lnTo>
                                  <a:pt x="10800" y="0"/>
                                </a:lnTo>
                                <a:lnTo>
                                  <a:pt x="9216" y="2652"/>
                                </a:lnTo>
                                <a:lnTo>
                                  <a:pt x="6754" y="786"/>
                                </a:lnTo>
                                <a:lnTo>
                                  <a:pt x="6279" y="3839"/>
                                </a:lnTo>
                                <a:lnTo>
                                  <a:pt x="3163" y="3163"/>
                                </a:lnTo>
                                <a:lnTo>
                                  <a:pt x="3919" y="6159"/>
                                </a:lnTo>
                                <a:lnTo>
                                  <a:pt x="859" y="6580"/>
                                </a:lnTo>
                                <a:lnTo>
                                  <a:pt x="2681" y="9074"/>
                                </a:lnTo>
                                <a:lnTo>
                                  <a:pt x="0" y="1080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cc99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8280" bIns="8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4" name=""/>
                          <p:cNvSpPr/>
                          <p:nvPr/>
                        </p:nvSpPr>
                        <p:spPr>
                          <a:xfrm flipV="1">
                            <a:off x="8194680" y="4885920"/>
                            <a:ext cx="60480" cy="10440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3333cc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35" name=""/>
                        <p:cNvGrpSpPr/>
                        <p:nvPr/>
                      </p:nvGrpSpPr>
                      <p:grpSpPr>
                        <a:xfrm>
                          <a:off x="8097840" y="5095440"/>
                          <a:ext cx="248760" cy="104400"/>
                          <a:chOff x="8097840" y="5095440"/>
                          <a:chExt cx="248760" cy="104400"/>
                        </a:xfrm>
                      </p:grpSpPr>
                      <p:sp>
                        <p:nvSpPr>
                          <p:cNvPr id="136" name=""/>
                          <p:cNvSpPr/>
                          <p:nvPr/>
                        </p:nvSpPr>
                        <p:spPr>
                          <a:xfrm>
                            <a:off x="8097840" y="5096880"/>
                            <a:ext cx="248760" cy="100440"/>
                          </a:xfrm>
                          <a:custGeom>
                            <a:avLst/>
                            <a:gdLst>
                              <a:gd name="textAreaLeft" fmla="*/ 56520 w 248760"/>
                              <a:gd name="textAreaRight" fmla="*/ 192240 w 248760"/>
                              <a:gd name="textAreaTop" fmla="*/ 22680 h 100440"/>
                              <a:gd name="textAreaBottom" fmla="*/ 77760 h 100440"/>
                            </a:gdLst>
                            <a:ahLst/>
                            <a:rect l="textAreaLeft" t="textAreaTop" r="textAreaRight" b="textAreaBottom"/>
                            <a:pathLst>
                              <a:path w="21600" h="21600">
                                <a:moveTo>
                                  <a:pt x="0" y="10800"/>
                                </a:moveTo>
                                <a:lnTo>
                                  <a:pt x="2652" y="12384"/>
                                </a:lnTo>
                                <a:lnTo>
                                  <a:pt x="786" y="14846"/>
                                </a:lnTo>
                                <a:lnTo>
                                  <a:pt x="3839" y="15321"/>
                                </a:lnTo>
                                <a:lnTo>
                                  <a:pt x="3163" y="18437"/>
                                </a:lnTo>
                                <a:lnTo>
                                  <a:pt x="6159" y="17681"/>
                                </a:lnTo>
                                <a:lnTo>
                                  <a:pt x="6580" y="20741"/>
                                </a:lnTo>
                                <a:lnTo>
                                  <a:pt x="9074" y="18919"/>
                                </a:lnTo>
                                <a:lnTo>
                                  <a:pt x="10800" y="21600"/>
                                </a:lnTo>
                                <a:lnTo>
                                  <a:pt x="12384" y="18948"/>
                                </a:lnTo>
                                <a:lnTo>
                                  <a:pt x="14846" y="20814"/>
                                </a:lnTo>
                                <a:lnTo>
                                  <a:pt x="15321" y="17761"/>
                                </a:lnTo>
                                <a:lnTo>
                                  <a:pt x="18437" y="18437"/>
                                </a:lnTo>
                                <a:lnTo>
                                  <a:pt x="17681" y="15441"/>
                                </a:lnTo>
                                <a:lnTo>
                                  <a:pt x="20741" y="15020"/>
                                </a:lnTo>
                                <a:lnTo>
                                  <a:pt x="18919" y="12526"/>
                                </a:lnTo>
                                <a:lnTo>
                                  <a:pt x="21600" y="10800"/>
                                </a:lnTo>
                                <a:lnTo>
                                  <a:pt x="18948" y="9216"/>
                                </a:lnTo>
                                <a:lnTo>
                                  <a:pt x="20814" y="6754"/>
                                </a:lnTo>
                                <a:lnTo>
                                  <a:pt x="17761" y="6279"/>
                                </a:lnTo>
                                <a:lnTo>
                                  <a:pt x="18437" y="3163"/>
                                </a:lnTo>
                                <a:lnTo>
                                  <a:pt x="15441" y="3919"/>
                                </a:lnTo>
                                <a:lnTo>
                                  <a:pt x="15020" y="859"/>
                                </a:lnTo>
                                <a:lnTo>
                                  <a:pt x="12526" y="2681"/>
                                </a:lnTo>
                                <a:lnTo>
                                  <a:pt x="10800" y="0"/>
                                </a:lnTo>
                                <a:lnTo>
                                  <a:pt x="9216" y="2652"/>
                                </a:lnTo>
                                <a:lnTo>
                                  <a:pt x="6754" y="786"/>
                                </a:lnTo>
                                <a:lnTo>
                                  <a:pt x="6279" y="3839"/>
                                </a:lnTo>
                                <a:lnTo>
                                  <a:pt x="3163" y="3163"/>
                                </a:lnTo>
                                <a:lnTo>
                                  <a:pt x="3919" y="6159"/>
                                </a:lnTo>
                                <a:lnTo>
                                  <a:pt x="859" y="6580"/>
                                </a:lnTo>
                                <a:lnTo>
                                  <a:pt x="2681" y="9074"/>
                                </a:lnTo>
                                <a:lnTo>
                                  <a:pt x="0" y="1080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cc99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8280" bIns="8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7" name=""/>
                          <p:cNvSpPr/>
                          <p:nvPr/>
                        </p:nvSpPr>
                        <p:spPr>
                          <a:xfrm flipV="1">
                            <a:off x="8194680" y="5095440"/>
                            <a:ext cx="60480" cy="10440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3333cc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138" name=""/>
                    <p:cNvGrpSpPr/>
                    <p:nvPr/>
                  </p:nvGrpSpPr>
                  <p:grpSpPr>
                    <a:xfrm>
                      <a:off x="8156520" y="2657160"/>
                      <a:ext cx="776160" cy="3009960"/>
                      <a:chOff x="8156520" y="2657160"/>
                      <a:chExt cx="776160" cy="3009960"/>
                    </a:xfrm>
                  </p:grpSpPr>
                  <p:grpSp>
                    <p:nvGrpSpPr>
                      <p:cNvPr id="139" name=""/>
                      <p:cNvGrpSpPr/>
                      <p:nvPr/>
                    </p:nvGrpSpPr>
                    <p:grpSpPr>
                      <a:xfrm>
                        <a:off x="8546760" y="2657160"/>
                        <a:ext cx="385920" cy="3009960"/>
                        <a:chOff x="8546760" y="2657160"/>
                        <a:chExt cx="385920" cy="3009960"/>
                      </a:xfrm>
                    </p:grpSpPr>
                    <p:grpSp>
                      <p:nvGrpSpPr>
                        <p:cNvPr id="140" name=""/>
                        <p:cNvGrpSpPr/>
                        <p:nvPr/>
                      </p:nvGrpSpPr>
                      <p:grpSpPr>
                        <a:xfrm>
                          <a:off x="8546760" y="2890440"/>
                          <a:ext cx="385920" cy="1390680"/>
                          <a:chOff x="8546760" y="2890440"/>
                          <a:chExt cx="385920" cy="1390680"/>
                        </a:xfrm>
                      </p:grpSpPr>
                      <p:sp>
                        <p:nvSpPr>
                          <p:cNvPr id="141" name=""/>
                          <p:cNvSpPr/>
                          <p:nvPr/>
                        </p:nvSpPr>
                        <p:spPr>
                          <a:xfrm>
                            <a:off x="8546760" y="2890440"/>
                            <a:ext cx="385920" cy="1390680"/>
                          </a:xfrm>
                          <a:prstGeom prst="upArrow">
                            <a:avLst>
                              <a:gd name="adj1" fmla="val 49796"/>
                              <a:gd name="adj2" fmla="val 30847"/>
                            </a:avLst>
                          </a:prstGeom>
                          <a:solidFill>
                            <a:srgbClr val="ffffff">
                              <a:alpha val="50000"/>
                            </a:srgbClr>
                          </a:solidFill>
                          <a:ln w="190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42" name=""/>
                          <p:cNvSpPr/>
                          <p:nvPr/>
                        </p:nvSpPr>
                        <p:spPr>
                          <a:xfrm rot="16200000">
                            <a:off x="8511120" y="3524760"/>
                            <a:ext cx="468720" cy="24624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i="1" lang="en-US" sz="1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CIN2</a:t>
                            </a:r>
                            <a:endParaRPr b="0" lang="en-US" sz="10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43" name=""/>
                        <p:cNvGrpSpPr/>
                        <p:nvPr/>
                      </p:nvGrpSpPr>
                      <p:grpSpPr>
                        <a:xfrm>
                          <a:off x="8546760" y="4552560"/>
                          <a:ext cx="385920" cy="1114560"/>
                          <a:chOff x="8546760" y="4552560"/>
                          <a:chExt cx="385920" cy="1114560"/>
                        </a:xfrm>
                      </p:grpSpPr>
                      <p:sp>
                        <p:nvSpPr>
                          <p:cNvPr id="144" name=""/>
                          <p:cNvSpPr/>
                          <p:nvPr/>
                        </p:nvSpPr>
                        <p:spPr>
                          <a:xfrm>
                            <a:off x="8546760" y="4552560"/>
                            <a:ext cx="385920" cy="1114560"/>
                          </a:xfrm>
                          <a:prstGeom prst="upArrow">
                            <a:avLst>
                              <a:gd name="adj1" fmla="val 49796"/>
                              <a:gd name="adj2" fmla="val 33320"/>
                            </a:avLst>
                          </a:prstGeom>
                          <a:solidFill>
                            <a:srgbClr val="ffffff">
                              <a:alpha val="50000"/>
                            </a:srgbClr>
                          </a:solidFill>
                          <a:ln w="190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45" name=""/>
                          <p:cNvSpPr/>
                          <p:nvPr/>
                        </p:nvSpPr>
                        <p:spPr>
                          <a:xfrm rot="16200000">
                            <a:off x="8447400" y="4986720"/>
                            <a:ext cx="579960" cy="24624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i="1" lang="en-US" sz="1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HSP82</a:t>
                            </a:r>
                            <a:endParaRPr b="0" lang="en-US" sz="10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46" name=""/>
                        <p:cNvSpPr/>
                        <p:nvPr/>
                      </p:nvSpPr>
                      <p:spPr>
                        <a:xfrm flipV="1">
                          <a:off x="8737560" y="4276080"/>
                          <a:ext cx="0" cy="2811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7" name=""/>
                        <p:cNvSpPr/>
                        <p:nvPr/>
                      </p:nvSpPr>
                      <p:spPr>
                        <a:xfrm flipV="1">
                          <a:off x="8742240" y="2657160"/>
                          <a:ext cx="0" cy="23832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48" name=""/>
                      <p:cNvGrpSpPr/>
                      <p:nvPr/>
                    </p:nvGrpSpPr>
                    <p:grpSpPr>
                      <a:xfrm>
                        <a:off x="8156520" y="2804760"/>
                        <a:ext cx="338040" cy="480960"/>
                        <a:chOff x="8156520" y="2804760"/>
                        <a:chExt cx="338040" cy="480960"/>
                      </a:xfrm>
                    </p:grpSpPr>
                    <p:sp>
                      <p:nvSpPr>
                        <p:cNvPr id="149" name=""/>
                        <p:cNvSpPr/>
                        <p:nvPr/>
                      </p:nvSpPr>
                      <p:spPr>
                        <a:xfrm>
                          <a:off x="8420040" y="2804760"/>
                          <a:ext cx="74520" cy="247680"/>
                        </a:xfrm>
                        <a:prstGeom prst="rect">
                          <a:avLst/>
                        </a:prstGeom>
                        <a:solidFill>
                          <a:srgbClr val="00cc99"/>
                        </a:solidFill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0" name=""/>
                        <p:cNvSpPr/>
                        <p:nvPr/>
                      </p:nvSpPr>
                      <p:spPr>
                        <a:xfrm flipV="1">
                          <a:off x="8280360" y="3047400"/>
                          <a:ext cx="137880" cy="2379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1" name=""/>
                        <p:cNvSpPr/>
                        <p:nvPr/>
                      </p:nvSpPr>
                      <p:spPr>
                        <a:xfrm flipH="1">
                          <a:off x="8156520" y="3285720"/>
                          <a:ext cx="12384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2" name=""/>
                      <p:cNvGrpSpPr/>
                      <p:nvPr/>
                    </p:nvGrpSpPr>
                    <p:grpSpPr>
                      <a:xfrm>
                        <a:off x="8379720" y="4271760"/>
                        <a:ext cx="319680" cy="295200"/>
                        <a:chOff x="8379720" y="4271760"/>
                        <a:chExt cx="319680" cy="295200"/>
                      </a:xfrm>
                    </p:grpSpPr>
                    <p:sp>
                      <p:nvSpPr>
                        <p:cNvPr id="153" name=""/>
                        <p:cNvSpPr/>
                        <p:nvPr/>
                      </p:nvSpPr>
                      <p:spPr>
                        <a:xfrm flipH="1" flipV="1">
                          <a:off x="8499240" y="4271760"/>
                          <a:ext cx="200160" cy="29520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4" name=""/>
                        <p:cNvSpPr/>
                        <p:nvPr/>
                      </p:nvSpPr>
                      <p:spPr>
                        <a:xfrm flipH="1">
                          <a:off x="8379720" y="4271760"/>
                          <a:ext cx="11916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55" name=""/>
                  <p:cNvGrpSpPr/>
                  <p:nvPr/>
                </p:nvGrpSpPr>
                <p:grpSpPr>
                  <a:xfrm>
                    <a:off x="7102440" y="2375280"/>
                    <a:ext cx="572760" cy="3286440"/>
                    <a:chOff x="7102440" y="2375280"/>
                    <a:chExt cx="572760" cy="3286440"/>
                  </a:xfrm>
                </p:grpSpPr>
                <p:grpSp>
                  <p:nvGrpSpPr>
                    <p:cNvPr id="156" name=""/>
                    <p:cNvGrpSpPr/>
                    <p:nvPr/>
                  </p:nvGrpSpPr>
                  <p:grpSpPr>
                    <a:xfrm>
                      <a:off x="7503480" y="2666880"/>
                      <a:ext cx="171720" cy="2876400"/>
                      <a:chOff x="7503480" y="2666880"/>
                      <a:chExt cx="171720" cy="2876400"/>
                    </a:xfrm>
                  </p:grpSpPr>
                  <p:sp>
                    <p:nvSpPr>
                      <p:cNvPr id="157" name=""/>
                      <p:cNvSpPr/>
                      <p:nvPr/>
                    </p:nvSpPr>
                    <p:spPr>
                      <a:xfrm flipH="1">
                        <a:off x="7503480" y="5081400"/>
                        <a:ext cx="17172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8" name=""/>
                      <p:cNvSpPr/>
                      <p:nvPr/>
                    </p:nvSpPr>
                    <p:spPr>
                      <a:xfrm flipH="1">
                        <a:off x="7503480" y="4457520"/>
                        <a:ext cx="17172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9" name=""/>
                      <p:cNvSpPr/>
                      <p:nvPr/>
                    </p:nvSpPr>
                    <p:spPr>
                      <a:xfrm flipH="1">
                        <a:off x="7503480" y="4043160"/>
                        <a:ext cx="17172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0" name=""/>
                      <p:cNvSpPr/>
                      <p:nvPr/>
                    </p:nvSpPr>
                    <p:spPr>
                      <a:xfrm flipH="1">
                        <a:off x="7503480" y="3605040"/>
                        <a:ext cx="17172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1" name=""/>
                      <p:cNvSpPr/>
                      <p:nvPr/>
                    </p:nvSpPr>
                    <p:spPr>
                      <a:xfrm flipH="1">
                        <a:off x="7503480" y="2666880"/>
                        <a:ext cx="17172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2" name=""/>
                      <p:cNvSpPr/>
                      <p:nvPr/>
                    </p:nvSpPr>
                    <p:spPr>
                      <a:xfrm flipH="1">
                        <a:off x="7503480" y="5543280"/>
                        <a:ext cx="17172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63" name=""/>
                    <p:cNvGrpSpPr/>
                    <p:nvPr/>
                  </p:nvGrpSpPr>
                  <p:grpSpPr>
                    <a:xfrm>
                      <a:off x="7102440" y="2375280"/>
                      <a:ext cx="479520" cy="3286440"/>
                      <a:chOff x="7102440" y="2375280"/>
                      <a:chExt cx="479520" cy="3286440"/>
                    </a:xfrm>
                  </p:grpSpPr>
                  <p:sp>
                    <p:nvSpPr>
                      <p:cNvPr id="164" name=""/>
                      <p:cNvSpPr/>
                      <p:nvPr/>
                    </p:nvSpPr>
                    <p:spPr>
                      <a:xfrm>
                        <a:off x="7221240" y="2375280"/>
                        <a:ext cx="358920" cy="276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kb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5" name=""/>
                      <p:cNvSpPr/>
                      <p:nvPr/>
                    </p:nvSpPr>
                    <p:spPr>
                      <a:xfrm>
                        <a:off x="7102440" y="2537280"/>
                        <a:ext cx="479520" cy="276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3.53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6" name=""/>
                      <p:cNvSpPr/>
                      <p:nvPr/>
                    </p:nvSpPr>
                    <p:spPr>
                      <a:xfrm>
                        <a:off x="7102440" y="3466080"/>
                        <a:ext cx="479520" cy="276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2.03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7" name=""/>
                      <p:cNvSpPr/>
                      <p:nvPr/>
                    </p:nvSpPr>
                    <p:spPr>
                      <a:xfrm>
                        <a:off x="7102440" y="3908880"/>
                        <a:ext cx="479520" cy="276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1.58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" name=""/>
                      <p:cNvSpPr/>
                      <p:nvPr/>
                    </p:nvSpPr>
                    <p:spPr>
                      <a:xfrm>
                        <a:off x="7102440" y="4327920"/>
                        <a:ext cx="479520" cy="276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1.33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9" name=""/>
                      <p:cNvSpPr/>
                      <p:nvPr/>
                    </p:nvSpPr>
                    <p:spPr>
                      <a:xfrm>
                        <a:off x="7102440" y="4937760"/>
                        <a:ext cx="479520" cy="276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0.98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0" name=""/>
                      <p:cNvSpPr/>
                      <p:nvPr/>
                    </p:nvSpPr>
                    <p:spPr>
                      <a:xfrm>
                        <a:off x="7102440" y="5385240"/>
                        <a:ext cx="479520" cy="276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0.82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171" name=""/>
              <p:cNvGrpSpPr/>
              <p:nvPr/>
            </p:nvGrpSpPr>
            <p:grpSpPr>
              <a:xfrm>
                <a:off x="7176960" y="2018880"/>
                <a:ext cx="1527120" cy="512280"/>
                <a:chOff x="7176960" y="2018880"/>
                <a:chExt cx="1527120" cy="5122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7176960" y="2047680"/>
                  <a:ext cx="1527120" cy="379440"/>
                </a:xfrm>
                <a:prstGeom prst="rect">
                  <a:avLst/>
                </a:prstGeom>
                <a:solidFill>
                  <a:srgbClr val="ff3300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7284600" y="2018880"/>
                  <a:ext cx="133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Transcriptio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7725960" y="2116800"/>
                  <a:ext cx="266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-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7865640" y="2162880"/>
                  <a:ext cx="315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+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6" name=""/>
            <p:cNvSpPr/>
            <p:nvPr/>
          </p:nvSpPr>
          <p:spPr>
            <a:xfrm>
              <a:off x="6981840" y="1982880"/>
              <a:ext cx="2649600" cy="4475160"/>
            </a:xfrm>
            <a:prstGeom prst="rect">
              <a:avLst/>
            </a:prstGeom>
            <a:noFill/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136880" y="3208320"/>
            <a:ext cx="5537160" cy="2827440"/>
            <a:chOff x="1136880" y="3208320"/>
            <a:chExt cx="5537160" cy="2827440"/>
          </a:xfrm>
        </p:grpSpPr>
        <p:pic>
          <p:nvPicPr>
            <p:cNvPr id="178" name="lexosome%20Prior%20Cell34,1033,83" descr=""/>
            <p:cNvPicPr/>
            <p:nvPr/>
          </p:nvPicPr>
          <p:blipFill>
            <a:blip r:embed="rId2"/>
            <a:stretch/>
          </p:blipFill>
          <p:spPr>
            <a:xfrm>
              <a:off x="1535040" y="3240000"/>
              <a:ext cx="4757760" cy="1603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9" name=""/>
            <p:cNvGrpSpPr/>
            <p:nvPr/>
          </p:nvGrpSpPr>
          <p:grpSpPr>
            <a:xfrm>
              <a:off x="1136880" y="3208320"/>
              <a:ext cx="5537160" cy="2827440"/>
              <a:chOff x="1136880" y="3208320"/>
              <a:chExt cx="5537160" cy="2827440"/>
            </a:xfrm>
          </p:grpSpPr>
          <p:sp>
            <p:nvSpPr>
              <p:cNvPr id="180" name=""/>
              <p:cNvSpPr/>
              <p:nvPr/>
            </p:nvSpPr>
            <p:spPr>
              <a:xfrm>
                <a:off x="1136880" y="4874760"/>
                <a:ext cx="5537160" cy="11595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35080" indent="-235080">
                  <a:lnSpc>
                    <a:spcPct val="100000"/>
                  </a:lnSpc>
                  <a:buClr>
                    <a:srgbClr val="ffffff"/>
                  </a:buClr>
                  <a:buFont typeface="Wingdings" charset="2"/>
                  <a:buChar char="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Gene transcription exposes the 2 buried H3 cystein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35080" indent="-2350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to modification agents and Hg-affinity chromatograph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35080" indent="-235080">
                  <a:lnSpc>
                    <a:spcPct val="100000"/>
                  </a:lnSpc>
                  <a:buClr>
                    <a:srgbClr val="ffffff"/>
                  </a:buClr>
                  <a:buFont typeface="Wingdings" charset="2"/>
                  <a:buChar char="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Mono-nucleosome particles in this unfolded state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35080" indent="-2350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(“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 Black"/>
                  </a:rPr>
                  <a:t>lexosomes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”) appear unfolded, with 2 heterotypi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35080" indent="-2350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histone tetramers + some minor, non-histone protein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381320" y="3208320"/>
                <a:ext cx="5054400" cy="2827440"/>
              </a:xfrm>
              <a:prstGeom prst="rect">
                <a:avLst/>
              </a:prstGeom>
              <a:noFill/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JH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-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5T20:57:39Z</dcterms:created>
  <dc:creator>Jakob H. Waterborg</dc:creator>
  <dc:description/>
  <dc:language>en-US</dc:language>
  <cp:lastModifiedBy>Jakob H. Waterborg</cp:lastModifiedBy>
  <cp:lastPrinted>1999-03-10T03:34:38Z</cp:lastPrinted>
  <dcterms:modified xsi:type="dcterms:W3CDTF">1999-03-24T13:29:46Z</dcterms:modified>
  <cp:revision>14</cp:revision>
  <dc:subject/>
  <dc:title>CHROMATIN</dc:title>
</cp:coreProperties>
</file>