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E0D5-7C6E-4AAB-A6B1-ED098BC0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7264-EF65-4ADB-BD74-31A40A6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0B9F-6037-43B9-A5D7-585F562E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65C6-A93B-4050-9ED3-A6DA6E10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EBA3-6B8D-4BEB-9FF2-875AA0CC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CB9C-5234-4FDB-9885-A01A902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4770-4710-4BA4-90C8-B8615C92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6221-3E9A-40D7-A2B2-24D7B10D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BB6C-AA69-418B-A510-8354B0A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5D3F-E681-433E-ACC0-EAA1277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9255-050E-49B5-8D53-F47EA6A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28D8-48DE-4FEC-976C-08C19E2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8120" y="6370200"/>
            <a:ext cx="371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D9D3-5A30-4A7F-A911-3C3F27EE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2960" y="46620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istone gene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2643120"/>
            <a:ext cx="645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histone is available to create nucle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17600" y="1246320"/>
            <a:ext cx="7804440" cy="1069920"/>
            <a:chOff x="1317600" y="1246320"/>
            <a:chExt cx="7804440" cy="1069920"/>
          </a:xfrm>
        </p:grpSpPr>
        <p:sp>
          <p:nvSpPr>
            <p:cNvPr id="46" name=""/>
            <p:cNvSpPr/>
            <p:nvPr/>
          </p:nvSpPr>
          <p:spPr>
            <a:xfrm>
              <a:off x="2476440" y="1246320"/>
              <a:ext cx="111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rip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568680" y="1285920"/>
              <a:ext cx="3708360" cy="993600"/>
              <a:chOff x="3568680" y="1285920"/>
              <a:chExt cx="3708360" cy="993600"/>
            </a:xfrm>
          </p:grpSpPr>
          <p:sp>
            <p:nvSpPr>
              <p:cNvPr id="48" name=""/>
              <p:cNvSpPr/>
              <p:nvPr/>
            </p:nvSpPr>
            <p:spPr>
              <a:xfrm>
                <a:off x="6127920" y="1488960"/>
                <a:ext cx="1149120" cy="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94000" y="1482840"/>
                <a:ext cx="925560" cy="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86160" y="1335240"/>
                <a:ext cx="281160" cy="287280"/>
              </a:xfrm>
              <a:custGeom>
                <a:avLst/>
                <a:gdLst>
                  <a:gd name="textAreaLeft" fmla="*/ 64080 w 281160"/>
                  <a:gd name="textAreaRight" fmla="*/ 217080 w 281160"/>
                  <a:gd name="textAreaTop" fmla="*/ 65520 h 287280"/>
                  <a:gd name="textAreaBottom" fmla="*/ 221760 h 2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6210360" y="1336680"/>
                <a:ext cx="280800" cy="291960"/>
                <a:chOff x="6210360" y="1336680"/>
                <a:chExt cx="280800" cy="2919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210360" y="1341360"/>
                  <a:ext cx="280800" cy="287280"/>
                </a:xfrm>
                <a:custGeom>
                  <a:avLst/>
                  <a:gdLst>
                    <a:gd name="textAreaLeft" fmla="*/ 64080 w 280800"/>
                    <a:gd name="textAreaRight" fmla="*/ 216720 w 280800"/>
                    <a:gd name="textAreaTop" fmla="*/ 65520 h 287280"/>
                    <a:gd name="textAreaBottom" fmla="*/ 22176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6224760" y="1336680"/>
                  <a:ext cx="156960" cy="2412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6318360" y="1386000"/>
                  <a:ext cx="158760" cy="2426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573960" y="1341360"/>
                <a:ext cx="279360" cy="292320"/>
                <a:chOff x="6573960" y="1341360"/>
                <a:chExt cx="279360" cy="2923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6573960" y="1343160"/>
                  <a:ext cx="279360" cy="290520"/>
                </a:xfrm>
                <a:custGeom>
                  <a:avLst/>
                  <a:gdLst>
                    <a:gd name="textAreaLeft" fmla="*/ 63720 w 279360"/>
                    <a:gd name="textAreaRight" fmla="*/ 215640 w 279360"/>
                    <a:gd name="textAreaTop" fmla="*/ 66240 h 290520"/>
                    <a:gd name="textAreaBottom" fmla="*/ 224280 h 29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6583320" y="1341360"/>
                  <a:ext cx="157320" cy="2383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6680160" y="1390320"/>
                  <a:ext cx="158760" cy="2430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6937200" y="1336680"/>
                <a:ext cx="281160" cy="291960"/>
                <a:chOff x="6937200" y="1336680"/>
                <a:chExt cx="281160" cy="2919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937200" y="1341360"/>
                  <a:ext cx="281160" cy="287280"/>
                </a:xfrm>
                <a:custGeom>
                  <a:avLst/>
                  <a:gdLst>
                    <a:gd name="textAreaLeft" fmla="*/ 64080 w 281160"/>
                    <a:gd name="textAreaRight" fmla="*/ 217080 w 281160"/>
                    <a:gd name="textAreaTop" fmla="*/ 65520 h 287280"/>
                    <a:gd name="textAreaBottom" fmla="*/ 221760 h 28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6945480" y="1336680"/>
                  <a:ext cx="155520" cy="2412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7042320" y="1386000"/>
                  <a:ext cx="155520" cy="2426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051440" y="1285920"/>
                <a:ext cx="2464200" cy="803160"/>
                <a:chOff x="4051440" y="1285920"/>
                <a:chExt cx="2464200" cy="80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095800" y="1285920"/>
                  <a:ext cx="1046160" cy="41112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520600" y="1558800"/>
                  <a:ext cx="995040" cy="53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" y="9383"/>
                      </a:moveTo>
                      <a:arcTo wR="10800" hR="10800" stAng="-10347576" swAng="4936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" y="9383"/>
                      </a:moveTo>
                      <a:arcTo wR="10800" hR="10800" stAng="-10347576" swAng="4936610"/>
                    </a:path>
                  </a:pathLst>
                </a:custGeom>
                <a:noFill/>
                <a:ln cap="rnd" w="507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051440" y="1648800"/>
                  <a:ext cx="1472760" cy="296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53"/>
                      </a:moveTo>
                      <a:arcTo wR="10800" hR="10800" stAng="-110502" swAng="48930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53"/>
                      </a:moveTo>
                      <a:arcTo wR="10800" hR="10800" stAng="-110502" swAng="4893007"/>
                    </a:path>
                  </a:pathLst>
                </a:custGeom>
                <a:noFill/>
                <a:ln cap="rnd" w="507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 flipH="1">
                <a:off x="6037200" y="1589040"/>
                <a:ext cx="11592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11600" y="1814400"/>
                <a:ext cx="123840" cy="12564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440 h 125640"/>
                  <a:gd name="textAreaBottom" fmla="*/ 97200 h 1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114960" y="1820880"/>
                <a:ext cx="123840" cy="12528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45040" y="1930320"/>
                <a:ext cx="127080" cy="125640"/>
              </a:xfrm>
              <a:custGeom>
                <a:avLst/>
                <a:gdLst>
                  <a:gd name="textAreaLeft" fmla="*/ 28800 w 127080"/>
                  <a:gd name="textAreaRight" fmla="*/ 98280 w 127080"/>
                  <a:gd name="textAreaTop" fmla="*/ 28440 h 125640"/>
                  <a:gd name="textAreaBottom" fmla="*/ 97200 h 1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32640" y="1865160"/>
                <a:ext cx="123480" cy="127080"/>
              </a:xfrm>
              <a:custGeom>
                <a:avLst/>
                <a:gdLst>
                  <a:gd name="textAreaLeft" fmla="*/ 28080 w 123480"/>
                  <a:gd name="textAreaRight" fmla="*/ 95400 w 123480"/>
                  <a:gd name="textAreaTop" fmla="*/ 28800 h 127080"/>
                  <a:gd name="textAreaBottom" fmla="*/ 98280 h 12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9280" y="2057400"/>
                <a:ext cx="123840" cy="12708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800 h 127080"/>
                  <a:gd name="textAreaBottom" fmla="*/ 98280 h 12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97440" y="1596960"/>
                <a:ext cx="127080" cy="125640"/>
              </a:xfrm>
              <a:custGeom>
                <a:avLst/>
                <a:gdLst>
                  <a:gd name="textAreaLeft" fmla="*/ 28800 w 127080"/>
                  <a:gd name="textAreaRight" fmla="*/ 98280 w 127080"/>
                  <a:gd name="textAreaTop" fmla="*/ 28440 h 125640"/>
                  <a:gd name="textAreaBottom" fmla="*/ 97200 h 1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70360" y="1738440"/>
                <a:ext cx="125640" cy="125280"/>
              </a:xfrm>
              <a:custGeom>
                <a:avLst/>
                <a:gdLst>
                  <a:gd name="textAreaLeft" fmla="*/ 28440 w 125640"/>
                  <a:gd name="textAreaRight" fmla="*/ 97200 w 12564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70360" y="1930320"/>
                <a:ext cx="125640" cy="125640"/>
              </a:xfrm>
              <a:custGeom>
                <a:avLst/>
                <a:gdLst>
                  <a:gd name="textAreaLeft" fmla="*/ 28440 w 125640"/>
                  <a:gd name="textAreaRight" fmla="*/ 97200 w 125640"/>
                  <a:gd name="textAreaTop" fmla="*/ 28440 h 125640"/>
                  <a:gd name="textAreaBottom" fmla="*/ 97200 h 1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57920" y="1974960"/>
                <a:ext cx="127080" cy="125280"/>
              </a:xfrm>
              <a:custGeom>
                <a:avLst/>
                <a:gdLst>
                  <a:gd name="textAreaLeft" fmla="*/ 28800 w 127080"/>
                  <a:gd name="textAreaRight" fmla="*/ 98280 w 12708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29560" y="2154240"/>
                <a:ext cx="126720" cy="125280"/>
              </a:xfrm>
              <a:custGeom>
                <a:avLst/>
                <a:gdLst>
                  <a:gd name="textAreaLeft" fmla="*/ 28800 w 126720"/>
                  <a:gd name="textAreaRight" fmla="*/ 97920 w 12672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94160" y="1366920"/>
                <a:ext cx="125280" cy="125280"/>
              </a:xfrm>
              <a:custGeom>
                <a:avLst/>
                <a:gdLst>
                  <a:gd name="textAreaLeft" fmla="*/ 28440 w 125280"/>
                  <a:gd name="textAreaRight" fmla="*/ 96840 w 12528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38720" y="1461960"/>
                <a:ext cx="123840" cy="12708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800 h 127080"/>
                  <a:gd name="textAreaBottom" fmla="*/ 98280 h 12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4392720" y="1378080"/>
                <a:ext cx="161640" cy="24264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299120" y="1329840"/>
                <a:ext cx="156960" cy="24156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10080" y="1770120"/>
                <a:ext cx="127080" cy="125280"/>
              </a:xfrm>
              <a:custGeom>
                <a:avLst/>
                <a:gdLst>
                  <a:gd name="textAreaLeft" fmla="*/ 28800 w 127080"/>
                  <a:gd name="textAreaRight" fmla="*/ 98280 w 12708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19440" y="1955880"/>
                <a:ext cx="123840" cy="12528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68680" y="1949400"/>
                <a:ext cx="127080" cy="125640"/>
              </a:xfrm>
              <a:custGeom>
                <a:avLst/>
                <a:gdLst>
                  <a:gd name="textAreaLeft" fmla="*/ 28800 w 127080"/>
                  <a:gd name="textAreaRight" fmla="*/ 98280 w 127080"/>
                  <a:gd name="textAreaTop" fmla="*/ 28440 h 125640"/>
                  <a:gd name="textAreaBottom" fmla="*/ 97200 h 1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35680" y="1719360"/>
                <a:ext cx="123840" cy="125280"/>
              </a:xfrm>
              <a:custGeom>
                <a:avLst/>
                <a:gdLst>
                  <a:gd name="textAreaLeft" fmla="*/ 28080 w 123840"/>
                  <a:gd name="textAreaRight" fmla="*/ 95760 w 123840"/>
                  <a:gd name="textAreaTop" fmla="*/ 28440 h 125280"/>
                  <a:gd name="textAreaBottom" fmla="*/ 96840 h 12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5046840" y="2055960"/>
                <a:ext cx="590400" cy="5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65720" y="2055960"/>
                <a:ext cx="5479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905280" y="1940040"/>
                <a:ext cx="5302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751280" y="1550880"/>
                <a:ext cx="57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317600" y="1949400"/>
              <a:ext cx="2140200" cy="3668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istone syn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08200" y="1949400"/>
              <a:ext cx="2013840" cy="366840"/>
            </a:xfrm>
            <a:prstGeom prst="rect">
              <a:avLst/>
            </a:prstGeom>
            <a:noFill/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Histone turn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6120" y="2865600"/>
            <a:ext cx="2135880" cy="3043800"/>
            <a:chOff x="546120" y="2865600"/>
            <a:chExt cx="2135880" cy="3043800"/>
          </a:xfrm>
        </p:grpSpPr>
        <p:sp>
          <p:nvSpPr>
            <p:cNvPr id="93" name=""/>
            <p:cNvSpPr/>
            <p:nvPr/>
          </p:nvSpPr>
          <p:spPr>
            <a:xfrm>
              <a:off x="546120" y="3310560"/>
              <a:ext cx="2133000" cy="21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7" y="120"/>
                  </a:moveTo>
                  <a:arcTo wR="10800" hR="10800" stAng="-4886481" swAng="7197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7" y="120"/>
                  </a:moveTo>
                  <a:arcTo wR="10800" hR="10800" stAng="-4886481" swAng="7197452"/>
                </a:path>
              </a:pathLst>
            </a:custGeom>
            <a:noFill/>
            <a:ln cap="rnd" w="50760">
              <a:solidFill>
                <a:srgbClr val="96969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6120" y="3309480"/>
              <a:ext cx="2133000" cy="21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97" y="17337"/>
                  </a:moveTo>
                  <a:arcTo wR="10800" hR="10800" stAng="2234743" swAng="6011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97" y="17337"/>
                  </a:moveTo>
                  <a:arcTo wR="10800" hR="10800" stAng="2234743" swAng="6011947"/>
                </a:path>
              </a:pathLst>
            </a:custGeom>
            <a:noFill/>
            <a:ln cap="rnd" w="507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7560" y="3311640"/>
              <a:ext cx="2133000" cy="21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6"/>
                  </a:moveTo>
                  <a:arcTo wR="10800" hR="10800" stAng="8100278" swAng="7612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6"/>
                  </a:moveTo>
                  <a:arcTo wR="10800" hR="10800" stAng="8100278" swAng="7612305"/>
                </a:path>
              </a:pathLst>
            </a:custGeom>
            <a:noFill/>
            <a:ln cap="rnd" w="50760">
              <a:solidFill>
                <a:srgbClr val="96969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6840" y="3311640"/>
              <a:ext cx="2135160" cy="21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9" y="99"/>
                  </a:moveTo>
                  <a:arcTo wR="10800" hR="10800" stAng="-5866405" swAng="948759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9" y="99"/>
                  </a:moveTo>
                  <a:arcTo wR="10800" hR="10800" stAng="-5866405" swAng="948759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1680" y="5542560"/>
              <a:ext cx="106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 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9240" y="4036680"/>
              <a:ext cx="84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2560" y="4036680"/>
              <a:ext cx="84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5000" y="2865600"/>
              <a:ext cx="97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905560" y="3130560"/>
            <a:ext cx="6508080" cy="2851200"/>
            <a:chOff x="2905560" y="3130560"/>
            <a:chExt cx="6508080" cy="2851200"/>
          </a:xfrm>
        </p:grpSpPr>
        <p:sp>
          <p:nvSpPr>
            <p:cNvPr id="102" name=""/>
            <p:cNvSpPr/>
            <p:nvPr/>
          </p:nvSpPr>
          <p:spPr>
            <a:xfrm>
              <a:off x="2933640" y="5219640"/>
              <a:ext cx="624852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40120" y="3130560"/>
              <a:ext cx="6235560" cy="250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5560" y="5614920"/>
              <a:ext cx="650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           </a:t>
              </a: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G1 pha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 pha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G2 phas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59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433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719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005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291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577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63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149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435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721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007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293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57960" y="55069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3920" y="535464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0240" y="512604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86560" y="45925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62520" y="36781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38840" y="329724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1120" y="337356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43760" y="3449520"/>
              <a:ext cx="126720" cy="12564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6040" y="34495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48320" y="352584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00960" y="3602160"/>
              <a:ext cx="126720" cy="12528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53240" y="36781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29560" y="3983040"/>
              <a:ext cx="126720" cy="12528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5520" y="451656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81840" y="50497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58160" y="5354640"/>
              <a:ext cx="126720" cy="125280"/>
            </a:xfrm>
            <a:custGeom>
              <a:avLst/>
              <a:gdLst>
                <a:gd name="textAreaLeft" fmla="*/ 28800 w 126720"/>
                <a:gd name="textAreaRight" fmla="*/ 97920 w 12672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10440" y="5430960"/>
              <a:ext cx="127080" cy="12528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280"/>
                <a:gd name="textAreaBottom" fmla="*/ 9684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90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676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962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248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34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820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106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39240" y="550692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7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64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50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736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2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30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94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80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66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45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73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24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310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96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8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16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54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740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026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31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884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170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456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742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02800" y="5149800"/>
              <a:ext cx="127080" cy="125640"/>
            </a:xfrm>
            <a:custGeom>
              <a:avLst/>
              <a:gdLst>
                <a:gd name="textAreaLeft" fmla="*/ 28800 w 127080"/>
                <a:gd name="textAreaRight" fmla="*/ 98280 w 127080"/>
                <a:gd name="textAreaTop" fmla="*/ 28440 h 125640"/>
                <a:gd name="textAreaBottom" fmla="*/ 97200 h 1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4960" y="3252960"/>
              <a:ext cx="265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Replication-depen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1200" y="4776840"/>
              <a:ext cx="600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Constitutive                                        </a:t>
              </a:r>
              <a:r>
                <a:rPr b="0" i="1" lang="en-US" sz="1600" spc="-1" strike="noStrike">
                  <a:solidFill>
                    <a:srgbClr val="969696"/>
                  </a:solidFill>
                  <a:latin typeface="Arial"/>
                </a:rPr>
                <a:t>Replacement Hist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753160" y="3843360"/>
              <a:ext cx="7128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676840" y="4753080"/>
              <a:ext cx="6192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838480" y="3443400"/>
              <a:ext cx="2844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38920" y="3828960"/>
              <a:ext cx="33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5240" y="4138560"/>
              <a:ext cx="4752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77160" y="4657680"/>
              <a:ext cx="522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29320" y="5267160"/>
              <a:ext cx="144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440" y="5186520"/>
              <a:ext cx="428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39720" y="3176640"/>
              <a:ext cx="11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ell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4:38Z</cp:lastPrinted>
  <dcterms:modified xsi:type="dcterms:W3CDTF">1999-03-24T13:31:57Z</dcterms:modified>
  <cp:revision>14</cp:revision>
  <dc:subject/>
  <dc:title>CHROMATIN</dc:title>
</cp:coreProperties>
</file>