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77473-729B-4A7B-8BA9-38FA78B2C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CD8EC-96B3-4380-AD58-F843EE05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0AA77-C28A-47A2-B3CB-1BC51FBE3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87A78-4D1E-4A2B-A30B-DF42F1DA3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60593-7927-4A7C-B238-2A7E68F6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D337A-C1D6-4A93-A275-4E2EDBCD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1F86D-6CB7-4463-A243-BAFF2FBF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21FF4-2FB7-4870-B115-E70BF995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3EB37-759E-4437-9D45-CD9FEEFD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8262C-0765-4FD0-AA3A-E32682F3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034C8-F8D2-4AE1-A5E9-589DC899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17910-07A2-4A19-BD65-E0240B96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72320" y="6477120"/>
            <a:ext cx="94284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9528120" y="6370200"/>
            <a:ext cx="371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9CFC-11DD-4509-9A88-B66C34ADE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47680" y="6259680"/>
            <a:ext cx="1390680" cy="425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630360" y="6480000"/>
            <a:ext cx="550800" cy="2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735760" y="5310000"/>
            <a:ext cx="282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1999, J.H.Waterborg, UMK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2960" y="466200"/>
            <a:ext cx="8744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Repair of transcribed chromat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410800" y="1265400"/>
            <a:ext cx="3622680" cy="1438200"/>
            <a:chOff x="5410800" y="1265400"/>
            <a:chExt cx="3622680" cy="1438200"/>
          </a:xfrm>
        </p:grpSpPr>
        <p:sp>
          <p:nvSpPr>
            <p:cNvPr id="45" name=""/>
            <p:cNvSpPr/>
            <p:nvPr/>
          </p:nvSpPr>
          <p:spPr>
            <a:xfrm>
              <a:off x="5443560" y="2467080"/>
              <a:ext cx="3511440" cy="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50040" y="1265400"/>
              <a:ext cx="3498840" cy="1438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460840" y="2430360"/>
              <a:ext cx="65160" cy="66600"/>
            </a:xfrm>
            <a:custGeom>
              <a:avLst/>
              <a:gdLst>
                <a:gd name="textAreaLeft" fmla="*/ 14760 w 65160"/>
                <a:gd name="textAreaRight" fmla="*/ 50400 w 65160"/>
                <a:gd name="textAreaTop" fmla="*/ 15120 h 66600"/>
                <a:gd name="textAreaBottom" fmla="*/ 51480 h 6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51480" y="2638440"/>
              <a:ext cx="65160" cy="65160"/>
            </a:xfrm>
            <a:custGeom>
              <a:avLst/>
              <a:gdLst>
                <a:gd name="textAreaLeft" fmla="*/ 14760 w 65160"/>
                <a:gd name="textAreaRight" fmla="*/ 50400 w 65160"/>
                <a:gd name="textAreaTop" fmla="*/ 14760 h 65160"/>
                <a:gd name="textAreaBottom" fmla="*/ 50400 h 6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581800" y="2638440"/>
              <a:ext cx="64800" cy="65160"/>
            </a:xfrm>
            <a:custGeom>
              <a:avLst/>
              <a:gdLst>
                <a:gd name="textAreaLeft" fmla="*/ 14760 w 64800"/>
                <a:gd name="textAreaRight" fmla="*/ 50040 w 64800"/>
                <a:gd name="textAreaTop" fmla="*/ 14760 h 65160"/>
                <a:gd name="textAreaBottom" fmla="*/ 50400 h 6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708520" y="2638440"/>
              <a:ext cx="65160" cy="65160"/>
            </a:xfrm>
            <a:custGeom>
              <a:avLst/>
              <a:gdLst>
                <a:gd name="textAreaLeft" fmla="*/ 14760 w 65160"/>
                <a:gd name="textAreaRight" fmla="*/ 50400 w 65160"/>
                <a:gd name="textAreaTop" fmla="*/ 14760 h 65160"/>
                <a:gd name="textAreaBottom" fmla="*/ 50400 h 6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837400" y="2638440"/>
              <a:ext cx="66600" cy="65160"/>
            </a:xfrm>
            <a:custGeom>
              <a:avLst/>
              <a:gdLst>
                <a:gd name="textAreaLeft" fmla="*/ 15120 w 66600"/>
                <a:gd name="textAreaRight" fmla="*/ 51480 w 66600"/>
                <a:gd name="textAreaTop" fmla="*/ 14760 h 65160"/>
                <a:gd name="textAreaBottom" fmla="*/ 50400 h 6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5920" y="2638440"/>
              <a:ext cx="65160" cy="65160"/>
            </a:xfrm>
            <a:custGeom>
              <a:avLst/>
              <a:gdLst>
                <a:gd name="textAreaLeft" fmla="*/ 14760 w 65160"/>
                <a:gd name="textAreaRight" fmla="*/ 50400 w 65160"/>
                <a:gd name="textAreaTop" fmla="*/ 14760 h 65160"/>
                <a:gd name="textAreaBottom" fmla="*/ 50400 h 6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440" y="2638440"/>
              <a:ext cx="65160" cy="65160"/>
            </a:xfrm>
            <a:custGeom>
              <a:avLst/>
              <a:gdLst>
                <a:gd name="textAreaLeft" fmla="*/ 14760 w 65160"/>
                <a:gd name="textAreaRight" fmla="*/ 50400 w 65160"/>
                <a:gd name="textAreaTop" fmla="*/ 14760 h 65160"/>
                <a:gd name="textAreaBottom" fmla="*/ 50400 h 6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22960" y="2638440"/>
              <a:ext cx="65160" cy="65160"/>
            </a:xfrm>
            <a:custGeom>
              <a:avLst/>
              <a:gdLst>
                <a:gd name="textAreaLeft" fmla="*/ 14760 w 65160"/>
                <a:gd name="textAreaRight" fmla="*/ 50400 w 65160"/>
                <a:gd name="textAreaTop" fmla="*/ 14760 h 65160"/>
                <a:gd name="textAreaBottom" fmla="*/ 50400 h 6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1480" y="2638440"/>
              <a:ext cx="65160" cy="65160"/>
            </a:xfrm>
            <a:custGeom>
              <a:avLst/>
              <a:gdLst>
                <a:gd name="textAreaLeft" fmla="*/ 14760 w 65160"/>
                <a:gd name="textAreaRight" fmla="*/ 50400 w 65160"/>
                <a:gd name="textAreaTop" fmla="*/ 14760 h 65160"/>
                <a:gd name="textAreaBottom" fmla="*/ 50400 h 6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78560" y="2638440"/>
              <a:ext cx="66600" cy="65160"/>
            </a:xfrm>
            <a:custGeom>
              <a:avLst/>
              <a:gdLst>
                <a:gd name="textAreaLeft" fmla="*/ 15120 w 66600"/>
                <a:gd name="textAreaRight" fmla="*/ 51480 w 66600"/>
                <a:gd name="textAreaTop" fmla="*/ 14760 h 65160"/>
                <a:gd name="textAreaBottom" fmla="*/ 50400 h 6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608880" y="2638440"/>
              <a:ext cx="64800" cy="65160"/>
            </a:xfrm>
            <a:custGeom>
              <a:avLst/>
              <a:gdLst>
                <a:gd name="textAreaLeft" fmla="*/ 14760 w 64800"/>
                <a:gd name="textAreaRight" fmla="*/ 50040 w 64800"/>
                <a:gd name="textAreaTop" fmla="*/ 14760 h 65160"/>
                <a:gd name="textAreaBottom" fmla="*/ 50400 h 6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735600" y="2638440"/>
              <a:ext cx="65160" cy="65160"/>
            </a:xfrm>
            <a:custGeom>
              <a:avLst/>
              <a:gdLst>
                <a:gd name="textAreaLeft" fmla="*/ 14760 w 65160"/>
                <a:gd name="textAreaRight" fmla="*/ 50400 w 65160"/>
                <a:gd name="textAreaTop" fmla="*/ 14760 h 65160"/>
                <a:gd name="textAreaBottom" fmla="*/ 50400 h 6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65920" y="2638440"/>
              <a:ext cx="65160" cy="65160"/>
            </a:xfrm>
            <a:custGeom>
              <a:avLst/>
              <a:gdLst>
                <a:gd name="textAreaLeft" fmla="*/ 14760 w 65160"/>
                <a:gd name="textAreaRight" fmla="*/ 50400 w 65160"/>
                <a:gd name="textAreaTop" fmla="*/ 14760 h 65160"/>
                <a:gd name="textAreaBottom" fmla="*/ 50400 h 6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907320" y="2549520"/>
              <a:ext cx="66600" cy="65160"/>
            </a:xfrm>
            <a:custGeom>
              <a:avLst/>
              <a:gdLst>
                <a:gd name="textAreaLeft" fmla="*/ 15120 w 66600"/>
                <a:gd name="textAreaRight" fmla="*/ 51480 w 66600"/>
                <a:gd name="textAreaTop" fmla="*/ 14760 h 65160"/>
                <a:gd name="textAreaBottom" fmla="*/ 50400 h 6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950160" y="2417760"/>
              <a:ext cx="65160" cy="66600"/>
            </a:xfrm>
            <a:custGeom>
              <a:avLst/>
              <a:gdLst>
                <a:gd name="textAreaLeft" fmla="*/ 14760 w 65160"/>
                <a:gd name="textAreaRight" fmla="*/ 50400 w 65160"/>
                <a:gd name="textAreaTop" fmla="*/ 15120 h 66600"/>
                <a:gd name="textAreaBottom" fmla="*/ 51480 h 6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93000" y="2108160"/>
              <a:ext cx="65160" cy="66600"/>
            </a:xfrm>
            <a:custGeom>
              <a:avLst/>
              <a:gdLst>
                <a:gd name="textAreaLeft" fmla="*/ 14760 w 65160"/>
                <a:gd name="textAreaRight" fmla="*/ 50400 w 65160"/>
                <a:gd name="textAreaTop" fmla="*/ 15120 h 66600"/>
                <a:gd name="textAreaBottom" fmla="*/ 51480 h 6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035840" y="1581120"/>
              <a:ext cx="66600" cy="68400"/>
            </a:xfrm>
            <a:custGeom>
              <a:avLst/>
              <a:gdLst>
                <a:gd name="textAreaLeft" fmla="*/ 15120 w 66600"/>
                <a:gd name="textAreaRight" fmla="*/ 51480 w 66600"/>
                <a:gd name="textAreaTop" fmla="*/ 15480 h 68400"/>
                <a:gd name="textAreaBottom" fmla="*/ 52920 h 6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078680" y="1360440"/>
              <a:ext cx="66600" cy="68400"/>
            </a:xfrm>
            <a:custGeom>
              <a:avLst/>
              <a:gdLst>
                <a:gd name="textAreaLeft" fmla="*/ 15120 w 66600"/>
                <a:gd name="textAreaRight" fmla="*/ 51480 w 66600"/>
                <a:gd name="textAreaTop" fmla="*/ 15480 h 68400"/>
                <a:gd name="textAreaBottom" fmla="*/ 52920 h 6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164360" y="1405080"/>
              <a:ext cx="65160" cy="66600"/>
            </a:xfrm>
            <a:custGeom>
              <a:avLst/>
              <a:gdLst>
                <a:gd name="textAreaLeft" fmla="*/ 14760 w 65160"/>
                <a:gd name="textAreaRight" fmla="*/ 50400 w 65160"/>
                <a:gd name="textAreaTop" fmla="*/ 15120 h 66600"/>
                <a:gd name="textAreaBottom" fmla="*/ 51480 h 6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250040" y="1447920"/>
              <a:ext cx="65160" cy="68040"/>
            </a:xfrm>
            <a:custGeom>
              <a:avLst/>
              <a:gdLst>
                <a:gd name="textAreaLeft" fmla="*/ 14760 w 65160"/>
                <a:gd name="textAreaRight" fmla="*/ 50400 w 65160"/>
                <a:gd name="textAreaTop" fmla="*/ 15480 h 68040"/>
                <a:gd name="textAreaBottom" fmla="*/ 52560 h 6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337520" y="1447920"/>
              <a:ext cx="65160" cy="68040"/>
            </a:xfrm>
            <a:custGeom>
              <a:avLst/>
              <a:gdLst>
                <a:gd name="textAreaLeft" fmla="*/ 14760 w 65160"/>
                <a:gd name="textAreaRight" fmla="*/ 50400 w 65160"/>
                <a:gd name="textAreaTop" fmla="*/ 15480 h 68040"/>
                <a:gd name="textAreaBottom" fmla="*/ 52560 h 6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421400" y="1492200"/>
              <a:ext cx="65160" cy="66600"/>
            </a:xfrm>
            <a:custGeom>
              <a:avLst/>
              <a:gdLst>
                <a:gd name="textAreaLeft" fmla="*/ 14760 w 65160"/>
                <a:gd name="textAreaRight" fmla="*/ 50400 w 65160"/>
                <a:gd name="textAreaTop" fmla="*/ 15120 h 66600"/>
                <a:gd name="textAreaBottom" fmla="*/ 51480 h 6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507440" y="1538280"/>
              <a:ext cx="66600" cy="65160"/>
            </a:xfrm>
            <a:custGeom>
              <a:avLst/>
              <a:gdLst>
                <a:gd name="textAreaLeft" fmla="*/ 15120 w 66600"/>
                <a:gd name="textAreaRight" fmla="*/ 51480 w 66600"/>
                <a:gd name="textAreaTop" fmla="*/ 14760 h 65160"/>
                <a:gd name="textAreaBottom" fmla="*/ 50400 h 6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93120" y="1581120"/>
              <a:ext cx="66600" cy="68400"/>
            </a:xfrm>
            <a:custGeom>
              <a:avLst/>
              <a:gdLst>
                <a:gd name="textAreaLeft" fmla="*/ 15120 w 66600"/>
                <a:gd name="textAreaRight" fmla="*/ 51480 w 66600"/>
                <a:gd name="textAreaTop" fmla="*/ 15480 h 68400"/>
                <a:gd name="textAreaBottom" fmla="*/ 52920 h 6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635960" y="1757520"/>
              <a:ext cx="65160" cy="66600"/>
            </a:xfrm>
            <a:custGeom>
              <a:avLst/>
              <a:gdLst>
                <a:gd name="textAreaLeft" fmla="*/ 14760 w 65160"/>
                <a:gd name="textAreaRight" fmla="*/ 50400 w 65160"/>
                <a:gd name="textAreaTop" fmla="*/ 15120 h 66600"/>
                <a:gd name="textAreaBottom" fmla="*/ 51480 h 6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678800" y="2065320"/>
              <a:ext cx="65160" cy="66600"/>
            </a:xfrm>
            <a:custGeom>
              <a:avLst/>
              <a:gdLst>
                <a:gd name="textAreaLeft" fmla="*/ 14760 w 65160"/>
                <a:gd name="textAreaRight" fmla="*/ 50400 w 65160"/>
                <a:gd name="textAreaTop" fmla="*/ 15120 h 66600"/>
                <a:gd name="textAreaBottom" fmla="*/ 51480 h 6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21640" y="2373480"/>
              <a:ext cx="65160" cy="66600"/>
            </a:xfrm>
            <a:custGeom>
              <a:avLst/>
              <a:gdLst>
                <a:gd name="textAreaLeft" fmla="*/ 14760 w 65160"/>
                <a:gd name="textAreaRight" fmla="*/ 50400 w 65160"/>
                <a:gd name="textAreaTop" fmla="*/ 15120 h 66600"/>
                <a:gd name="textAreaBottom" fmla="*/ 51480 h 6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64480" y="2549520"/>
              <a:ext cx="66600" cy="65160"/>
            </a:xfrm>
            <a:custGeom>
              <a:avLst/>
              <a:gdLst>
                <a:gd name="textAreaLeft" fmla="*/ 15120 w 66600"/>
                <a:gd name="textAreaRight" fmla="*/ 51480 w 66600"/>
                <a:gd name="textAreaTop" fmla="*/ 14760 h 65160"/>
                <a:gd name="textAreaBottom" fmla="*/ 50400 h 6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850160" y="2592360"/>
              <a:ext cx="65160" cy="66600"/>
            </a:xfrm>
            <a:custGeom>
              <a:avLst/>
              <a:gdLst>
                <a:gd name="textAreaLeft" fmla="*/ 14760 w 65160"/>
                <a:gd name="textAreaRight" fmla="*/ 50400 w 65160"/>
                <a:gd name="textAreaTop" fmla="*/ 15120 h 66600"/>
                <a:gd name="textAreaBottom" fmla="*/ 51480 h 6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978680" y="2638440"/>
              <a:ext cx="65160" cy="65160"/>
            </a:xfrm>
            <a:custGeom>
              <a:avLst/>
              <a:gdLst>
                <a:gd name="textAreaLeft" fmla="*/ 14760 w 65160"/>
                <a:gd name="textAreaRight" fmla="*/ 50400 w 65160"/>
                <a:gd name="textAreaTop" fmla="*/ 14760 h 65160"/>
                <a:gd name="textAreaBottom" fmla="*/ 50400 h 6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107200" y="2638440"/>
              <a:ext cx="65160" cy="65160"/>
            </a:xfrm>
            <a:custGeom>
              <a:avLst/>
              <a:gdLst>
                <a:gd name="textAreaLeft" fmla="*/ 14760 w 65160"/>
                <a:gd name="textAreaRight" fmla="*/ 50400 w 65160"/>
                <a:gd name="textAreaTop" fmla="*/ 14760 h 65160"/>
                <a:gd name="textAreaBottom" fmla="*/ 50400 h 6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234280" y="2638440"/>
              <a:ext cx="66600" cy="65160"/>
            </a:xfrm>
            <a:custGeom>
              <a:avLst/>
              <a:gdLst>
                <a:gd name="textAreaLeft" fmla="*/ 15120 w 66600"/>
                <a:gd name="textAreaRight" fmla="*/ 51480 w 66600"/>
                <a:gd name="textAreaTop" fmla="*/ 14760 h 65160"/>
                <a:gd name="textAreaBottom" fmla="*/ 50400 h 6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364600" y="2638440"/>
              <a:ext cx="65160" cy="65160"/>
            </a:xfrm>
            <a:custGeom>
              <a:avLst/>
              <a:gdLst>
                <a:gd name="textAreaLeft" fmla="*/ 14760 w 65160"/>
                <a:gd name="textAreaRight" fmla="*/ 50400 w 65160"/>
                <a:gd name="textAreaTop" fmla="*/ 14760 h 65160"/>
                <a:gd name="textAreaBottom" fmla="*/ 50400 h 6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491680" y="2638440"/>
              <a:ext cx="64800" cy="65160"/>
            </a:xfrm>
            <a:custGeom>
              <a:avLst/>
              <a:gdLst>
                <a:gd name="textAreaLeft" fmla="*/ 14760 w 64800"/>
                <a:gd name="textAreaRight" fmla="*/ 50040 w 64800"/>
                <a:gd name="textAreaTop" fmla="*/ 14760 h 65160"/>
                <a:gd name="textAreaBottom" fmla="*/ 50400 h 6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621640" y="2638440"/>
              <a:ext cx="65160" cy="65160"/>
            </a:xfrm>
            <a:custGeom>
              <a:avLst/>
              <a:gdLst>
                <a:gd name="textAreaLeft" fmla="*/ 14760 w 65160"/>
                <a:gd name="textAreaRight" fmla="*/ 50400 w 65160"/>
                <a:gd name="textAreaTop" fmla="*/ 14760 h 65160"/>
                <a:gd name="textAreaBottom" fmla="*/ 50400 h 6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748720" y="2638440"/>
              <a:ext cx="65160" cy="65160"/>
            </a:xfrm>
            <a:custGeom>
              <a:avLst/>
              <a:gdLst>
                <a:gd name="textAreaLeft" fmla="*/ 14760 w 65160"/>
                <a:gd name="textAreaRight" fmla="*/ 50400 w 65160"/>
                <a:gd name="textAreaTop" fmla="*/ 14760 h 65160"/>
                <a:gd name="textAreaBottom" fmla="*/ 50400 h 6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879040" y="2638440"/>
              <a:ext cx="64800" cy="65160"/>
            </a:xfrm>
            <a:custGeom>
              <a:avLst/>
              <a:gdLst>
                <a:gd name="textAreaLeft" fmla="*/ 14760 w 64800"/>
                <a:gd name="textAreaRight" fmla="*/ 50040 w 64800"/>
                <a:gd name="textAreaTop" fmla="*/ 14760 h 65160"/>
                <a:gd name="textAreaBottom" fmla="*/ 50400 h 6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589720" y="2430360"/>
              <a:ext cx="64800" cy="66600"/>
            </a:xfrm>
            <a:custGeom>
              <a:avLst/>
              <a:gdLst>
                <a:gd name="textAreaLeft" fmla="*/ 14760 w 64800"/>
                <a:gd name="textAreaRight" fmla="*/ 50040 w 64800"/>
                <a:gd name="textAreaTop" fmla="*/ 15120 h 66600"/>
                <a:gd name="textAreaBottom" fmla="*/ 51480 h 6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18240" y="2430360"/>
              <a:ext cx="65160" cy="66600"/>
            </a:xfrm>
            <a:custGeom>
              <a:avLst/>
              <a:gdLst>
                <a:gd name="textAreaLeft" fmla="*/ 14760 w 65160"/>
                <a:gd name="textAreaRight" fmla="*/ 50400 w 65160"/>
                <a:gd name="textAreaTop" fmla="*/ 15120 h 66600"/>
                <a:gd name="textAreaBottom" fmla="*/ 51480 h 6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846760" y="2430360"/>
              <a:ext cx="65160" cy="66600"/>
            </a:xfrm>
            <a:custGeom>
              <a:avLst/>
              <a:gdLst>
                <a:gd name="textAreaLeft" fmla="*/ 14760 w 65160"/>
                <a:gd name="textAreaRight" fmla="*/ 50400 w 65160"/>
                <a:gd name="textAreaTop" fmla="*/ 15120 h 66600"/>
                <a:gd name="textAreaBottom" fmla="*/ 51480 h 6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73840" y="2430360"/>
              <a:ext cx="66600" cy="66600"/>
            </a:xfrm>
            <a:custGeom>
              <a:avLst/>
              <a:gdLst>
                <a:gd name="textAreaLeft" fmla="*/ 15120 w 66600"/>
                <a:gd name="textAreaRight" fmla="*/ 51480 w 66600"/>
                <a:gd name="textAreaTop" fmla="*/ 15120 h 66600"/>
                <a:gd name="textAreaBottom" fmla="*/ 51480 h 6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103800" y="2430360"/>
              <a:ext cx="65160" cy="66600"/>
            </a:xfrm>
            <a:custGeom>
              <a:avLst/>
              <a:gdLst>
                <a:gd name="textAreaLeft" fmla="*/ 14760 w 65160"/>
                <a:gd name="textAreaRight" fmla="*/ 50400 w 65160"/>
                <a:gd name="textAreaTop" fmla="*/ 15120 h 66600"/>
                <a:gd name="textAreaBottom" fmla="*/ 51480 h 6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230880" y="2430360"/>
              <a:ext cx="65160" cy="66600"/>
            </a:xfrm>
            <a:custGeom>
              <a:avLst/>
              <a:gdLst>
                <a:gd name="textAreaLeft" fmla="*/ 14760 w 65160"/>
                <a:gd name="textAreaRight" fmla="*/ 50400 w 65160"/>
                <a:gd name="textAreaTop" fmla="*/ 15120 h 66600"/>
                <a:gd name="textAreaBottom" fmla="*/ 51480 h 6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361200" y="2430360"/>
              <a:ext cx="65160" cy="66600"/>
            </a:xfrm>
            <a:custGeom>
              <a:avLst/>
              <a:gdLst>
                <a:gd name="textAreaLeft" fmla="*/ 14760 w 65160"/>
                <a:gd name="textAreaRight" fmla="*/ 50400 w 65160"/>
                <a:gd name="textAreaTop" fmla="*/ 15120 h 66600"/>
                <a:gd name="textAreaBottom" fmla="*/ 51480 h 6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8280" y="2430360"/>
              <a:ext cx="64800" cy="66600"/>
            </a:xfrm>
            <a:custGeom>
              <a:avLst/>
              <a:gdLst>
                <a:gd name="textAreaLeft" fmla="*/ 14760 w 64800"/>
                <a:gd name="textAreaRight" fmla="*/ 50040 w 64800"/>
                <a:gd name="textAreaTop" fmla="*/ 15120 h 66600"/>
                <a:gd name="textAreaBottom" fmla="*/ 51480 h 6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16800" y="2430360"/>
              <a:ext cx="66600" cy="66600"/>
            </a:xfrm>
            <a:custGeom>
              <a:avLst/>
              <a:gdLst>
                <a:gd name="textAreaLeft" fmla="*/ 15120 w 66600"/>
                <a:gd name="textAreaRight" fmla="*/ 51480 w 66600"/>
                <a:gd name="textAreaTop" fmla="*/ 15120 h 66600"/>
                <a:gd name="textAreaBottom" fmla="*/ 51480 h 6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45320" y="2430360"/>
              <a:ext cx="65160" cy="66600"/>
            </a:xfrm>
            <a:custGeom>
              <a:avLst/>
              <a:gdLst>
                <a:gd name="textAreaLeft" fmla="*/ 14760 w 65160"/>
                <a:gd name="textAreaRight" fmla="*/ 50400 w 65160"/>
                <a:gd name="textAreaTop" fmla="*/ 15120 h 66600"/>
                <a:gd name="textAreaBottom" fmla="*/ 51480 h 6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73840" y="2430360"/>
              <a:ext cx="65160" cy="66600"/>
            </a:xfrm>
            <a:custGeom>
              <a:avLst/>
              <a:gdLst>
                <a:gd name="textAreaLeft" fmla="*/ 14760 w 65160"/>
                <a:gd name="textAreaRight" fmla="*/ 50400 w 65160"/>
                <a:gd name="textAreaTop" fmla="*/ 15120 h 66600"/>
                <a:gd name="textAreaBottom" fmla="*/ 51480 h 6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002360" y="2430360"/>
              <a:ext cx="66600" cy="66600"/>
            </a:xfrm>
            <a:custGeom>
              <a:avLst/>
              <a:gdLst>
                <a:gd name="textAreaLeft" fmla="*/ 15120 w 66600"/>
                <a:gd name="textAreaRight" fmla="*/ 51480 w 66600"/>
                <a:gd name="textAreaTop" fmla="*/ 15120 h 66600"/>
                <a:gd name="textAreaBottom" fmla="*/ 51480 h 6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130880" y="2430360"/>
              <a:ext cx="65160" cy="66600"/>
            </a:xfrm>
            <a:custGeom>
              <a:avLst/>
              <a:gdLst>
                <a:gd name="textAreaLeft" fmla="*/ 14760 w 65160"/>
                <a:gd name="textAreaRight" fmla="*/ 50400 w 65160"/>
                <a:gd name="textAreaTop" fmla="*/ 15120 h 66600"/>
                <a:gd name="textAreaBottom" fmla="*/ 51480 h 6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59760" y="2430360"/>
              <a:ext cx="66600" cy="66600"/>
            </a:xfrm>
            <a:custGeom>
              <a:avLst/>
              <a:gdLst>
                <a:gd name="textAreaLeft" fmla="*/ 15120 w 66600"/>
                <a:gd name="textAreaRight" fmla="*/ 51480 w 66600"/>
                <a:gd name="textAreaTop" fmla="*/ 15120 h 66600"/>
                <a:gd name="textAreaBottom" fmla="*/ 51480 h 6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88280" y="2430360"/>
              <a:ext cx="65160" cy="66600"/>
            </a:xfrm>
            <a:custGeom>
              <a:avLst/>
              <a:gdLst>
                <a:gd name="textAreaLeft" fmla="*/ 14760 w 65160"/>
                <a:gd name="textAreaRight" fmla="*/ 50400 w 65160"/>
                <a:gd name="textAreaTop" fmla="*/ 15120 h 66600"/>
                <a:gd name="textAreaBottom" fmla="*/ 51480 h 6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15360" y="2430360"/>
              <a:ext cx="66600" cy="66600"/>
            </a:xfrm>
            <a:custGeom>
              <a:avLst/>
              <a:gdLst>
                <a:gd name="textAreaLeft" fmla="*/ 15120 w 66600"/>
                <a:gd name="textAreaRight" fmla="*/ 51480 w 66600"/>
                <a:gd name="textAreaTop" fmla="*/ 15120 h 66600"/>
                <a:gd name="textAreaBottom" fmla="*/ 51480 h 6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645320" y="2430360"/>
              <a:ext cx="65160" cy="66600"/>
            </a:xfrm>
            <a:custGeom>
              <a:avLst/>
              <a:gdLst>
                <a:gd name="textAreaLeft" fmla="*/ 14760 w 65160"/>
                <a:gd name="textAreaRight" fmla="*/ 50400 w 65160"/>
                <a:gd name="textAreaTop" fmla="*/ 15120 h 66600"/>
                <a:gd name="textAreaBottom" fmla="*/ 51480 h 6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772400" y="2430360"/>
              <a:ext cx="66600" cy="66600"/>
            </a:xfrm>
            <a:custGeom>
              <a:avLst/>
              <a:gdLst>
                <a:gd name="textAreaLeft" fmla="*/ 15120 w 66600"/>
                <a:gd name="textAreaRight" fmla="*/ 51480 w 66600"/>
                <a:gd name="textAreaTop" fmla="*/ 15120 h 66600"/>
                <a:gd name="textAreaBottom" fmla="*/ 51480 h 6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902720" y="2430360"/>
              <a:ext cx="64800" cy="66600"/>
            </a:xfrm>
            <a:custGeom>
              <a:avLst/>
              <a:gdLst>
                <a:gd name="textAreaLeft" fmla="*/ 14760 w 64800"/>
                <a:gd name="textAreaRight" fmla="*/ 50040 w 64800"/>
                <a:gd name="textAreaTop" fmla="*/ 15120 h 66600"/>
                <a:gd name="textAreaBottom" fmla="*/ 51480 h 6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29440" y="2430360"/>
              <a:ext cx="66960" cy="66600"/>
            </a:xfrm>
            <a:custGeom>
              <a:avLst/>
              <a:gdLst>
                <a:gd name="textAreaLeft" fmla="*/ 15120 w 66960"/>
                <a:gd name="textAreaRight" fmla="*/ 51840 w 66960"/>
                <a:gd name="textAreaTop" fmla="*/ 15120 h 66600"/>
                <a:gd name="textAreaBottom" fmla="*/ 51480 h 6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58320" y="2430360"/>
              <a:ext cx="66600" cy="66600"/>
            </a:xfrm>
            <a:custGeom>
              <a:avLst/>
              <a:gdLst>
                <a:gd name="textAreaLeft" fmla="*/ 15120 w 66600"/>
                <a:gd name="textAreaRight" fmla="*/ 51480 w 66600"/>
                <a:gd name="textAreaTop" fmla="*/ 15120 h 66600"/>
                <a:gd name="textAreaBottom" fmla="*/ 51480 h 6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286840" y="2430360"/>
              <a:ext cx="66600" cy="66600"/>
            </a:xfrm>
            <a:custGeom>
              <a:avLst/>
              <a:gdLst>
                <a:gd name="textAreaLeft" fmla="*/ 15120 w 66600"/>
                <a:gd name="textAreaRight" fmla="*/ 51480 w 66600"/>
                <a:gd name="textAreaTop" fmla="*/ 15120 h 66600"/>
                <a:gd name="textAreaBottom" fmla="*/ 51480 h 6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415360" y="2430360"/>
              <a:ext cx="65160" cy="66600"/>
            </a:xfrm>
            <a:custGeom>
              <a:avLst/>
              <a:gdLst>
                <a:gd name="textAreaLeft" fmla="*/ 14760 w 65160"/>
                <a:gd name="textAreaRight" fmla="*/ 50400 w 65160"/>
                <a:gd name="textAreaTop" fmla="*/ 15120 h 66600"/>
                <a:gd name="textAreaBottom" fmla="*/ 51480 h 6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543880" y="2430360"/>
              <a:ext cx="66600" cy="66600"/>
            </a:xfrm>
            <a:custGeom>
              <a:avLst/>
              <a:gdLst>
                <a:gd name="textAreaLeft" fmla="*/ 15120 w 66600"/>
                <a:gd name="textAreaRight" fmla="*/ 51480 w 66600"/>
                <a:gd name="textAreaTop" fmla="*/ 15120 h 66600"/>
                <a:gd name="textAreaBottom" fmla="*/ 51480 h 6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672400" y="2430360"/>
              <a:ext cx="65160" cy="66600"/>
            </a:xfrm>
            <a:custGeom>
              <a:avLst/>
              <a:gdLst>
                <a:gd name="textAreaLeft" fmla="*/ 14760 w 65160"/>
                <a:gd name="textAreaRight" fmla="*/ 50400 w 65160"/>
                <a:gd name="textAreaTop" fmla="*/ 15120 h 66600"/>
                <a:gd name="textAreaBottom" fmla="*/ 51480 h 6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799480" y="2430360"/>
              <a:ext cx="68400" cy="66600"/>
            </a:xfrm>
            <a:custGeom>
              <a:avLst/>
              <a:gdLst>
                <a:gd name="textAreaLeft" fmla="*/ 15480 w 68400"/>
                <a:gd name="textAreaRight" fmla="*/ 52920 w 68400"/>
                <a:gd name="textAreaTop" fmla="*/ 15120 h 66600"/>
                <a:gd name="textAreaBottom" fmla="*/ 51480 h 6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7027920" y="1673280"/>
              <a:ext cx="3960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6984720" y="2198520"/>
              <a:ext cx="34920" cy="20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7077240" y="1441440"/>
              <a:ext cx="1584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39200" y="1665360"/>
              <a:ext cx="172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82040" y="1844640"/>
              <a:ext cx="25200" cy="20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715160" y="2143080"/>
              <a:ext cx="3024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6958080" y="2495520"/>
              <a:ext cx="792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754760" y="2449440"/>
              <a:ext cx="2556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410800" y="1541520"/>
              <a:ext cx="3622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       </a:t>
              </a:r>
              <a:r>
                <a:rPr b="1" lang="en-US" sz="1600" spc="-1" strike="noStrike">
                  <a:solidFill>
                    <a:srgbClr val="969696"/>
                  </a:solidFill>
                  <a:latin typeface="Arial"/>
                </a:rPr>
                <a:t>G1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n-US" sz="1600" spc="-1" strike="noStrike">
                  <a:solidFill>
                    <a:srgbClr val="969696"/>
                  </a:solidFill>
                  <a:latin typeface="Arial"/>
                </a:rPr>
                <a:t>G2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  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52760" y="3664080"/>
            <a:ext cx="603360" cy="825480"/>
          </a:xfrm>
          <a:prstGeom prst="downArrow">
            <a:avLst>
              <a:gd name="adj1" fmla="val 50000"/>
              <a:gd name="adj2" fmla="val 68413"/>
            </a:avLst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85280" y="3755880"/>
            <a:ext cx="2720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cription          with ‘strip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258920" y="1265400"/>
            <a:ext cx="3498840" cy="1438200"/>
            <a:chOff x="1258920" y="1265400"/>
            <a:chExt cx="3498840" cy="1438200"/>
          </a:xfrm>
        </p:grpSpPr>
        <p:sp>
          <p:nvSpPr>
            <p:cNvPr id="122" name=""/>
            <p:cNvSpPr/>
            <p:nvPr/>
          </p:nvSpPr>
          <p:spPr>
            <a:xfrm>
              <a:off x="3613320" y="1698480"/>
              <a:ext cx="102204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93960" y="1693800"/>
              <a:ext cx="82224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74960" y="1573200"/>
              <a:ext cx="249120" cy="235080"/>
            </a:xfrm>
            <a:custGeom>
              <a:avLst/>
              <a:gdLst>
                <a:gd name="textAreaLeft" fmla="*/ 56880 w 249120"/>
                <a:gd name="textAreaRight" fmla="*/ 192240 w 249120"/>
                <a:gd name="textAreaTop" fmla="*/ 53640 h 235080"/>
                <a:gd name="textAreaBottom" fmla="*/ 181440 h 23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3687840" y="1572840"/>
              <a:ext cx="247680" cy="241560"/>
              <a:chOff x="3687840" y="1572840"/>
              <a:chExt cx="247680" cy="241560"/>
            </a:xfrm>
          </p:grpSpPr>
          <p:sp>
            <p:nvSpPr>
              <p:cNvPr id="126" name=""/>
              <p:cNvSpPr/>
              <p:nvPr/>
            </p:nvSpPr>
            <p:spPr>
              <a:xfrm>
                <a:off x="3687840" y="1577880"/>
                <a:ext cx="247680" cy="235080"/>
              </a:xfrm>
              <a:custGeom>
                <a:avLst/>
                <a:gdLst>
                  <a:gd name="textAreaLeft" fmla="*/ 56520 w 247680"/>
                  <a:gd name="textAreaRight" fmla="*/ 191160 w 247680"/>
                  <a:gd name="textAreaTop" fmla="*/ 53640 h 235080"/>
                  <a:gd name="textAreaBottom" fmla="*/ 181440 h 235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3699000" y="1572840"/>
                <a:ext cx="139680" cy="198360"/>
              </a:xfrm>
              <a:prstGeom prst="line">
                <a:avLst/>
              </a:prstGeom>
              <a:ln w="507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3781440" y="1612800"/>
                <a:ext cx="142920" cy="201600"/>
              </a:xfrm>
              <a:prstGeom prst="line">
                <a:avLst/>
              </a:prstGeom>
              <a:ln w="507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010040" y="1577520"/>
              <a:ext cx="245880" cy="240120"/>
              <a:chOff x="4010040" y="1577520"/>
              <a:chExt cx="245880" cy="240120"/>
            </a:xfrm>
          </p:grpSpPr>
          <p:sp>
            <p:nvSpPr>
              <p:cNvPr id="130" name=""/>
              <p:cNvSpPr/>
              <p:nvPr/>
            </p:nvSpPr>
            <p:spPr>
              <a:xfrm>
                <a:off x="4010040" y="1579680"/>
                <a:ext cx="245880" cy="237960"/>
              </a:xfrm>
              <a:custGeom>
                <a:avLst/>
                <a:gdLst>
                  <a:gd name="textAreaLeft" fmla="*/ 56160 w 245880"/>
                  <a:gd name="textAreaRight" fmla="*/ 189720 w 245880"/>
                  <a:gd name="textAreaTop" fmla="*/ 54360 h 237960"/>
                  <a:gd name="textAreaBottom" fmla="*/ 183600 h 237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4017960" y="1577520"/>
                <a:ext cx="139680" cy="195480"/>
              </a:xfrm>
              <a:prstGeom prst="line">
                <a:avLst/>
              </a:prstGeom>
              <a:ln w="507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4103640" y="1617480"/>
                <a:ext cx="141480" cy="199800"/>
              </a:xfrm>
              <a:prstGeom prst="line">
                <a:avLst/>
              </a:prstGeom>
              <a:ln w="507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4334040" y="1572840"/>
              <a:ext cx="249120" cy="241560"/>
              <a:chOff x="4334040" y="1572840"/>
              <a:chExt cx="249120" cy="241560"/>
            </a:xfrm>
          </p:grpSpPr>
          <p:sp>
            <p:nvSpPr>
              <p:cNvPr id="134" name=""/>
              <p:cNvSpPr/>
              <p:nvPr/>
            </p:nvSpPr>
            <p:spPr>
              <a:xfrm>
                <a:off x="4334040" y="1577880"/>
                <a:ext cx="249120" cy="235080"/>
              </a:xfrm>
              <a:custGeom>
                <a:avLst/>
                <a:gdLst>
                  <a:gd name="textAreaLeft" fmla="*/ 56880 w 249120"/>
                  <a:gd name="textAreaRight" fmla="*/ 192240 w 249120"/>
                  <a:gd name="textAreaTop" fmla="*/ 53640 h 235080"/>
                  <a:gd name="textAreaBottom" fmla="*/ 181440 h 235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4338720" y="1572840"/>
                <a:ext cx="137880" cy="198360"/>
              </a:xfrm>
              <a:prstGeom prst="line">
                <a:avLst/>
              </a:prstGeom>
              <a:ln w="507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4425840" y="1612800"/>
                <a:ext cx="138240" cy="201600"/>
              </a:xfrm>
              <a:prstGeom prst="line">
                <a:avLst/>
              </a:prstGeom>
              <a:ln w="507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1759320" y="1531800"/>
              <a:ext cx="2197440" cy="666720"/>
              <a:chOff x="1759320" y="1531800"/>
              <a:chExt cx="2197440" cy="666720"/>
            </a:xfrm>
          </p:grpSpPr>
          <p:sp>
            <p:nvSpPr>
              <p:cNvPr id="138" name=""/>
              <p:cNvSpPr/>
              <p:nvPr/>
            </p:nvSpPr>
            <p:spPr>
              <a:xfrm>
                <a:off x="2697120" y="1531800"/>
                <a:ext cx="925560" cy="3384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072600" y="1757520"/>
                <a:ext cx="884160" cy="441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2" y="9322"/>
                    </a:moveTo>
                    <a:arcTo wR="10800" hR="10800" stAng="-10327980" swAng="49157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2" y="9322"/>
                    </a:moveTo>
                    <a:arcTo wR="10800" hR="10800" stAng="-10327980" swAng="4915703"/>
                  </a:path>
                </a:pathLst>
              </a:custGeom>
              <a:noFill/>
              <a:ln cap="rnd" w="507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759320" y="1833840"/>
                <a:ext cx="1310400" cy="24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2" y="10381"/>
                    </a:moveTo>
                    <a:arcTo wR="10800" hR="10800" stAng="-133493" swAng="49200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2" y="10381"/>
                    </a:moveTo>
                    <a:arcTo wR="10800" hR="10800" stAng="-133493" swAng="4920044"/>
                  </a:path>
                </a:pathLst>
              </a:custGeom>
              <a:noFill/>
              <a:ln cap="rnd" w="507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 flipH="1">
              <a:off x="3532320" y="1782720"/>
              <a:ext cx="102960" cy="236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61960" y="1968480"/>
              <a:ext cx="111240" cy="101520"/>
            </a:xfrm>
            <a:custGeom>
              <a:avLst/>
              <a:gdLst>
                <a:gd name="textAreaLeft" fmla="*/ 25200 w 111240"/>
                <a:gd name="textAreaRight" fmla="*/ 86040 w 111240"/>
                <a:gd name="textAreaTop" fmla="*/ 23040 h 101520"/>
                <a:gd name="textAreaBottom" fmla="*/ 78480 h 10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03600" y="1974960"/>
              <a:ext cx="108000" cy="101520"/>
            </a:xfrm>
            <a:custGeom>
              <a:avLst/>
              <a:gdLst>
                <a:gd name="textAreaLeft" fmla="*/ 24480 w 108000"/>
                <a:gd name="textAreaRight" fmla="*/ 83520 w 108000"/>
                <a:gd name="textAreaTop" fmla="*/ 23040 h 101520"/>
                <a:gd name="textAreaBottom" fmla="*/ 78480 h 10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51320" y="2065320"/>
              <a:ext cx="110880" cy="101520"/>
            </a:xfrm>
            <a:custGeom>
              <a:avLst/>
              <a:gdLst>
                <a:gd name="textAreaLeft" fmla="*/ 25200 w 110880"/>
                <a:gd name="textAreaRight" fmla="*/ 85680 w 110880"/>
                <a:gd name="textAreaTop" fmla="*/ 23040 h 101520"/>
                <a:gd name="textAreaBottom" fmla="*/ 78480 h 10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62320" y="2011320"/>
              <a:ext cx="108000" cy="103320"/>
            </a:xfrm>
            <a:custGeom>
              <a:avLst/>
              <a:gdLst>
                <a:gd name="textAreaLeft" fmla="*/ 24480 w 108000"/>
                <a:gd name="textAreaRight" fmla="*/ 83520 w 108000"/>
                <a:gd name="textAreaTop" fmla="*/ 23400 h 103320"/>
                <a:gd name="textAreaBottom" fmla="*/ 79920 h 10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86080" y="2170080"/>
              <a:ext cx="109440" cy="104760"/>
            </a:xfrm>
            <a:custGeom>
              <a:avLst/>
              <a:gdLst>
                <a:gd name="textAreaLeft" fmla="*/ 24840 w 109440"/>
                <a:gd name="textAreaRight" fmla="*/ 84600 w 109440"/>
                <a:gd name="textAreaTop" fmla="*/ 23760 h 104760"/>
                <a:gd name="textAreaBottom" fmla="*/ 81000 h 1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19280" y="1789200"/>
              <a:ext cx="111240" cy="101520"/>
            </a:xfrm>
            <a:custGeom>
              <a:avLst/>
              <a:gdLst>
                <a:gd name="textAreaLeft" fmla="*/ 25200 w 111240"/>
                <a:gd name="textAreaRight" fmla="*/ 86040 w 111240"/>
                <a:gd name="textAreaTop" fmla="*/ 23040 h 101520"/>
                <a:gd name="textAreaBottom" fmla="*/ 78480 h 10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06600" y="1906560"/>
              <a:ext cx="111240" cy="101520"/>
            </a:xfrm>
            <a:custGeom>
              <a:avLst/>
              <a:gdLst>
                <a:gd name="textAreaLeft" fmla="*/ 25200 w 111240"/>
                <a:gd name="textAreaRight" fmla="*/ 86040 w 111240"/>
                <a:gd name="textAreaTop" fmla="*/ 23040 h 101520"/>
                <a:gd name="textAreaBottom" fmla="*/ 78480 h 10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06600" y="2065320"/>
              <a:ext cx="111240" cy="101520"/>
            </a:xfrm>
            <a:custGeom>
              <a:avLst/>
              <a:gdLst>
                <a:gd name="textAreaLeft" fmla="*/ 25200 w 111240"/>
                <a:gd name="textAreaRight" fmla="*/ 86040 w 111240"/>
                <a:gd name="textAreaTop" fmla="*/ 23040 h 101520"/>
                <a:gd name="textAreaBottom" fmla="*/ 78480 h 10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3480" y="2103480"/>
              <a:ext cx="112680" cy="101520"/>
            </a:xfrm>
            <a:custGeom>
              <a:avLst/>
              <a:gdLst>
                <a:gd name="textAreaLeft" fmla="*/ 25560 w 112680"/>
                <a:gd name="textAreaRight" fmla="*/ 87120 w 112680"/>
                <a:gd name="textAreaTop" fmla="*/ 23040 h 101520"/>
                <a:gd name="textAreaBottom" fmla="*/ 78480 h 10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238640" y="2251080"/>
              <a:ext cx="109440" cy="101520"/>
            </a:xfrm>
            <a:custGeom>
              <a:avLst/>
              <a:gdLst>
                <a:gd name="textAreaLeft" fmla="*/ 24840 w 109440"/>
                <a:gd name="textAreaRight" fmla="*/ 84600 w 109440"/>
                <a:gd name="textAreaTop" fmla="*/ 23040 h 101520"/>
                <a:gd name="textAreaBottom" fmla="*/ 78480 h 10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70000" y="1600200"/>
              <a:ext cx="111240" cy="101520"/>
            </a:xfrm>
            <a:custGeom>
              <a:avLst/>
              <a:gdLst>
                <a:gd name="textAreaLeft" fmla="*/ 25200 w 111240"/>
                <a:gd name="textAreaRight" fmla="*/ 86040 w 111240"/>
                <a:gd name="textAreaTop" fmla="*/ 23040 h 101520"/>
                <a:gd name="textAreaBottom" fmla="*/ 78480 h 10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22480" y="1677960"/>
              <a:ext cx="108000" cy="103320"/>
            </a:xfrm>
            <a:custGeom>
              <a:avLst/>
              <a:gdLst>
                <a:gd name="textAreaLeft" fmla="*/ 24480 w 108000"/>
                <a:gd name="textAreaRight" fmla="*/ 83520 w 108000"/>
                <a:gd name="textAreaTop" fmla="*/ 23400 h 103320"/>
                <a:gd name="textAreaBottom" fmla="*/ 79920 h 10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2068560" y="1608120"/>
              <a:ext cx="144360" cy="20016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1987560" y="1568160"/>
              <a:ext cx="138240" cy="19980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73320" y="1933560"/>
              <a:ext cx="114120" cy="101520"/>
            </a:xfrm>
            <a:custGeom>
              <a:avLst/>
              <a:gdLst>
                <a:gd name="textAreaLeft" fmla="*/ 25920 w 114120"/>
                <a:gd name="textAreaRight" fmla="*/ 88200 w 114120"/>
                <a:gd name="textAreaTop" fmla="*/ 23040 h 101520"/>
                <a:gd name="textAreaBottom" fmla="*/ 78480 h 10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182680" y="2087640"/>
              <a:ext cx="109800" cy="101520"/>
            </a:xfrm>
            <a:custGeom>
              <a:avLst/>
              <a:gdLst>
                <a:gd name="textAreaLeft" fmla="*/ 24840 w 109800"/>
                <a:gd name="textAreaRight" fmla="*/ 84960 w 109800"/>
                <a:gd name="textAreaTop" fmla="*/ 23040 h 101520"/>
                <a:gd name="textAreaBottom" fmla="*/ 78480 h 10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36680" y="2081160"/>
              <a:ext cx="111240" cy="101520"/>
            </a:xfrm>
            <a:custGeom>
              <a:avLst/>
              <a:gdLst>
                <a:gd name="textAreaLeft" fmla="*/ 25200 w 111240"/>
                <a:gd name="textAreaRight" fmla="*/ 86040 w 111240"/>
                <a:gd name="textAreaTop" fmla="*/ 23040 h 101520"/>
                <a:gd name="textAreaBottom" fmla="*/ 78480 h 10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41680" y="1890720"/>
              <a:ext cx="108000" cy="101520"/>
            </a:xfrm>
            <a:custGeom>
              <a:avLst/>
              <a:gdLst>
                <a:gd name="textAreaLeft" fmla="*/ 24480 w 108000"/>
                <a:gd name="textAreaRight" fmla="*/ 83520 w 108000"/>
                <a:gd name="textAreaTop" fmla="*/ 23040 h 101520"/>
                <a:gd name="textAreaBottom" fmla="*/ 78480 h 10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 flipV="1">
              <a:off x="2650680" y="2168640"/>
              <a:ext cx="523800" cy="47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46440" y="2168640"/>
              <a:ext cx="487440" cy="63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1635120" y="2071800"/>
              <a:ext cx="473040" cy="33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389320" y="1751040"/>
              <a:ext cx="48960" cy="1461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58920" y="1265400"/>
              <a:ext cx="3498840" cy="1438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317960" y="2360520"/>
              <a:ext cx="646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r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302080" y="3222720"/>
            <a:ext cx="4523040" cy="2896200"/>
            <a:chOff x="5302080" y="3222720"/>
            <a:chExt cx="4523040" cy="2896200"/>
          </a:xfrm>
        </p:grpSpPr>
        <p:grpSp>
          <p:nvGrpSpPr>
            <p:cNvPr id="167" name=""/>
            <p:cNvGrpSpPr/>
            <p:nvPr/>
          </p:nvGrpSpPr>
          <p:grpSpPr>
            <a:xfrm>
              <a:off x="5302080" y="3514680"/>
              <a:ext cx="4523040" cy="2297160"/>
              <a:chOff x="5302080" y="3514680"/>
              <a:chExt cx="4523040" cy="229716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5302080" y="3514680"/>
                <a:ext cx="4523040" cy="392040"/>
                <a:chOff x="5302080" y="3514680"/>
                <a:chExt cx="4523040" cy="39204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9629640" y="3521160"/>
                  <a:ext cx="195480" cy="339480"/>
                  <a:chOff x="9629640" y="3521160"/>
                  <a:chExt cx="195480" cy="33948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9725040" y="3521160"/>
                    <a:ext cx="100080" cy="102960"/>
                  </a:xfrm>
                  <a:custGeom>
                    <a:avLst/>
                    <a:gdLst>
                      <a:gd name="textAreaLeft" fmla="*/ 22680 w 100080"/>
                      <a:gd name="textAreaRight" fmla="*/ 77400 w 100080"/>
                      <a:gd name="textAreaTop" fmla="*/ 23400 h 102960"/>
                      <a:gd name="textAreaBottom" fmla="*/ 79560 h 102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9683640" y="3637080"/>
                    <a:ext cx="96840" cy="10296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3400 h 102960"/>
                      <a:gd name="textAreaBottom" fmla="*/ 79560 h 102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9629640" y="3762360"/>
                    <a:ext cx="98640" cy="98280"/>
                  </a:xfrm>
                  <a:custGeom>
                    <a:avLst/>
                    <a:gdLst>
                      <a:gd name="textAreaLeft" fmla="*/ 22320 w 98640"/>
                      <a:gd name="textAreaRight" fmla="*/ 76320 w 98640"/>
                      <a:gd name="textAreaTop" fmla="*/ 22320 h 98280"/>
                      <a:gd name="textAreaBottom" fmla="*/ 75960 h 98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" name=""/>
                <p:cNvGrpSpPr/>
                <p:nvPr/>
              </p:nvGrpSpPr>
              <p:grpSpPr>
                <a:xfrm>
                  <a:off x="9505800" y="3535200"/>
                  <a:ext cx="192240" cy="339840"/>
                  <a:chOff x="9505800" y="3535200"/>
                  <a:chExt cx="192240" cy="33984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>
                    <a:off x="9602640" y="3535200"/>
                    <a:ext cx="95400" cy="103320"/>
                  </a:xfrm>
                  <a:custGeom>
                    <a:avLst/>
                    <a:gdLst>
                      <a:gd name="textAreaLeft" fmla="*/ 21600 w 95400"/>
                      <a:gd name="textAreaRight" fmla="*/ 73800 w 9540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9556920" y="3651120"/>
                    <a:ext cx="96840" cy="10332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9505800" y="3776760"/>
                    <a:ext cx="96840" cy="9828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2320 h 98280"/>
                      <a:gd name="textAreaBottom" fmla="*/ 75960 h 98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7" name=""/>
                <p:cNvSpPr/>
                <p:nvPr/>
              </p:nvSpPr>
              <p:spPr>
                <a:xfrm>
                  <a:off x="9493200" y="3514680"/>
                  <a:ext cx="96840" cy="10332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9447120" y="3630600"/>
                  <a:ext cx="96840" cy="10332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9394920" y="3753000"/>
                  <a:ext cx="98280" cy="102960"/>
                </a:xfrm>
                <a:custGeom>
                  <a:avLst/>
                  <a:gdLst>
                    <a:gd name="textAreaLeft" fmla="*/ 22320 w 98280"/>
                    <a:gd name="textAreaRight" fmla="*/ 75960 w 98280"/>
                    <a:gd name="textAreaTop" fmla="*/ 23400 h 102960"/>
                    <a:gd name="textAreaBottom" fmla="*/ 79560 h 102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" name=""/>
                <p:cNvGrpSpPr/>
                <p:nvPr/>
              </p:nvGrpSpPr>
              <p:grpSpPr>
                <a:xfrm>
                  <a:off x="9285120" y="3548160"/>
                  <a:ext cx="192240" cy="342720"/>
                  <a:chOff x="9285120" y="3548160"/>
                  <a:chExt cx="192240" cy="3427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>
                    <a:off x="9383760" y="3548160"/>
                    <a:ext cx="93600" cy="100080"/>
                  </a:xfrm>
                  <a:custGeom>
                    <a:avLst/>
                    <a:gdLst>
                      <a:gd name="textAreaLeft" fmla="*/ 21240 w 93600"/>
                      <a:gd name="textAreaRight" fmla="*/ 72360 w 93600"/>
                      <a:gd name="textAreaTop" fmla="*/ 22680 h 100080"/>
                      <a:gd name="textAreaBottom" fmla="*/ 77400 h 100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9336240" y="3664080"/>
                    <a:ext cx="96840" cy="10296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3400 h 102960"/>
                      <a:gd name="textAreaBottom" fmla="*/ 79560 h 102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9285120" y="3787920"/>
                    <a:ext cx="96840" cy="10296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3400 h 102960"/>
                      <a:gd name="textAreaBottom" fmla="*/ 79560 h 102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9180360" y="3527280"/>
                  <a:ext cx="196920" cy="343080"/>
                  <a:chOff x="9180360" y="3527280"/>
                  <a:chExt cx="196920" cy="34308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9279000" y="3527280"/>
                    <a:ext cx="98280" cy="104760"/>
                  </a:xfrm>
                  <a:custGeom>
                    <a:avLst/>
                    <a:gdLst>
                      <a:gd name="textAreaLeft" fmla="*/ 22320 w 98280"/>
                      <a:gd name="textAreaRight" fmla="*/ 75960 w 98280"/>
                      <a:gd name="textAreaTop" fmla="*/ 23760 h 104760"/>
                      <a:gd name="textAreaBottom" fmla="*/ 81000 h 1047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9234360" y="3645000"/>
                    <a:ext cx="96840" cy="10296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3400 h 102960"/>
                      <a:gd name="textAreaBottom" fmla="*/ 79560 h 102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9180360" y="3767040"/>
                    <a:ext cx="98640" cy="103320"/>
                  </a:xfrm>
                  <a:custGeom>
                    <a:avLst/>
                    <a:gdLst>
                      <a:gd name="textAreaLeft" fmla="*/ 22320 w 98640"/>
                      <a:gd name="textAreaRight" fmla="*/ 76320 w 9864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9064800" y="3540240"/>
                  <a:ext cx="191880" cy="342720"/>
                  <a:chOff x="9064800" y="3540240"/>
                  <a:chExt cx="191880" cy="34272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9163080" y="3540240"/>
                    <a:ext cx="93600" cy="102960"/>
                  </a:xfrm>
                  <a:custGeom>
                    <a:avLst/>
                    <a:gdLst>
                      <a:gd name="textAreaLeft" fmla="*/ 21240 w 93600"/>
                      <a:gd name="textAreaRight" fmla="*/ 72360 w 93600"/>
                      <a:gd name="textAreaTop" fmla="*/ 23400 h 102960"/>
                      <a:gd name="textAreaBottom" fmla="*/ 79560 h 102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9117000" y="3657600"/>
                    <a:ext cx="96840" cy="10332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9064800" y="3780000"/>
                    <a:ext cx="98280" cy="102960"/>
                  </a:xfrm>
                  <a:custGeom>
                    <a:avLst/>
                    <a:gdLst>
                      <a:gd name="textAreaLeft" fmla="*/ 22320 w 98280"/>
                      <a:gd name="textAreaRight" fmla="*/ 75960 w 98280"/>
                      <a:gd name="textAreaTop" fmla="*/ 23400 h 102960"/>
                      <a:gd name="textAreaBottom" fmla="*/ 79560 h 102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8955000" y="3514680"/>
                  <a:ext cx="195480" cy="341280"/>
                  <a:chOff x="8955000" y="3514680"/>
                  <a:chExt cx="195480" cy="34128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>
                    <a:off x="9053640" y="3514680"/>
                    <a:ext cx="96840" cy="10332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9007560" y="3632040"/>
                    <a:ext cx="96840" cy="9864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2320 h 98640"/>
                      <a:gd name="textAreaBottom" fmla="*/ 76320 h 986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8955000" y="3753000"/>
                    <a:ext cx="96840" cy="10296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3400 h 102960"/>
                      <a:gd name="textAreaBottom" fmla="*/ 79560 h 102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6" name=""/>
                <p:cNvSpPr/>
                <p:nvPr/>
              </p:nvSpPr>
              <p:spPr>
                <a:xfrm>
                  <a:off x="8928000" y="3532320"/>
                  <a:ext cx="92160" cy="102960"/>
                </a:xfrm>
                <a:custGeom>
                  <a:avLst/>
                  <a:gdLst>
                    <a:gd name="textAreaLeft" fmla="*/ 20880 w 92160"/>
                    <a:gd name="textAreaRight" fmla="*/ 71280 w 92160"/>
                    <a:gd name="textAreaTop" fmla="*/ 23400 h 102960"/>
                    <a:gd name="textAreaBottom" fmla="*/ 79560 h 102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8881920" y="3652920"/>
                  <a:ext cx="96840" cy="9828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2320 h 98280"/>
                    <a:gd name="textAreaBottom" fmla="*/ 75960 h 98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8829720" y="3773520"/>
                  <a:ext cx="98280" cy="103320"/>
                </a:xfrm>
                <a:custGeom>
                  <a:avLst/>
                  <a:gdLst>
                    <a:gd name="textAreaLeft" fmla="*/ 22320 w 98280"/>
                    <a:gd name="textAreaRight" fmla="*/ 75960 w 9828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9" name=""/>
                <p:cNvGrpSpPr/>
                <p:nvPr/>
              </p:nvGrpSpPr>
              <p:grpSpPr>
                <a:xfrm>
                  <a:off x="8713800" y="3532320"/>
                  <a:ext cx="190440" cy="344520"/>
                  <a:chOff x="8713800" y="3532320"/>
                  <a:chExt cx="190440" cy="34452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8810640" y="3532320"/>
                    <a:ext cx="93600" cy="102960"/>
                  </a:xfrm>
                  <a:custGeom>
                    <a:avLst/>
                    <a:gdLst>
                      <a:gd name="textAreaLeft" fmla="*/ 21240 w 93600"/>
                      <a:gd name="textAreaRight" fmla="*/ 72360 w 93600"/>
                      <a:gd name="textAreaTop" fmla="*/ 23400 h 102960"/>
                      <a:gd name="textAreaBottom" fmla="*/ 79560 h 102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8764560" y="3652920"/>
                    <a:ext cx="96840" cy="10152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3040 h 101520"/>
                      <a:gd name="textAreaBottom" fmla="*/ 78480 h 101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8713800" y="3773520"/>
                    <a:ext cx="96840" cy="10332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6216480" y="3537000"/>
                  <a:ext cx="195480" cy="339840"/>
                  <a:chOff x="6216480" y="3537000"/>
                  <a:chExt cx="195480" cy="33984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6313320" y="3537000"/>
                    <a:ext cx="98640" cy="102960"/>
                  </a:xfrm>
                  <a:custGeom>
                    <a:avLst/>
                    <a:gdLst>
                      <a:gd name="textAreaLeft" fmla="*/ 22320 w 98640"/>
                      <a:gd name="textAreaRight" fmla="*/ 76320 w 98640"/>
                      <a:gd name="textAreaTop" fmla="*/ 23400 h 102960"/>
                      <a:gd name="textAreaBottom" fmla="*/ 79560 h 102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267600" y="3652920"/>
                    <a:ext cx="93600" cy="98280"/>
                  </a:xfrm>
                  <a:custGeom>
                    <a:avLst/>
                    <a:gdLst>
                      <a:gd name="textAreaLeft" fmla="*/ 21240 w 93600"/>
                      <a:gd name="textAreaRight" fmla="*/ 72360 w 93600"/>
                      <a:gd name="textAreaTop" fmla="*/ 22320 h 98280"/>
                      <a:gd name="textAreaBottom" fmla="*/ 75960 h 98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6216480" y="3773520"/>
                    <a:ext cx="96840" cy="10332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6094440" y="3551400"/>
                  <a:ext cx="195120" cy="341280"/>
                  <a:chOff x="6094440" y="3551400"/>
                  <a:chExt cx="195120" cy="34128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6191280" y="3551400"/>
                    <a:ext cx="98280" cy="102960"/>
                  </a:xfrm>
                  <a:custGeom>
                    <a:avLst/>
                    <a:gdLst>
                      <a:gd name="textAreaLeft" fmla="*/ 22320 w 98280"/>
                      <a:gd name="textAreaRight" fmla="*/ 75960 w 98280"/>
                      <a:gd name="textAreaTop" fmla="*/ 23400 h 102960"/>
                      <a:gd name="textAreaBottom" fmla="*/ 79560 h 102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6145200" y="3668760"/>
                    <a:ext cx="98280" cy="98280"/>
                  </a:xfrm>
                  <a:custGeom>
                    <a:avLst/>
                    <a:gdLst>
                      <a:gd name="textAreaLeft" fmla="*/ 22320 w 98280"/>
                      <a:gd name="textAreaRight" fmla="*/ 75960 w 98280"/>
                      <a:gd name="textAreaTop" fmla="*/ 22320 h 98280"/>
                      <a:gd name="textAreaBottom" fmla="*/ 75960 h 98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6094440" y="3789360"/>
                    <a:ext cx="96840" cy="10332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1" name=""/>
                <p:cNvGrpSpPr/>
                <p:nvPr/>
              </p:nvGrpSpPr>
              <p:grpSpPr>
                <a:xfrm>
                  <a:off x="5985000" y="3530520"/>
                  <a:ext cx="193680" cy="339840"/>
                  <a:chOff x="5985000" y="3530520"/>
                  <a:chExt cx="193680" cy="339840"/>
                </a:xfrm>
              </p:grpSpPr>
              <p:sp>
                <p:nvSpPr>
                  <p:cNvPr id="212" name=""/>
                  <p:cNvSpPr/>
                  <p:nvPr/>
                </p:nvSpPr>
                <p:spPr>
                  <a:xfrm>
                    <a:off x="6081840" y="3530520"/>
                    <a:ext cx="96840" cy="10332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35760" y="3645000"/>
                    <a:ext cx="93600" cy="102960"/>
                  </a:xfrm>
                  <a:custGeom>
                    <a:avLst/>
                    <a:gdLst>
                      <a:gd name="textAreaLeft" fmla="*/ 21240 w 93600"/>
                      <a:gd name="textAreaRight" fmla="*/ 72360 w 93600"/>
                      <a:gd name="textAreaTop" fmla="*/ 23400 h 102960"/>
                      <a:gd name="textAreaBottom" fmla="*/ 79560 h 102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5985000" y="3767040"/>
                    <a:ext cx="93600" cy="103320"/>
                  </a:xfrm>
                  <a:custGeom>
                    <a:avLst/>
                    <a:gdLst>
                      <a:gd name="textAreaLeft" fmla="*/ 21240 w 93600"/>
                      <a:gd name="textAreaRight" fmla="*/ 72360 w 9360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5873760" y="3564000"/>
                  <a:ext cx="195120" cy="342720"/>
                  <a:chOff x="5873760" y="3564000"/>
                  <a:chExt cx="195120" cy="34272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>
                    <a:off x="5972040" y="3564000"/>
                    <a:ext cx="96840" cy="10296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3400 h 102960"/>
                      <a:gd name="textAreaBottom" fmla="*/ 79560 h 102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5925960" y="3679920"/>
                    <a:ext cx="96840" cy="10296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3400 h 102960"/>
                      <a:gd name="textAreaBottom" fmla="*/ 79560 h 102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5873760" y="3803760"/>
                    <a:ext cx="98280" cy="102960"/>
                  </a:xfrm>
                  <a:custGeom>
                    <a:avLst/>
                    <a:gdLst>
                      <a:gd name="textAreaLeft" fmla="*/ 22320 w 98280"/>
                      <a:gd name="textAreaRight" fmla="*/ 75960 w 98280"/>
                      <a:gd name="textAreaTop" fmla="*/ 23400 h 102960"/>
                      <a:gd name="textAreaBottom" fmla="*/ 79560 h 102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9" name=""/>
                <p:cNvGrpSpPr/>
                <p:nvPr/>
              </p:nvGrpSpPr>
              <p:grpSpPr>
                <a:xfrm>
                  <a:off x="5772240" y="3544920"/>
                  <a:ext cx="191880" cy="338040"/>
                  <a:chOff x="5772240" y="3544920"/>
                  <a:chExt cx="191880" cy="33804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5867280" y="3544920"/>
                    <a:ext cx="96840" cy="10332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5823000" y="3660840"/>
                    <a:ext cx="96840" cy="10296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3400 h 102960"/>
                      <a:gd name="textAreaBottom" fmla="*/ 79560 h 102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5772240" y="3784680"/>
                    <a:ext cx="95040" cy="98280"/>
                  </a:xfrm>
                  <a:custGeom>
                    <a:avLst/>
                    <a:gdLst>
                      <a:gd name="textAreaLeft" fmla="*/ 21600 w 95040"/>
                      <a:gd name="textAreaRight" fmla="*/ 73440 w 95040"/>
                      <a:gd name="textAreaTop" fmla="*/ 22320 h 98280"/>
                      <a:gd name="textAreaBottom" fmla="*/ 75960 h 98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5751360" y="3557520"/>
                  <a:ext cx="98640" cy="103320"/>
                </a:xfrm>
                <a:custGeom>
                  <a:avLst/>
                  <a:gdLst>
                    <a:gd name="textAreaLeft" fmla="*/ 22320 w 98640"/>
                    <a:gd name="textAreaRight" fmla="*/ 76320 w 9864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05640" y="3673440"/>
                  <a:ext cx="96840" cy="10332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54520" y="3798720"/>
                  <a:ext cx="96840" cy="9864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2320 h 98640"/>
                    <a:gd name="textAreaBottom" fmla="*/ 76320 h 98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6" name=""/>
                <p:cNvGrpSpPr/>
                <p:nvPr/>
              </p:nvGrpSpPr>
              <p:grpSpPr>
                <a:xfrm>
                  <a:off x="5543640" y="3530520"/>
                  <a:ext cx="195120" cy="339840"/>
                  <a:chOff x="5543640" y="3530520"/>
                  <a:chExt cx="195120" cy="33984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5638680" y="3530520"/>
                    <a:ext cx="100080" cy="103320"/>
                  </a:xfrm>
                  <a:custGeom>
                    <a:avLst/>
                    <a:gdLst>
                      <a:gd name="textAreaLeft" fmla="*/ 22680 w 100080"/>
                      <a:gd name="textAreaRight" fmla="*/ 77400 w 10008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5595840" y="3645000"/>
                    <a:ext cx="93600" cy="102960"/>
                  </a:xfrm>
                  <a:custGeom>
                    <a:avLst/>
                    <a:gdLst>
                      <a:gd name="textAreaLeft" fmla="*/ 21240 w 93600"/>
                      <a:gd name="textAreaRight" fmla="*/ 72360 w 93600"/>
                      <a:gd name="textAreaTop" fmla="*/ 23400 h 102960"/>
                      <a:gd name="textAreaBottom" fmla="*/ 79560 h 102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5543640" y="3767040"/>
                    <a:ext cx="92160" cy="103320"/>
                  </a:xfrm>
                  <a:custGeom>
                    <a:avLst/>
                    <a:gdLst>
                      <a:gd name="textAreaLeft" fmla="*/ 20880 w 92160"/>
                      <a:gd name="textAreaRight" fmla="*/ 71280 w 9216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0" name=""/>
                <p:cNvSpPr/>
                <p:nvPr/>
              </p:nvSpPr>
              <p:spPr>
                <a:xfrm>
                  <a:off x="5516640" y="3551400"/>
                  <a:ext cx="98280" cy="102960"/>
                </a:xfrm>
                <a:custGeom>
                  <a:avLst/>
                  <a:gdLst>
                    <a:gd name="textAreaLeft" fmla="*/ 22320 w 98280"/>
                    <a:gd name="textAreaRight" fmla="*/ 75960 w 98280"/>
                    <a:gd name="textAreaTop" fmla="*/ 23400 h 102960"/>
                    <a:gd name="textAreaBottom" fmla="*/ 79560 h 102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470560" y="3666960"/>
                  <a:ext cx="96840" cy="10332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419800" y="3789360"/>
                  <a:ext cx="96840" cy="10332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3" name=""/>
                <p:cNvGrpSpPr/>
                <p:nvPr/>
              </p:nvGrpSpPr>
              <p:grpSpPr>
                <a:xfrm>
                  <a:off x="5302080" y="3552840"/>
                  <a:ext cx="195480" cy="339840"/>
                  <a:chOff x="5302080" y="3552840"/>
                  <a:chExt cx="195480" cy="33984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>
                    <a:off x="5400720" y="3552840"/>
                    <a:ext cx="96840" cy="9828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2320 h 98280"/>
                      <a:gd name="textAreaBottom" fmla="*/ 75960 h 98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5353200" y="3666960"/>
                    <a:ext cx="98280" cy="103320"/>
                  </a:xfrm>
                  <a:custGeom>
                    <a:avLst/>
                    <a:gdLst>
                      <a:gd name="textAreaLeft" fmla="*/ 22320 w 98280"/>
                      <a:gd name="textAreaRight" fmla="*/ 75960 w 9828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5302080" y="3789360"/>
                    <a:ext cx="96840" cy="10332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7" name=""/>
                <p:cNvSpPr/>
                <p:nvPr/>
              </p:nvSpPr>
              <p:spPr>
                <a:xfrm>
                  <a:off x="6810480" y="3708360"/>
                  <a:ext cx="96840" cy="10332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8582040" y="3652920"/>
                  <a:ext cx="98280" cy="102960"/>
                </a:xfrm>
                <a:custGeom>
                  <a:avLst/>
                  <a:gdLst>
                    <a:gd name="textAreaLeft" fmla="*/ 22320 w 98280"/>
                    <a:gd name="textAreaRight" fmla="*/ 75960 w 98280"/>
                    <a:gd name="textAreaTop" fmla="*/ 23400 h 102960"/>
                    <a:gd name="textAreaBottom" fmla="*/ 79560 h 102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8480520" y="3714840"/>
                  <a:ext cx="96840" cy="10296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2960"/>
                    <a:gd name="textAreaBottom" fmla="*/ 79560 h 102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8672400" y="3578400"/>
                  <a:ext cx="96840" cy="10296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2960"/>
                    <a:gd name="textAreaBottom" fmla="*/ 79560 h 102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8375760" y="3646440"/>
                  <a:ext cx="96840" cy="10332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8272440" y="3683160"/>
                  <a:ext cx="96840" cy="9972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2680 h 99720"/>
                    <a:gd name="textAreaBottom" fmla="*/ 77040 h 9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67680" y="3646440"/>
                  <a:ext cx="96840" cy="10332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8064360" y="3584520"/>
                  <a:ext cx="96840" cy="10332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959600" y="3646440"/>
                  <a:ext cx="96840" cy="10332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856640" y="3693960"/>
                  <a:ext cx="96840" cy="10332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751880" y="3646440"/>
                  <a:ext cx="96840" cy="10332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642080" y="3724200"/>
                  <a:ext cx="96840" cy="9864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2320 h 98640"/>
                    <a:gd name="textAreaBottom" fmla="*/ 76320 h 98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7543800" y="3646440"/>
                  <a:ext cx="96840" cy="10332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439040" y="3592440"/>
                  <a:ext cx="96840" cy="10332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335720" y="3646440"/>
                  <a:ext cx="95400" cy="103320"/>
                </a:xfrm>
                <a:custGeom>
                  <a:avLst/>
                  <a:gdLst>
                    <a:gd name="textAreaLeft" fmla="*/ 21600 w 95400"/>
                    <a:gd name="textAreaRight" fmla="*/ 73800 w 9540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7203960" y="3714840"/>
                  <a:ext cx="96840" cy="10296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2960"/>
                    <a:gd name="textAreaBottom" fmla="*/ 79560 h 102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128000" y="3645000"/>
                  <a:ext cx="93600" cy="102960"/>
                </a:xfrm>
                <a:custGeom>
                  <a:avLst/>
                  <a:gdLst>
                    <a:gd name="textAreaLeft" fmla="*/ 21240 w 93600"/>
                    <a:gd name="textAreaRight" fmla="*/ 72360 w 93600"/>
                    <a:gd name="textAreaTop" fmla="*/ 23400 h 102960"/>
                    <a:gd name="textAreaBottom" fmla="*/ 79560 h 102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7035840" y="3727440"/>
                  <a:ext cx="96840" cy="10332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6919920" y="3645000"/>
                  <a:ext cx="92160" cy="102960"/>
                </a:xfrm>
                <a:custGeom>
                  <a:avLst/>
                  <a:gdLst>
                    <a:gd name="textAreaLeft" fmla="*/ 20880 w 92160"/>
                    <a:gd name="textAreaRight" fmla="*/ 71280 w 92160"/>
                    <a:gd name="textAreaTop" fmla="*/ 23400 h 102960"/>
                    <a:gd name="textAreaBottom" fmla="*/ 79560 h 102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711840" y="3645000"/>
                  <a:ext cx="92160" cy="102960"/>
                </a:xfrm>
                <a:custGeom>
                  <a:avLst/>
                  <a:gdLst>
                    <a:gd name="textAreaLeft" fmla="*/ 20880 w 92160"/>
                    <a:gd name="textAreaRight" fmla="*/ 71280 w 92160"/>
                    <a:gd name="textAreaTop" fmla="*/ 23400 h 102960"/>
                    <a:gd name="textAreaBottom" fmla="*/ 79560 h 102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6607080" y="3727440"/>
                  <a:ext cx="98640" cy="103320"/>
                </a:xfrm>
                <a:custGeom>
                  <a:avLst/>
                  <a:gdLst>
                    <a:gd name="textAreaLeft" fmla="*/ 22320 w 98640"/>
                    <a:gd name="textAreaRight" fmla="*/ 76320 w 9864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504120" y="3645000"/>
                  <a:ext cx="91800" cy="102960"/>
                </a:xfrm>
                <a:custGeom>
                  <a:avLst/>
                  <a:gdLst>
                    <a:gd name="textAreaLeft" fmla="*/ 20880 w 91800"/>
                    <a:gd name="textAreaRight" fmla="*/ 70920 w 91800"/>
                    <a:gd name="textAreaTop" fmla="*/ 23400 h 102960"/>
                    <a:gd name="textAreaBottom" fmla="*/ 79560 h 102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372360" y="3679920"/>
                  <a:ext cx="99720" cy="102960"/>
                </a:xfrm>
                <a:custGeom>
                  <a:avLst/>
                  <a:gdLst>
                    <a:gd name="textAreaLeft" fmla="*/ 22680 w 99720"/>
                    <a:gd name="textAreaRight" fmla="*/ 77040 w 99720"/>
                    <a:gd name="textAreaTop" fmla="*/ 23400 h 102960"/>
                    <a:gd name="textAreaBottom" fmla="*/ 79560 h 102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5302080" y="5419800"/>
                <a:ext cx="4523040" cy="392040"/>
                <a:chOff x="5302080" y="5419800"/>
                <a:chExt cx="4523040" cy="392040"/>
              </a:xfrm>
            </p:grpSpPr>
            <p:grpSp>
              <p:nvGrpSpPr>
                <p:cNvPr id="261" name=""/>
                <p:cNvGrpSpPr/>
                <p:nvPr/>
              </p:nvGrpSpPr>
              <p:grpSpPr>
                <a:xfrm>
                  <a:off x="9629640" y="5425920"/>
                  <a:ext cx="195480" cy="339840"/>
                  <a:chOff x="9629640" y="5425920"/>
                  <a:chExt cx="195480" cy="339840"/>
                </a:xfrm>
              </p:grpSpPr>
              <p:sp>
                <p:nvSpPr>
                  <p:cNvPr id="262" name=""/>
                  <p:cNvSpPr/>
                  <p:nvPr/>
                </p:nvSpPr>
                <p:spPr>
                  <a:xfrm>
                    <a:off x="9725040" y="5425920"/>
                    <a:ext cx="100080" cy="103320"/>
                  </a:xfrm>
                  <a:custGeom>
                    <a:avLst/>
                    <a:gdLst>
                      <a:gd name="textAreaLeft" fmla="*/ 22680 w 100080"/>
                      <a:gd name="textAreaRight" fmla="*/ 77400 w 10008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9683640" y="5541840"/>
                    <a:ext cx="96840" cy="10332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9629640" y="5667480"/>
                    <a:ext cx="98640" cy="98280"/>
                  </a:xfrm>
                  <a:custGeom>
                    <a:avLst/>
                    <a:gdLst>
                      <a:gd name="textAreaLeft" fmla="*/ 22320 w 98640"/>
                      <a:gd name="textAreaRight" fmla="*/ 76320 w 98640"/>
                      <a:gd name="textAreaTop" fmla="*/ 22320 h 98280"/>
                      <a:gd name="textAreaBottom" fmla="*/ 75960 h 98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9505800" y="5440320"/>
                  <a:ext cx="192240" cy="339840"/>
                  <a:chOff x="9505800" y="5440320"/>
                  <a:chExt cx="192240" cy="3398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9602640" y="5440320"/>
                    <a:ext cx="95400" cy="103320"/>
                  </a:xfrm>
                  <a:custGeom>
                    <a:avLst/>
                    <a:gdLst>
                      <a:gd name="textAreaLeft" fmla="*/ 21600 w 95400"/>
                      <a:gd name="textAreaRight" fmla="*/ 73800 w 9540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9556920" y="5556240"/>
                    <a:ext cx="96840" cy="10332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9505800" y="5681520"/>
                    <a:ext cx="96840" cy="9864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2320 h 98640"/>
                      <a:gd name="textAreaBottom" fmla="*/ 76320 h 986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9493200" y="5419800"/>
                  <a:ext cx="96840" cy="10296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2960"/>
                    <a:gd name="textAreaBottom" fmla="*/ 79560 h 102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9447120" y="5535720"/>
                  <a:ext cx="96840" cy="10296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2960"/>
                    <a:gd name="textAreaBottom" fmla="*/ 79560 h 102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9394920" y="5657760"/>
                  <a:ext cx="98280" cy="103320"/>
                </a:xfrm>
                <a:custGeom>
                  <a:avLst/>
                  <a:gdLst>
                    <a:gd name="textAreaLeft" fmla="*/ 22320 w 98280"/>
                    <a:gd name="textAreaRight" fmla="*/ 75960 w 9828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2" name=""/>
                <p:cNvGrpSpPr/>
                <p:nvPr/>
              </p:nvGrpSpPr>
              <p:grpSpPr>
                <a:xfrm>
                  <a:off x="9285120" y="5452920"/>
                  <a:ext cx="192240" cy="343080"/>
                  <a:chOff x="9285120" y="5452920"/>
                  <a:chExt cx="192240" cy="343080"/>
                </a:xfrm>
              </p:grpSpPr>
              <p:sp>
                <p:nvSpPr>
                  <p:cNvPr id="273" name=""/>
                  <p:cNvSpPr/>
                  <p:nvPr/>
                </p:nvSpPr>
                <p:spPr>
                  <a:xfrm>
                    <a:off x="9383760" y="5452920"/>
                    <a:ext cx="93600" cy="100080"/>
                  </a:xfrm>
                  <a:custGeom>
                    <a:avLst/>
                    <a:gdLst>
                      <a:gd name="textAreaLeft" fmla="*/ 21240 w 93600"/>
                      <a:gd name="textAreaRight" fmla="*/ 72360 w 93600"/>
                      <a:gd name="textAreaTop" fmla="*/ 22680 h 100080"/>
                      <a:gd name="textAreaBottom" fmla="*/ 77400 h 100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9336240" y="5568840"/>
                    <a:ext cx="96840" cy="10332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9285120" y="5692680"/>
                    <a:ext cx="96840" cy="10332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6" name=""/>
                <p:cNvGrpSpPr/>
                <p:nvPr/>
              </p:nvGrpSpPr>
              <p:grpSpPr>
                <a:xfrm>
                  <a:off x="9180360" y="5432400"/>
                  <a:ext cx="196920" cy="343080"/>
                  <a:chOff x="9180360" y="5432400"/>
                  <a:chExt cx="196920" cy="34308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9279000" y="5432400"/>
                    <a:ext cx="98280" cy="104760"/>
                  </a:xfrm>
                  <a:custGeom>
                    <a:avLst/>
                    <a:gdLst>
                      <a:gd name="textAreaLeft" fmla="*/ 22320 w 98280"/>
                      <a:gd name="textAreaRight" fmla="*/ 75960 w 98280"/>
                      <a:gd name="textAreaTop" fmla="*/ 23760 h 104760"/>
                      <a:gd name="textAreaBottom" fmla="*/ 81000 h 1047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9234360" y="5549760"/>
                    <a:ext cx="96840" cy="10332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9180360" y="5672160"/>
                    <a:ext cx="98640" cy="103320"/>
                  </a:xfrm>
                  <a:custGeom>
                    <a:avLst/>
                    <a:gdLst>
                      <a:gd name="textAreaLeft" fmla="*/ 22320 w 98640"/>
                      <a:gd name="textAreaRight" fmla="*/ 76320 w 9864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9064800" y="5445000"/>
                  <a:ext cx="191880" cy="343080"/>
                  <a:chOff x="9064800" y="5445000"/>
                  <a:chExt cx="191880" cy="34308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9163080" y="5445000"/>
                    <a:ext cx="93600" cy="103320"/>
                  </a:xfrm>
                  <a:custGeom>
                    <a:avLst/>
                    <a:gdLst>
                      <a:gd name="textAreaLeft" fmla="*/ 21240 w 93600"/>
                      <a:gd name="textAreaRight" fmla="*/ 72360 w 9360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9117000" y="5562720"/>
                    <a:ext cx="96840" cy="10296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3400 h 102960"/>
                      <a:gd name="textAreaBottom" fmla="*/ 79560 h 102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9064800" y="5684760"/>
                    <a:ext cx="98280" cy="103320"/>
                  </a:xfrm>
                  <a:custGeom>
                    <a:avLst/>
                    <a:gdLst>
                      <a:gd name="textAreaLeft" fmla="*/ 22320 w 98280"/>
                      <a:gd name="textAreaRight" fmla="*/ 75960 w 9828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4" name=""/>
                <p:cNvGrpSpPr/>
                <p:nvPr/>
              </p:nvGrpSpPr>
              <p:grpSpPr>
                <a:xfrm>
                  <a:off x="8955000" y="5419800"/>
                  <a:ext cx="195480" cy="341280"/>
                  <a:chOff x="8955000" y="5419800"/>
                  <a:chExt cx="195480" cy="34128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>
                    <a:off x="9053640" y="5419800"/>
                    <a:ext cx="96840" cy="10296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3400 h 102960"/>
                      <a:gd name="textAreaBottom" fmla="*/ 79560 h 102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9007560" y="5537160"/>
                    <a:ext cx="96840" cy="9864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2320 h 98640"/>
                      <a:gd name="textAreaBottom" fmla="*/ 76320 h 986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8955000" y="5657760"/>
                    <a:ext cx="96840" cy="10332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8829720" y="5437080"/>
                  <a:ext cx="190440" cy="344520"/>
                  <a:chOff x="8829720" y="5437080"/>
                  <a:chExt cx="190440" cy="34452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>
                    <a:off x="8928000" y="5437080"/>
                    <a:ext cx="92160" cy="103320"/>
                  </a:xfrm>
                  <a:custGeom>
                    <a:avLst/>
                    <a:gdLst>
                      <a:gd name="textAreaLeft" fmla="*/ 20880 w 92160"/>
                      <a:gd name="textAreaRight" fmla="*/ 71280 w 9216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881920" y="5557680"/>
                    <a:ext cx="96840" cy="9864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2320 h 98640"/>
                      <a:gd name="textAreaBottom" fmla="*/ 76320 h 986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8829720" y="5678640"/>
                    <a:ext cx="98280" cy="102960"/>
                  </a:xfrm>
                  <a:custGeom>
                    <a:avLst/>
                    <a:gdLst>
                      <a:gd name="textAreaLeft" fmla="*/ 22320 w 98280"/>
                      <a:gd name="textAreaRight" fmla="*/ 75960 w 98280"/>
                      <a:gd name="textAreaTop" fmla="*/ 23400 h 102960"/>
                      <a:gd name="textAreaBottom" fmla="*/ 79560 h 102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2" name=""/>
                <p:cNvGrpSpPr/>
                <p:nvPr/>
              </p:nvGrpSpPr>
              <p:grpSpPr>
                <a:xfrm>
                  <a:off x="8713800" y="5437080"/>
                  <a:ext cx="190440" cy="344520"/>
                  <a:chOff x="8713800" y="5437080"/>
                  <a:chExt cx="190440" cy="344520"/>
                </a:xfrm>
              </p:grpSpPr>
              <p:sp>
                <p:nvSpPr>
                  <p:cNvPr id="293" name=""/>
                  <p:cNvSpPr/>
                  <p:nvPr/>
                </p:nvSpPr>
                <p:spPr>
                  <a:xfrm>
                    <a:off x="8810640" y="5437080"/>
                    <a:ext cx="93600" cy="103320"/>
                  </a:xfrm>
                  <a:custGeom>
                    <a:avLst/>
                    <a:gdLst>
                      <a:gd name="textAreaLeft" fmla="*/ 21240 w 93600"/>
                      <a:gd name="textAreaRight" fmla="*/ 72360 w 9360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8764560" y="5557680"/>
                    <a:ext cx="96840" cy="10188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3040 h 101880"/>
                      <a:gd name="textAreaBottom" fmla="*/ 78840 h 101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8713800" y="5678640"/>
                    <a:ext cx="96840" cy="10296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3400 h 102960"/>
                      <a:gd name="textAreaBottom" fmla="*/ 79560 h 102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6" name=""/>
                <p:cNvGrpSpPr/>
                <p:nvPr/>
              </p:nvGrpSpPr>
              <p:grpSpPr>
                <a:xfrm>
                  <a:off x="6216480" y="5442120"/>
                  <a:ext cx="195480" cy="339480"/>
                  <a:chOff x="6216480" y="5442120"/>
                  <a:chExt cx="195480" cy="33948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>
                    <a:off x="6313320" y="5442120"/>
                    <a:ext cx="98640" cy="102960"/>
                  </a:xfrm>
                  <a:custGeom>
                    <a:avLst/>
                    <a:gdLst>
                      <a:gd name="textAreaLeft" fmla="*/ 22320 w 98640"/>
                      <a:gd name="textAreaRight" fmla="*/ 76320 w 98640"/>
                      <a:gd name="textAreaTop" fmla="*/ 23400 h 102960"/>
                      <a:gd name="textAreaBottom" fmla="*/ 79560 h 102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6267600" y="5557680"/>
                    <a:ext cx="93600" cy="98640"/>
                  </a:xfrm>
                  <a:custGeom>
                    <a:avLst/>
                    <a:gdLst>
                      <a:gd name="textAreaLeft" fmla="*/ 21240 w 93600"/>
                      <a:gd name="textAreaRight" fmla="*/ 72360 w 93600"/>
                      <a:gd name="textAreaTop" fmla="*/ 22320 h 98640"/>
                      <a:gd name="textAreaBottom" fmla="*/ 76320 h 986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6216480" y="5678640"/>
                    <a:ext cx="96840" cy="10296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3400 h 102960"/>
                      <a:gd name="textAreaBottom" fmla="*/ 79560 h 102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0" name=""/>
                <p:cNvGrpSpPr/>
                <p:nvPr/>
              </p:nvGrpSpPr>
              <p:grpSpPr>
                <a:xfrm>
                  <a:off x="6094440" y="5456160"/>
                  <a:ext cx="195120" cy="341280"/>
                  <a:chOff x="6094440" y="5456160"/>
                  <a:chExt cx="195120" cy="34128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>
                    <a:off x="6191280" y="5456160"/>
                    <a:ext cx="98280" cy="103320"/>
                  </a:xfrm>
                  <a:custGeom>
                    <a:avLst/>
                    <a:gdLst>
                      <a:gd name="textAreaLeft" fmla="*/ 22320 w 98280"/>
                      <a:gd name="textAreaRight" fmla="*/ 75960 w 9828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6145200" y="5573880"/>
                    <a:ext cx="98280" cy="98280"/>
                  </a:xfrm>
                  <a:custGeom>
                    <a:avLst/>
                    <a:gdLst>
                      <a:gd name="textAreaLeft" fmla="*/ 22320 w 98280"/>
                      <a:gd name="textAreaRight" fmla="*/ 75960 w 98280"/>
                      <a:gd name="textAreaTop" fmla="*/ 22320 h 98280"/>
                      <a:gd name="textAreaBottom" fmla="*/ 75960 h 98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6094440" y="5694480"/>
                    <a:ext cx="96840" cy="10296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3400 h 102960"/>
                      <a:gd name="textAreaBottom" fmla="*/ 79560 h 102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4" name=""/>
                <p:cNvSpPr/>
                <p:nvPr/>
              </p:nvSpPr>
              <p:spPr>
                <a:xfrm>
                  <a:off x="6081840" y="5435640"/>
                  <a:ext cx="96840" cy="10332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035760" y="5549760"/>
                  <a:ext cx="93600" cy="103320"/>
                </a:xfrm>
                <a:custGeom>
                  <a:avLst/>
                  <a:gdLst>
                    <a:gd name="textAreaLeft" fmla="*/ 21240 w 93600"/>
                    <a:gd name="textAreaRight" fmla="*/ 72360 w 9360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985000" y="5672160"/>
                  <a:ext cx="93600" cy="103320"/>
                </a:xfrm>
                <a:custGeom>
                  <a:avLst/>
                  <a:gdLst>
                    <a:gd name="textAreaLeft" fmla="*/ 21240 w 93600"/>
                    <a:gd name="textAreaRight" fmla="*/ 72360 w 9360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7" name=""/>
                <p:cNvGrpSpPr/>
                <p:nvPr/>
              </p:nvGrpSpPr>
              <p:grpSpPr>
                <a:xfrm>
                  <a:off x="5873760" y="5468760"/>
                  <a:ext cx="195120" cy="343080"/>
                  <a:chOff x="5873760" y="5468760"/>
                  <a:chExt cx="195120" cy="34308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>
                    <a:off x="5972040" y="5468760"/>
                    <a:ext cx="96840" cy="10332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5925960" y="5584680"/>
                    <a:ext cx="96840" cy="10332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5873760" y="5708520"/>
                    <a:ext cx="98280" cy="103320"/>
                  </a:xfrm>
                  <a:custGeom>
                    <a:avLst/>
                    <a:gdLst>
                      <a:gd name="textAreaLeft" fmla="*/ 22320 w 98280"/>
                      <a:gd name="textAreaRight" fmla="*/ 75960 w 9828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5772240" y="5450040"/>
                  <a:ext cx="191880" cy="338040"/>
                  <a:chOff x="5772240" y="5450040"/>
                  <a:chExt cx="191880" cy="33804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>
                    <a:off x="5867280" y="5450040"/>
                    <a:ext cx="96840" cy="10296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3400 h 102960"/>
                      <a:gd name="textAreaBottom" fmla="*/ 79560 h 102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823000" y="5565600"/>
                    <a:ext cx="96840" cy="10332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5772240" y="5689440"/>
                    <a:ext cx="95040" cy="98640"/>
                  </a:xfrm>
                  <a:custGeom>
                    <a:avLst/>
                    <a:gdLst>
                      <a:gd name="textAreaLeft" fmla="*/ 21600 w 95040"/>
                      <a:gd name="textAreaRight" fmla="*/ 73440 w 95040"/>
                      <a:gd name="textAreaTop" fmla="*/ 22320 h 98640"/>
                      <a:gd name="textAreaBottom" fmla="*/ 76320 h 986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5" name=""/>
                <p:cNvSpPr/>
                <p:nvPr/>
              </p:nvSpPr>
              <p:spPr>
                <a:xfrm>
                  <a:off x="5751360" y="5462640"/>
                  <a:ext cx="98640" cy="102960"/>
                </a:xfrm>
                <a:custGeom>
                  <a:avLst/>
                  <a:gdLst>
                    <a:gd name="textAreaLeft" fmla="*/ 22320 w 98640"/>
                    <a:gd name="textAreaRight" fmla="*/ 76320 w 98640"/>
                    <a:gd name="textAreaTop" fmla="*/ 23400 h 102960"/>
                    <a:gd name="textAreaBottom" fmla="*/ 79560 h 102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705640" y="5578560"/>
                  <a:ext cx="96840" cy="10296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2960"/>
                    <a:gd name="textAreaBottom" fmla="*/ 79560 h 102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654520" y="5703840"/>
                  <a:ext cx="96840" cy="9864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2320 h 98640"/>
                    <a:gd name="textAreaBottom" fmla="*/ 76320 h 98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8" name=""/>
                <p:cNvGrpSpPr/>
                <p:nvPr/>
              </p:nvGrpSpPr>
              <p:grpSpPr>
                <a:xfrm>
                  <a:off x="5543640" y="5435640"/>
                  <a:ext cx="195120" cy="339840"/>
                  <a:chOff x="5543640" y="5435640"/>
                  <a:chExt cx="195120" cy="33984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>
                    <a:off x="5638680" y="5435640"/>
                    <a:ext cx="100080" cy="103320"/>
                  </a:xfrm>
                  <a:custGeom>
                    <a:avLst/>
                    <a:gdLst>
                      <a:gd name="textAreaLeft" fmla="*/ 22680 w 100080"/>
                      <a:gd name="textAreaRight" fmla="*/ 77400 w 10008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5595840" y="5549760"/>
                    <a:ext cx="93600" cy="103320"/>
                  </a:xfrm>
                  <a:custGeom>
                    <a:avLst/>
                    <a:gdLst>
                      <a:gd name="textAreaLeft" fmla="*/ 21240 w 93600"/>
                      <a:gd name="textAreaRight" fmla="*/ 72360 w 9360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5543640" y="5672160"/>
                    <a:ext cx="92160" cy="103320"/>
                  </a:xfrm>
                  <a:custGeom>
                    <a:avLst/>
                    <a:gdLst>
                      <a:gd name="textAreaLeft" fmla="*/ 20880 w 92160"/>
                      <a:gd name="textAreaRight" fmla="*/ 71280 w 9216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2" name=""/>
                <p:cNvGrpSpPr/>
                <p:nvPr/>
              </p:nvGrpSpPr>
              <p:grpSpPr>
                <a:xfrm>
                  <a:off x="5419800" y="5456160"/>
                  <a:ext cx="195120" cy="341280"/>
                  <a:chOff x="5419800" y="5456160"/>
                  <a:chExt cx="195120" cy="341280"/>
                </a:xfrm>
              </p:grpSpPr>
              <p:sp>
                <p:nvSpPr>
                  <p:cNvPr id="323" name=""/>
                  <p:cNvSpPr/>
                  <p:nvPr/>
                </p:nvSpPr>
                <p:spPr>
                  <a:xfrm>
                    <a:off x="5516640" y="5456160"/>
                    <a:ext cx="98280" cy="103320"/>
                  </a:xfrm>
                  <a:custGeom>
                    <a:avLst/>
                    <a:gdLst>
                      <a:gd name="textAreaLeft" fmla="*/ 22320 w 98280"/>
                      <a:gd name="textAreaRight" fmla="*/ 75960 w 9828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5470560" y="5572080"/>
                    <a:ext cx="96840" cy="10332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5419800" y="5694480"/>
                    <a:ext cx="96840" cy="10296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3400 h 102960"/>
                      <a:gd name="textAreaBottom" fmla="*/ 79560 h 102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6" name=""/>
                <p:cNvGrpSpPr/>
                <p:nvPr/>
              </p:nvGrpSpPr>
              <p:grpSpPr>
                <a:xfrm>
                  <a:off x="5302080" y="5457960"/>
                  <a:ext cx="195480" cy="339480"/>
                  <a:chOff x="5302080" y="5457960"/>
                  <a:chExt cx="195480" cy="33948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>
                    <a:off x="5400720" y="5457960"/>
                    <a:ext cx="96840" cy="9828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2320 h 98280"/>
                      <a:gd name="textAreaBottom" fmla="*/ 75960 h 98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5353200" y="5572080"/>
                    <a:ext cx="98280" cy="103320"/>
                  </a:xfrm>
                  <a:custGeom>
                    <a:avLst/>
                    <a:gdLst>
                      <a:gd name="textAreaLeft" fmla="*/ 22320 w 98280"/>
                      <a:gd name="textAreaRight" fmla="*/ 75960 w 9828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302080" y="5694480"/>
                    <a:ext cx="96840" cy="10296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3400 h 102960"/>
                      <a:gd name="textAreaBottom" fmla="*/ 79560 h 102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0" name=""/>
                <p:cNvSpPr/>
                <p:nvPr/>
              </p:nvSpPr>
              <p:spPr>
                <a:xfrm>
                  <a:off x="6810480" y="5613480"/>
                  <a:ext cx="96840" cy="10296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2960"/>
                    <a:gd name="textAreaBottom" fmla="*/ 79560 h 102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8582040" y="5557680"/>
                  <a:ext cx="98280" cy="103320"/>
                </a:xfrm>
                <a:custGeom>
                  <a:avLst/>
                  <a:gdLst>
                    <a:gd name="textAreaLeft" fmla="*/ 22320 w 98280"/>
                    <a:gd name="textAreaRight" fmla="*/ 75960 w 9828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8480520" y="5619600"/>
                  <a:ext cx="96840" cy="10332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8672400" y="5483160"/>
                  <a:ext cx="96840" cy="10332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8375760" y="5551560"/>
                  <a:ext cx="96840" cy="10296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2960"/>
                    <a:gd name="textAreaBottom" fmla="*/ 79560 h 102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8272440" y="5587920"/>
                  <a:ext cx="96840" cy="10008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2680 h 100080"/>
                    <a:gd name="textAreaBottom" fmla="*/ 77400 h 100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920" bIns="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8167680" y="5551560"/>
                  <a:ext cx="96840" cy="10296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2960"/>
                    <a:gd name="textAreaBottom" fmla="*/ 79560 h 102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8064360" y="5489640"/>
                  <a:ext cx="96840" cy="10296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2960"/>
                    <a:gd name="textAreaBottom" fmla="*/ 79560 h 102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959600" y="5551560"/>
                  <a:ext cx="96840" cy="10296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2960"/>
                    <a:gd name="textAreaBottom" fmla="*/ 79560 h 102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7856640" y="5599080"/>
                  <a:ext cx="96840" cy="10332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7751880" y="5551560"/>
                  <a:ext cx="96840" cy="10296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2960"/>
                    <a:gd name="textAreaBottom" fmla="*/ 79560 h 102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7642080" y="5629320"/>
                  <a:ext cx="96840" cy="9828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2320 h 98280"/>
                    <a:gd name="textAreaBottom" fmla="*/ 75960 h 98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7543800" y="5551560"/>
                  <a:ext cx="96840" cy="10296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2960"/>
                    <a:gd name="textAreaBottom" fmla="*/ 79560 h 102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7439040" y="5497560"/>
                  <a:ext cx="96840" cy="10332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7335720" y="5551560"/>
                  <a:ext cx="95400" cy="102960"/>
                </a:xfrm>
                <a:custGeom>
                  <a:avLst/>
                  <a:gdLst>
                    <a:gd name="textAreaLeft" fmla="*/ 21600 w 95400"/>
                    <a:gd name="textAreaRight" fmla="*/ 73800 w 95400"/>
                    <a:gd name="textAreaTop" fmla="*/ 23400 h 102960"/>
                    <a:gd name="textAreaBottom" fmla="*/ 79560 h 102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7203960" y="5619600"/>
                  <a:ext cx="96840" cy="10332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7128000" y="5549760"/>
                  <a:ext cx="93600" cy="103320"/>
                </a:xfrm>
                <a:custGeom>
                  <a:avLst/>
                  <a:gdLst>
                    <a:gd name="textAreaLeft" fmla="*/ 21240 w 93600"/>
                    <a:gd name="textAreaRight" fmla="*/ 72360 w 9360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7035840" y="5632560"/>
                  <a:ext cx="96840" cy="10296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2960"/>
                    <a:gd name="textAreaBottom" fmla="*/ 79560 h 102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919920" y="5549760"/>
                  <a:ext cx="92160" cy="103320"/>
                </a:xfrm>
                <a:custGeom>
                  <a:avLst/>
                  <a:gdLst>
                    <a:gd name="textAreaLeft" fmla="*/ 20880 w 92160"/>
                    <a:gd name="textAreaRight" fmla="*/ 71280 w 9216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711840" y="5549760"/>
                  <a:ext cx="92160" cy="103320"/>
                </a:xfrm>
                <a:custGeom>
                  <a:avLst/>
                  <a:gdLst>
                    <a:gd name="textAreaLeft" fmla="*/ 20880 w 92160"/>
                    <a:gd name="textAreaRight" fmla="*/ 71280 w 9216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607080" y="5632560"/>
                  <a:ext cx="98640" cy="102960"/>
                </a:xfrm>
                <a:custGeom>
                  <a:avLst/>
                  <a:gdLst>
                    <a:gd name="textAreaLeft" fmla="*/ 22320 w 98640"/>
                    <a:gd name="textAreaRight" fmla="*/ 76320 w 98640"/>
                    <a:gd name="textAreaTop" fmla="*/ 23400 h 102960"/>
                    <a:gd name="textAreaBottom" fmla="*/ 79560 h 102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504120" y="5549760"/>
                  <a:ext cx="91800" cy="103320"/>
                </a:xfrm>
                <a:custGeom>
                  <a:avLst/>
                  <a:gdLst>
                    <a:gd name="textAreaLeft" fmla="*/ 20880 w 91800"/>
                    <a:gd name="textAreaRight" fmla="*/ 70920 w 9180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372360" y="5584680"/>
                  <a:ext cx="99720" cy="103320"/>
                </a:xfrm>
                <a:custGeom>
                  <a:avLst/>
                  <a:gdLst>
                    <a:gd name="textAreaLeft" fmla="*/ 22680 w 99720"/>
                    <a:gd name="textAreaRight" fmla="*/ 77040 w 9972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3" name=""/>
              <p:cNvSpPr/>
              <p:nvPr/>
            </p:nvSpPr>
            <p:spPr>
              <a:xfrm rot="19800000">
                <a:off x="5772240" y="4254120"/>
                <a:ext cx="1365120" cy="190440"/>
              </a:xfrm>
              <a:prstGeom prst="rightArrow">
                <a:avLst>
                  <a:gd name="adj1" fmla="val 50000"/>
                  <a:gd name="adj2" fmla="val 358445"/>
                </a:avLst>
              </a:prstGeom>
              <a:solidFill>
                <a:srgbClr val="3333cc"/>
              </a:solidFill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1800000">
                <a:off x="5759280" y="5022720"/>
                <a:ext cx="1365480" cy="190800"/>
              </a:xfrm>
              <a:prstGeom prst="rightArrow">
                <a:avLst>
                  <a:gd name="adj1" fmla="val 50000"/>
                  <a:gd name="adj2" fmla="val 357863"/>
                </a:avLst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917400" y="3989520"/>
                <a:ext cx="13294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cc"/>
                    </a:solidFill>
                    <a:latin typeface="Arial"/>
                  </a:rPr>
                  <a:t>in S phas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764400" y="4979880"/>
                <a:ext cx="18766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69696"/>
                    </a:solidFill>
                    <a:latin typeface="Arial"/>
                  </a:rPr>
                  <a:t>NOT in S phas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5430600" y="5813280"/>
              <a:ext cx="4242240" cy="305640"/>
              <a:chOff x="5430600" y="5813280"/>
              <a:chExt cx="4242240" cy="305640"/>
            </a:xfrm>
          </p:grpSpPr>
          <p:sp>
            <p:nvSpPr>
              <p:cNvPr id="358" name=""/>
              <p:cNvSpPr/>
              <p:nvPr/>
            </p:nvSpPr>
            <p:spPr>
              <a:xfrm>
                <a:off x="5430600" y="5813280"/>
                <a:ext cx="8132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c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o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8859600" y="5813280"/>
                <a:ext cx="8132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c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o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031880" y="5813280"/>
                <a:ext cx="960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c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HIG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5430600" y="3222720"/>
              <a:ext cx="4242240" cy="305640"/>
              <a:chOff x="5430600" y="3222720"/>
              <a:chExt cx="4242240" cy="305640"/>
            </a:xfrm>
          </p:grpSpPr>
          <p:sp>
            <p:nvSpPr>
              <p:cNvPr id="362" name=""/>
              <p:cNvSpPr/>
              <p:nvPr/>
            </p:nvSpPr>
            <p:spPr>
              <a:xfrm>
                <a:off x="5430600" y="3222720"/>
                <a:ext cx="8132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c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o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8859600" y="3222720"/>
                <a:ext cx="8132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c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o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031880" y="3222720"/>
                <a:ext cx="960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c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HIG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5" name=""/>
          <p:cNvGrpSpPr/>
          <p:nvPr/>
        </p:nvGrpSpPr>
        <p:grpSpPr>
          <a:xfrm>
            <a:off x="425520" y="2841480"/>
            <a:ext cx="4522680" cy="684360"/>
            <a:chOff x="425520" y="2841480"/>
            <a:chExt cx="4522680" cy="684360"/>
          </a:xfrm>
        </p:grpSpPr>
        <p:grpSp>
          <p:nvGrpSpPr>
            <p:cNvPr id="366" name=""/>
            <p:cNvGrpSpPr/>
            <p:nvPr/>
          </p:nvGrpSpPr>
          <p:grpSpPr>
            <a:xfrm>
              <a:off x="425520" y="3133800"/>
              <a:ext cx="4522680" cy="392040"/>
              <a:chOff x="425520" y="3133800"/>
              <a:chExt cx="4522680" cy="392040"/>
            </a:xfrm>
          </p:grpSpPr>
          <p:grpSp>
            <p:nvGrpSpPr>
              <p:cNvPr id="367" name=""/>
              <p:cNvGrpSpPr/>
              <p:nvPr/>
            </p:nvGrpSpPr>
            <p:grpSpPr>
              <a:xfrm>
                <a:off x="4753080" y="3139920"/>
                <a:ext cx="195120" cy="339840"/>
                <a:chOff x="4753080" y="3139920"/>
                <a:chExt cx="195120" cy="33984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4848120" y="3139920"/>
                  <a:ext cx="100080" cy="103320"/>
                </a:xfrm>
                <a:custGeom>
                  <a:avLst/>
                  <a:gdLst>
                    <a:gd name="textAreaLeft" fmla="*/ 22680 w 100080"/>
                    <a:gd name="textAreaRight" fmla="*/ 77400 w 10008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4807080" y="3255840"/>
                  <a:ext cx="96840" cy="10332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4753080" y="3381480"/>
                  <a:ext cx="98280" cy="98280"/>
                </a:xfrm>
                <a:custGeom>
                  <a:avLst/>
                  <a:gdLst>
                    <a:gd name="textAreaLeft" fmla="*/ 22320 w 98280"/>
                    <a:gd name="textAreaRight" fmla="*/ 75960 w 98280"/>
                    <a:gd name="textAreaTop" fmla="*/ 22320 h 98280"/>
                    <a:gd name="textAreaBottom" fmla="*/ 75960 h 98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4629240" y="3154320"/>
                <a:ext cx="191880" cy="339840"/>
                <a:chOff x="4629240" y="3154320"/>
                <a:chExt cx="191880" cy="33984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4726080" y="3154320"/>
                  <a:ext cx="95040" cy="103320"/>
                </a:xfrm>
                <a:custGeom>
                  <a:avLst/>
                  <a:gdLst>
                    <a:gd name="textAreaLeft" fmla="*/ 21600 w 95040"/>
                    <a:gd name="textAreaRight" fmla="*/ 73440 w 9504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680000" y="3270240"/>
                  <a:ext cx="96840" cy="10332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4629240" y="3395520"/>
                  <a:ext cx="96840" cy="9864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2320 h 98640"/>
                    <a:gd name="textAreaBottom" fmla="*/ 76320 h 98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5" name=""/>
              <p:cNvSpPr/>
              <p:nvPr/>
            </p:nvSpPr>
            <p:spPr>
              <a:xfrm>
                <a:off x="4616280" y="3133800"/>
                <a:ext cx="96840" cy="102960"/>
              </a:xfrm>
              <a:custGeom>
                <a:avLst/>
                <a:gdLst>
                  <a:gd name="textAreaLeft" fmla="*/ 21960 w 96840"/>
                  <a:gd name="textAreaRight" fmla="*/ 74880 w 96840"/>
                  <a:gd name="textAreaTop" fmla="*/ 23400 h 102960"/>
                  <a:gd name="textAreaBottom" fmla="*/ 79560 h 102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570560" y="3249720"/>
                <a:ext cx="96840" cy="102960"/>
              </a:xfrm>
              <a:custGeom>
                <a:avLst/>
                <a:gdLst>
                  <a:gd name="textAreaLeft" fmla="*/ 21960 w 96840"/>
                  <a:gd name="textAreaRight" fmla="*/ 74880 w 96840"/>
                  <a:gd name="textAreaTop" fmla="*/ 23400 h 102960"/>
                  <a:gd name="textAreaBottom" fmla="*/ 79560 h 102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518000" y="3371760"/>
                <a:ext cx="98280" cy="103320"/>
              </a:xfrm>
              <a:custGeom>
                <a:avLst/>
                <a:gdLst>
                  <a:gd name="textAreaLeft" fmla="*/ 22320 w 98280"/>
                  <a:gd name="textAreaRight" fmla="*/ 75960 w 98280"/>
                  <a:gd name="textAreaTop" fmla="*/ 23400 h 103320"/>
                  <a:gd name="textAreaBottom" fmla="*/ 79920 h 103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8" name=""/>
              <p:cNvGrpSpPr/>
              <p:nvPr/>
            </p:nvGrpSpPr>
            <p:grpSpPr>
              <a:xfrm>
                <a:off x="4408560" y="3166920"/>
                <a:ext cx="191880" cy="343080"/>
                <a:chOff x="4408560" y="3166920"/>
                <a:chExt cx="191880" cy="34308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4506840" y="3166920"/>
                  <a:ext cx="93600" cy="100080"/>
                </a:xfrm>
                <a:custGeom>
                  <a:avLst/>
                  <a:gdLst>
                    <a:gd name="textAreaLeft" fmla="*/ 21240 w 93600"/>
                    <a:gd name="textAreaRight" fmla="*/ 72360 w 93600"/>
                    <a:gd name="textAreaTop" fmla="*/ 22680 h 100080"/>
                    <a:gd name="textAreaBottom" fmla="*/ 77400 h 100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920" bIns="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4459320" y="3282840"/>
                  <a:ext cx="96840" cy="10332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408560" y="3406680"/>
                  <a:ext cx="96840" cy="10332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4303800" y="3146400"/>
                <a:ext cx="196920" cy="343080"/>
                <a:chOff x="4303800" y="3146400"/>
                <a:chExt cx="196920" cy="34308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4402080" y="3146400"/>
                  <a:ext cx="98640" cy="104760"/>
                </a:xfrm>
                <a:custGeom>
                  <a:avLst/>
                  <a:gdLst>
                    <a:gd name="textAreaLeft" fmla="*/ 22320 w 98640"/>
                    <a:gd name="textAreaRight" fmla="*/ 76320 w 98640"/>
                    <a:gd name="textAreaTop" fmla="*/ 23760 h 104760"/>
                    <a:gd name="textAreaBottom" fmla="*/ 81000 h 104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4357800" y="3263760"/>
                  <a:ext cx="96840" cy="10332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4303800" y="3386160"/>
                  <a:ext cx="98280" cy="103320"/>
                </a:xfrm>
                <a:custGeom>
                  <a:avLst/>
                  <a:gdLst>
                    <a:gd name="textAreaLeft" fmla="*/ 22320 w 98280"/>
                    <a:gd name="textAreaRight" fmla="*/ 75960 w 9828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4187880" y="3159000"/>
                <a:ext cx="191880" cy="343080"/>
                <a:chOff x="4187880" y="3159000"/>
                <a:chExt cx="191880" cy="34308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4286160" y="3159000"/>
                  <a:ext cx="93600" cy="103320"/>
                </a:xfrm>
                <a:custGeom>
                  <a:avLst/>
                  <a:gdLst>
                    <a:gd name="textAreaLeft" fmla="*/ 21240 w 93600"/>
                    <a:gd name="textAreaRight" fmla="*/ 72360 w 9360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240080" y="3276720"/>
                  <a:ext cx="96840" cy="10296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2960"/>
                    <a:gd name="textAreaBottom" fmla="*/ 79560 h 102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4187880" y="3398760"/>
                  <a:ext cx="98280" cy="103320"/>
                </a:xfrm>
                <a:custGeom>
                  <a:avLst/>
                  <a:gdLst>
                    <a:gd name="textAreaLeft" fmla="*/ 22320 w 98280"/>
                    <a:gd name="textAreaRight" fmla="*/ 75960 w 9828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4078440" y="3133800"/>
                <a:ext cx="195120" cy="341280"/>
                <a:chOff x="4078440" y="3133800"/>
                <a:chExt cx="195120" cy="34128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4176720" y="3133800"/>
                  <a:ext cx="96840" cy="10296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2960"/>
                    <a:gd name="textAreaBottom" fmla="*/ 79560 h 102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4130640" y="3251160"/>
                  <a:ext cx="96840" cy="9864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2320 h 98640"/>
                    <a:gd name="textAreaBottom" fmla="*/ 76320 h 98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4078440" y="3371760"/>
                  <a:ext cx="96840" cy="10332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3952800" y="3151080"/>
                <a:ext cx="190440" cy="344520"/>
                <a:chOff x="3952800" y="3151080"/>
                <a:chExt cx="190440" cy="3445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4051440" y="3151080"/>
                  <a:ext cx="91800" cy="103320"/>
                </a:xfrm>
                <a:custGeom>
                  <a:avLst/>
                  <a:gdLst>
                    <a:gd name="textAreaLeft" fmla="*/ 20880 w 91800"/>
                    <a:gd name="textAreaRight" fmla="*/ 70920 w 9180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4005360" y="3271680"/>
                  <a:ext cx="96840" cy="9864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2320 h 98640"/>
                    <a:gd name="textAreaBottom" fmla="*/ 76320 h 98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3952800" y="3392640"/>
                  <a:ext cx="98640" cy="102960"/>
                </a:xfrm>
                <a:custGeom>
                  <a:avLst/>
                  <a:gdLst>
                    <a:gd name="textAreaLeft" fmla="*/ 22320 w 98640"/>
                    <a:gd name="textAreaRight" fmla="*/ 76320 w 98640"/>
                    <a:gd name="textAreaTop" fmla="*/ 23400 h 102960"/>
                    <a:gd name="textAreaBottom" fmla="*/ 79560 h 102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3836880" y="3151080"/>
                <a:ext cx="190440" cy="344520"/>
                <a:chOff x="3836880" y="3151080"/>
                <a:chExt cx="190440" cy="34452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3933720" y="3151080"/>
                  <a:ext cx="93600" cy="103320"/>
                </a:xfrm>
                <a:custGeom>
                  <a:avLst/>
                  <a:gdLst>
                    <a:gd name="textAreaLeft" fmla="*/ 21240 w 93600"/>
                    <a:gd name="textAreaRight" fmla="*/ 72360 w 9360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3887640" y="3271680"/>
                  <a:ext cx="96840" cy="10188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040 h 101880"/>
                    <a:gd name="textAreaBottom" fmla="*/ 78840 h 101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3836880" y="3392640"/>
                  <a:ext cx="96840" cy="10296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2960"/>
                    <a:gd name="textAreaBottom" fmla="*/ 79560 h 102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1339920" y="3156120"/>
                <a:ext cx="195120" cy="339480"/>
                <a:chOff x="1339920" y="3156120"/>
                <a:chExt cx="195120" cy="33948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1436760" y="3156120"/>
                  <a:ext cx="98280" cy="102960"/>
                </a:xfrm>
                <a:custGeom>
                  <a:avLst/>
                  <a:gdLst>
                    <a:gd name="textAreaLeft" fmla="*/ 22320 w 98280"/>
                    <a:gd name="textAreaRight" fmla="*/ 75960 w 98280"/>
                    <a:gd name="textAreaTop" fmla="*/ 23400 h 102960"/>
                    <a:gd name="textAreaBottom" fmla="*/ 79560 h 102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390680" y="3271680"/>
                  <a:ext cx="93600" cy="98640"/>
                </a:xfrm>
                <a:custGeom>
                  <a:avLst/>
                  <a:gdLst>
                    <a:gd name="textAreaLeft" fmla="*/ 21240 w 93600"/>
                    <a:gd name="textAreaRight" fmla="*/ 72360 w 93600"/>
                    <a:gd name="textAreaTop" fmla="*/ 22320 h 98640"/>
                    <a:gd name="textAreaBottom" fmla="*/ 76320 h 98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1339920" y="3392640"/>
                  <a:ext cx="96840" cy="10296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2960"/>
                    <a:gd name="textAreaBottom" fmla="*/ 79560 h 102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1217520" y="3170160"/>
                <a:ext cx="195480" cy="341280"/>
                <a:chOff x="1217520" y="3170160"/>
                <a:chExt cx="195480" cy="34128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1314360" y="3170160"/>
                  <a:ext cx="98640" cy="103320"/>
                </a:xfrm>
                <a:custGeom>
                  <a:avLst/>
                  <a:gdLst>
                    <a:gd name="textAreaLeft" fmla="*/ 22320 w 98640"/>
                    <a:gd name="textAreaRight" fmla="*/ 76320 w 9864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268280" y="3287880"/>
                  <a:ext cx="98640" cy="98280"/>
                </a:xfrm>
                <a:custGeom>
                  <a:avLst/>
                  <a:gdLst>
                    <a:gd name="textAreaLeft" fmla="*/ 22320 w 98640"/>
                    <a:gd name="textAreaRight" fmla="*/ 76320 w 98640"/>
                    <a:gd name="textAreaTop" fmla="*/ 22320 h 98280"/>
                    <a:gd name="textAreaBottom" fmla="*/ 75960 h 98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1217520" y="3408480"/>
                  <a:ext cx="96840" cy="10296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2960"/>
                    <a:gd name="textAreaBottom" fmla="*/ 79560 h 102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1204920" y="3149640"/>
                <a:ext cx="96840" cy="103320"/>
              </a:xfrm>
              <a:custGeom>
                <a:avLst/>
                <a:gdLst>
                  <a:gd name="textAreaLeft" fmla="*/ 21960 w 96840"/>
                  <a:gd name="textAreaRight" fmla="*/ 74880 w 96840"/>
                  <a:gd name="textAreaTop" fmla="*/ 23400 h 103320"/>
                  <a:gd name="textAreaBottom" fmla="*/ 79920 h 103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158840" y="3263760"/>
                <a:ext cx="93600" cy="103320"/>
              </a:xfrm>
              <a:custGeom>
                <a:avLst/>
                <a:gdLst>
                  <a:gd name="textAreaLeft" fmla="*/ 21240 w 93600"/>
                  <a:gd name="textAreaRight" fmla="*/ 72360 w 93600"/>
                  <a:gd name="textAreaTop" fmla="*/ 23400 h 103320"/>
                  <a:gd name="textAreaBottom" fmla="*/ 79920 h 103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108080" y="3386160"/>
                <a:ext cx="93600" cy="103320"/>
              </a:xfrm>
              <a:custGeom>
                <a:avLst/>
                <a:gdLst>
                  <a:gd name="textAreaLeft" fmla="*/ 21240 w 93600"/>
                  <a:gd name="textAreaRight" fmla="*/ 72360 w 93600"/>
                  <a:gd name="textAreaTop" fmla="*/ 23400 h 103320"/>
                  <a:gd name="textAreaBottom" fmla="*/ 79920 h 103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3" name=""/>
              <p:cNvGrpSpPr/>
              <p:nvPr/>
            </p:nvGrpSpPr>
            <p:grpSpPr>
              <a:xfrm>
                <a:off x="996840" y="3182760"/>
                <a:ext cx="195480" cy="343080"/>
                <a:chOff x="996840" y="3182760"/>
                <a:chExt cx="195480" cy="34308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1095480" y="3182760"/>
                  <a:ext cx="96840" cy="10332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1049400" y="3298680"/>
                  <a:ext cx="96840" cy="10332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996840" y="3422520"/>
                  <a:ext cx="98640" cy="103320"/>
                </a:xfrm>
                <a:custGeom>
                  <a:avLst/>
                  <a:gdLst>
                    <a:gd name="textAreaLeft" fmla="*/ 22320 w 98640"/>
                    <a:gd name="textAreaRight" fmla="*/ 76320 w 9864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895320" y="3164040"/>
                <a:ext cx="192240" cy="338040"/>
                <a:chOff x="895320" y="3164040"/>
                <a:chExt cx="192240" cy="33804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990720" y="3164040"/>
                  <a:ext cx="96840" cy="10296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2960"/>
                    <a:gd name="textAreaBottom" fmla="*/ 79560 h 102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946080" y="3279600"/>
                  <a:ext cx="96840" cy="10332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895320" y="3403440"/>
                  <a:ext cx="95400" cy="98640"/>
                </a:xfrm>
                <a:custGeom>
                  <a:avLst/>
                  <a:gdLst>
                    <a:gd name="textAreaLeft" fmla="*/ 21600 w 95400"/>
                    <a:gd name="textAreaRight" fmla="*/ 73800 w 95400"/>
                    <a:gd name="textAreaTop" fmla="*/ 22320 h 98640"/>
                    <a:gd name="textAreaBottom" fmla="*/ 76320 h 98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1" name=""/>
              <p:cNvSpPr/>
              <p:nvPr/>
            </p:nvSpPr>
            <p:spPr>
              <a:xfrm>
                <a:off x="874800" y="3176640"/>
                <a:ext cx="98280" cy="102960"/>
              </a:xfrm>
              <a:custGeom>
                <a:avLst/>
                <a:gdLst>
                  <a:gd name="textAreaLeft" fmla="*/ 22320 w 98280"/>
                  <a:gd name="textAreaRight" fmla="*/ 75960 w 98280"/>
                  <a:gd name="textAreaTop" fmla="*/ 23400 h 102960"/>
                  <a:gd name="textAreaBottom" fmla="*/ 79560 h 102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28720" y="3292560"/>
                <a:ext cx="96840" cy="102960"/>
              </a:xfrm>
              <a:custGeom>
                <a:avLst/>
                <a:gdLst>
                  <a:gd name="textAreaLeft" fmla="*/ 21960 w 96840"/>
                  <a:gd name="textAreaRight" fmla="*/ 74880 w 96840"/>
                  <a:gd name="textAreaTop" fmla="*/ 23400 h 102960"/>
                  <a:gd name="textAreaBottom" fmla="*/ 79560 h 102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77960" y="3417840"/>
                <a:ext cx="96840" cy="98640"/>
              </a:xfrm>
              <a:custGeom>
                <a:avLst/>
                <a:gdLst>
                  <a:gd name="textAreaLeft" fmla="*/ 21960 w 96840"/>
                  <a:gd name="textAreaRight" fmla="*/ 74880 w 96840"/>
                  <a:gd name="textAreaTop" fmla="*/ 22320 h 98640"/>
                  <a:gd name="textAreaBottom" fmla="*/ 76320 h 98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4" name=""/>
              <p:cNvGrpSpPr/>
              <p:nvPr/>
            </p:nvGrpSpPr>
            <p:grpSpPr>
              <a:xfrm>
                <a:off x="666720" y="3149640"/>
                <a:ext cx="195120" cy="339840"/>
                <a:chOff x="666720" y="3149640"/>
                <a:chExt cx="195120" cy="33984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762120" y="3149640"/>
                  <a:ext cx="99720" cy="103320"/>
                </a:xfrm>
                <a:custGeom>
                  <a:avLst/>
                  <a:gdLst>
                    <a:gd name="textAreaLeft" fmla="*/ 22680 w 99720"/>
                    <a:gd name="textAreaRight" fmla="*/ 77040 w 9972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719280" y="3263760"/>
                  <a:ext cx="93600" cy="103320"/>
                </a:xfrm>
                <a:custGeom>
                  <a:avLst/>
                  <a:gdLst>
                    <a:gd name="textAreaLeft" fmla="*/ 21240 w 93600"/>
                    <a:gd name="textAreaRight" fmla="*/ 72360 w 9360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666720" y="3386160"/>
                  <a:ext cx="92160" cy="103320"/>
                </a:xfrm>
                <a:custGeom>
                  <a:avLst/>
                  <a:gdLst>
                    <a:gd name="textAreaLeft" fmla="*/ 20880 w 92160"/>
                    <a:gd name="textAreaRight" fmla="*/ 71280 w 9216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542880" y="3170160"/>
                <a:ext cx="195480" cy="341280"/>
                <a:chOff x="542880" y="3170160"/>
                <a:chExt cx="195480" cy="34128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639720" y="3170160"/>
                  <a:ext cx="98640" cy="103320"/>
                </a:xfrm>
                <a:custGeom>
                  <a:avLst/>
                  <a:gdLst>
                    <a:gd name="textAreaLeft" fmla="*/ 22320 w 98640"/>
                    <a:gd name="textAreaRight" fmla="*/ 76320 w 9864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593640" y="3286080"/>
                  <a:ext cx="96840" cy="10332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542880" y="3408480"/>
                  <a:ext cx="96840" cy="10296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2960"/>
                    <a:gd name="textAreaBottom" fmla="*/ 79560 h 102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425520" y="3171960"/>
                <a:ext cx="195120" cy="339480"/>
                <a:chOff x="425520" y="3171960"/>
                <a:chExt cx="195120" cy="33948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523800" y="3171960"/>
                  <a:ext cx="96840" cy="9828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2320 h 98280"/>
                    <a:gd name="textAreaBottom" fmla="*/ 75960 h 98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76280" y="3286080"/>
                  <a:ext cx="98280" cy="103320"/>
                </a:xfrm>
                <a:custGeom>
                  <a:avLst/>
                  <a:gdLst>
                    <a:gd name="textAreaLeft" fmla="*/ 22320 w 98280"/>
                    <a:gd name="textAreaRight" fmla="*/ 75960 w 9828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425520" y="3408480"/>
                  <a:ext cx="96840" cy="10296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2960"/>
                    <a:gd name="textAreaBottom" fmla="*/ 79560 h 102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6" name=""/>
              <p:cNvSpPr/>
              <p:nvPr/>
            </p:nvSpPr>
            <p:spPr>
              <a:xfrm>
                <a:off x="1933560" y="3327480"/>
                <a:ext cx="96840" cy="102960"/>
              </a:xfrm>
              <a:custGeom>
                <a:avLst/>
                <a:gdLst>
                  <a:gd name="textAreaLeft" fmla="*/ 21960 w 96840"/>
                  <a:gd name="textAreaRight" fmla="*/ 74880 w 96840"/>
                  <a:gd name="textAreaTop" fmla="*/ 23400 h 102960"/>
                  <a:gd name="textAreaBottom" fmla="*/ 79560 h 102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705120" y="3271680"/>
                <a:ext cx="98640" cy="103320"/>
              </a:xfrm>
              <a:custGeom>
                <a:avLst/>
                <a:gdLst>
                  <a:gd name="textAreaLeft" fmla="*/ 22320 w 98640"/>
                  <a:gd name="textAreaRight" fmla="*/ 76320 w 98640"/>
                  <a:gd name="textAreaTop" fmla="*/ 23400 h 103320"/>
                  <a:gd name="textAreaBottom" fmla="*/ 79920 h 103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603600" y="3333600"/>
                <a:ext cx="96840" cy="103320"/>
              </a:xfrm>
              <a:custGeom>
                <a:avLst/>
                <a:gdLst>
                  <a:gd name="textAreaLeft" fmla="*/ 21960 w 96840"/>
                  <a:gd name="textAreaRight" fmla="*/ 74880 w 96840"/>
                  <a:gd name="textAreaTop" fmla="*/ 23400 h 103320"/>
                  <a:gd name="textAreaBottom" fmla="*/ 79920 h 103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795840" y="3197160"/>
                <a:ext cx="96840" cy="103320"/>
              </a:xfrm>
              <a:custGeom>
                <a:avLst/>
                <a:gdLst>
                  <a:gd name="textAreaLeft" fmla="*/ 21960 w 96840"/>
                  <a:gd name="textAreaRight" fmla="*/ 74880 w 96840"/>
                  <a:gd name="textAreaTop" fmla="*/ 23400 h 103320"/>
                  <a:gd name="textAreaBottom" fmla="*/ 79920 h 103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498840" y="3265560"/>
                <a:ext cx="96840" cy="102960"/>
              </a:xfrm>
              <a:custGeom>
                <a:avLst/>
                <a:gdLst>
                  <a:gd name="textAreaLeft" fmla="*/ 21960 w 96840"/>
                  <a:gd name="textAreaRight" fmla="*/ 74880 w 96840"/>
                  <a:gd name="textAreaTop" fmla="*/ 23400 h 102960"/>
                  <a:gd name="textAreaBottom" fmla="*/ 79560 h 102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395520" y="3301920"/>
                <a:ext cx="96840" cy="100080"/>
              </a:xfrm>
              <a:custGeom>
                <a:avLst/>
                <a:gdLst>
                  <a:gd name="textAreaLeft" fmla="*/ 21960 w 96840"/>
                  <a:gd name="textAreaRight" fmla="*/ 74880 w 96840"/>
                  <a:gd name="textAreaTop" fmla="*/ 22680 h 100080"/>
                  <a:gd name="textAreaBottom" fmla="*/ 77400 h 100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290760" y="3265560"/>
                <a:ext cx="96840" cy="102960"/>
              </a:xfrm>
              <a:custGeom>
                <a:avLst/>
                <a:gdLst>
                  <a:gd name="textAreaLeft" fmla="*/ 21960 w 96840"/>
                  <a:gd name="textAreaRight" fmla="*/ 74880 w 96840"/>
                  <a:gd name="textAreaTop" fmla="*/ 23400 h 102960"/>
                  <a:gd name="textAreaBottom" fmla="*/ 79560 h 102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187800" y="3203640"/>
                <a:ext cx="96840" cy="102960"/>
              </a:xfrm>
              <a:custGeom>
                <a:avLst/>
                <a:gdLst>
                  <a:gd name="textAreaLeft" fmla="*/ 21960 w 96840"/>
                  <a:gd name="textAreaRight" fmla="*/ 74880 w 96840"/>
                  <a:gd name="textAreaTop" fmla="*/ 23400 h 102960"/>
                  <a:gd name="textAreaBottom" fmla="*/ 79560 h 102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083040" y="3265560"/>
                <a:ext cx="96840" cy="102960"/>
              </a:xfrm>
              <a:custGeom>
                <a:avLst/>
                <a:gdLst>
                  <a:gd name="textAreaLeft" fmla="*/ 21960 w 96840"/>
                  <a:gd name="textAreaRight" fmla="*/ 74880 w 96840"/>
                  <a:gd name="textAreaTop" fmla="*/ 23400 h 102960"/>
                  <a:gd name="textAreaBottom" fmla="*/ 79560 h 102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979720" y="3313080"/>
                <a:ext cx="96840" cy="103320"/>
              </a:xfrm>
              <a:custGeom>
                <a:avLst/>
                <a:gdLst>
                  <a:gd name="textAreaLeft" fmla="*/ 21960 w 96840"/>
                  <a:gd name="textAreaRight" fmla="*/ 74880 w 96840"/>
                  <a:gd name="textAreaTop" fmla="*/ 23400 h 103320"/>
                  <a:gd name="textAreaBottom" fmla="*/ 79920 h 103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874960" y="3265560"/>
                <a:ext cx="96840" cy="102960"/>
              </a:xfrm>
              <a:custGeom>
                <a:avLst/>
                <a:gdLst>
                  <a:gd name="textAreaLeft" fmla="*/ 21960 w 96840"/>
                  <a:gd name="textAreaRight" fmla="*/ 74880 w 96840"/>
                  <a:gd name="textAreaTop" fmla="*/ 23400 h 102960"/>
                  <a:gd name="textAreaBottom" fmla="*/ 79560 h 102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765520" y="3343320"/>
                <a:ext cx="96840" cy="98280"/>
              </a:xfrm>
              <a:custGeom>
                <a:avLst/>
                <a:gdLst>
                  <a:gd name="textAreaLeft" fmla="*/ 21960 w 96840"/>
                  <a:gd name="textAreaRight" fmla="*/ 74880 w 96840"/>
                  <a:gd name="textAreaTop" fmla="*/ 22320 h 98280"/>
                  <a:gd name="textAreaBottom" fmla="*/ 75960 h 98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666880" y="3265560"/>
                <a:ext cx="96840" cy="102960"/>
              </a:xfrm>
              <a:custGeom>
                <a:avLst/>
                <a:gdLst>
                  <a:gd name="textAreaLeft" fmla="*/ 21960 w 96840"/>
                  <a:gd name="textAreaRight" fmla="*/ 74880 w 96840"/>
                  <a:gd name="textAreaTop" fmla="*/ 23400 h 102960"/>
                  <a:gd name="textAreaBottom" fmla="*/ 79560 h 102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562120" y="3211560"/>
                <a:ext cx="96840" cy="103320"/>
              </a:xfrm>
              <a:custGeom>
                <a:avLst/>
                <a:gdLst>
                  <a:gd name="textAreaLeft" fmla="*/ 21960 w 96840"/>
                  <a:gd name="textAreaRight" fmla="*/ 74880 w 96840"/>
                  <a:gd name="textAreaTop" fmla="*/ 23400 h 103320"/>
                  <a:gd name="textAreaBottom" fmla="*/ 79920 h 103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459160" y="3265560"/>
                <a:ext cx="95040" cy="102960"/>
              </a:xfrm>
              <a:custGeom>
                <a:avLst/>
                <a:gdLst>
                  <a:gd name="textAreaLeft" fmla="*/ 21600 w 95040"/>
                  <a:gd name="textAreaRight" fmla="*/ 73440 w 95040"/>
                  <a:gd name="textAreaTop" fmla="*/ 23400 h 102960"/>
                  <a:gd name="textAreaBottom" fmla="*/ 79560 h 102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327400" y="3333600"/>
                <a:ext cx="96840" cy="103320"/>
              </a:xfrm>
              <a:custGeom>
                <a:avLst/>
                <a:gdLst>
                  <a:gd name="textAreaLeft" fmla="*/ 21960 w 96840"/>
                  <a:gd name="textAreaRight" fmla="*/ 74880 w 96840"/>
                  <a:gd name="textAreaTop" fmla="*/ 23400 h 103320"/>
                  <a:gd name="textAreaBottom" fmla="*/ 79920 h 103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51080" y="3263760"/>
                <a:ext cx="93600" cy="103320"/>
              </a:xfrm>
              <a:custGeom>
                <a:avLst/>
                <a:gdLst>
                  <a:gd name="textAreaLeft" fmla="*/ 21240 w 93600"/>
                  <a:gd name="textAreaRight" fmla="*/ 72360 w 93600"/>
                  <a:gd name="textAreaTop" fmla="*/ 23400 h 103320"/>
                  <a:gd name="textAreaBottom" fmla="*/ 79920 h 103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158920" y="3346560"/>
                <a:ext cx="96840" cy="102960"/>
              </a:xfrm>
              <a:custGeom>
                <a:avLst/>
                <a:gdLst>
                  <a:gd name="textAreaLeft" fmla="*/ 21960 w 96840"/>
                  <a:gd name="textAreaRight" fmla="*/ 74880 w 96840"/>
                  <a:gd name="textAreaTop" fmla="*/ 23400 h 102960"/>
                  <a:gd name="textAreaBottom" fmla="*/ 79560 h 102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043000" y="3263760"/>
                <a:ext cx="92160" cy="103320"/>
              </a:xfrm>
              <a:custGeom>
                <a:avLst/>
                <a:gdLst>
                  <a:gd name="textAreaLeft" fmla="*/ 20880 w 92160"/>
                  <a:gd name="textAreaRight" fmla="*/ 71280 w 92160"/>
                  <a:gd name="textAreaTop" fmla="*/ 23400 h 103320"/>
                  <a:gd name="textAreaBottom" fmla="*/ 79920 h 103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835280" y="3263760"/>
                <a:ext cx="91800" cy="103320"/>
              </a:xfrm>
              <a:custGeom>
                <a:avLst/>
                <a:gdLst>
                  <a:gd name="textAreaLeft" fmla="*/ 20880 w 91800"/>
                  <a:gd name="textAreaRight" fmla="*/ 70920 w 91800"/>
                  <a:gd name="textAreaTop" fmla="*/ 23400 h 103320"/>
                  <a:gd name="textAreaBottom" fmla="*/ 79920 h 103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730520" y="3346560"/>
                <a:ext cx="98280" cy="102960"/>
              </a:xfrm>
              <a:custGeom>
                <a:avLst/>
                <a:gdLst>
                  <a:gd name="textAreaLeft" fmla="*/ 22320 w 98280"/>
                  <a:gd name="textAreaRight" fmla="*/ 75960 w 98280"/>
                  <a:gd name="textAreaTop" fmla="*/ 23400 h 102960"/>
                  <a:gd name="textAreaBottom" fmla="*/ 79560 h 102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627200" y="3263760"/>
                <a:ext cx="92160" cy="103320"/>
              </a:xfrm>
              <a:custGeom>
                <a:avLst/>
                <a:gdLst>
                  <a:gd name="textAreaLeft" fmla="*/ 20880 w 92160"/>
                  <a:gd name="textAreaRight" fmla="*/ 71280 w 92160"/>
                  <a:gd name="textAreaTop" fmla="*/ 23400 h 103320"/>
                  <a:gd name="textAreaBottom" fmla="*/ 79920 h 103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495440" y="3298680"/>
                <a:ext cx="100080" cy="103320"/>
              </a:xfrm>
              <a:custGeom>
                <a:avLst/>
                <a:gdLst>
                  <a:gd name="textAreaLeft" fmla="*/ 22680 w 100080"/>
                  <a:gd name="textAreaRight" fmla="*/ 77400 w 100080"/>
                  <a:gd name="textAreaTop" fmla="*/ 23400 h 103320"/>
                  <a:gd name="textAreaBottom" fmla="*/ 79920 h 103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630000" y="2841480"/>
              <a:ext cx="4242240" cy="305640"/>
              <a:chOff x="630000" y="2841480"/>
              <a:chExt cx="4242240" cy="305640"/>
            </a:xfrm>
          </p:grpSpPr>
          <p:sp>
            <p:nvSpPr>
              <p:cNvPr id="460" name=""/>
              <p:cNvSpPr/>
              <p:nvPr/>
            </p:nvSpPr>
            <p:spPr>
              <a:xfrm>
                <a:off x="630000" y="2841480"/>
                <a:ext cx="8132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c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o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059000" y="2841480"/>
                <a:ext cx="8132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c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o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31280" y="2841480"/>
                <a:ext cx="960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c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HIG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3" name=""/>
          <p:cNvGrpSpPr/>
          <p:nvPr/>
        </p:nvGrpSpPr>
        <p:grpSpPr>
          <a:xfrm>
            <a:off x="272880" y="4581360"/>
            <a:ext cx="5361120" cy="775800"/>
            <a:chOff x="272880" y="4581360"/>
            <a:chExt cx="5361120" cy="775800"/>
          </a:xfrm>
        </p:grpSpPr>
        <p:grpSp>
          <p:nvGrpSpPr>
            <p:cNvPr id="464" name=""/>
            <p:cNvGrpSpPr/>
            <p:nvPr/>
          </p:nvGrpSpPr>
          <p:grpSpPr>
            <a:xfrm>
              <a:off x="272880" y="4581360"/>
              <a:ext cx="5361120" cy="726840"/>
              <a:chOff x="272880" y="4581360"/>
              <a:chExt cx="5361120" cy="726840"/>
            </a:xfrm>
          </p:grpSpPr>
          <p:grpSp>
            <p:nvGrpSpPr>
              <p:cNvPr id="465" name=""/>
              <p:cNvGrpSpPr/>
              <p:nvPr/>
            </p:nvGrpSpPr>
            <p:grpSpPr>
              <a:xfrm>
                <a:off x="1422360" y="4711680"/>
                <a:ext cx="2381400" cy="185760"/>
                <a:chOff x="1422360" y="4711680"/>
                <a:chExt cx="2381400" cy="185760"/>
              </a:xfrm>
            </p:grpSpPr>
            <p:sp>
              <p:nvSpPr>
                <p:cNvPr id="466" name=""/>
                <p:cNvSpPr/>
                <p:nvPr/>
              </p:nvSpPr>
              <p:spPr>
                <a:xfrm flipV="1">
                  <a:off x="2279520" y="4775040"/>
                  <a:ext cx="95400" cy="8280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flipV="1">
                  <a:off x="1650960" y="4781520"/>
                  <a:ext cx="311040" cy="7632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1974960" y="4775040"/>
                  <a:ext cx="272880" cy="6984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2413080" y="4762440"/>
                  <a:ext cx="520560" cy="1908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2997360" y="4775040"/>
                  <a:ext cx="272880" cy="6984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flipV="1">
                  <a:off x="3295800" y="4781520"/>
                  <a:ext cx="279360" cy="6984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3613320" y="4775040"/>
                  <a:ext cx="190440" cy="6372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1422360" y="4819680"/>
                  <a:ext cx="184320" cy="1908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3540240" y="4713120"/>
                  <a:ext cx="96840" cy="10332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3222720" y="4791240"/>
                  <a:ext cx="96840" cy="9828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2320 h 98280"/>
                    <a:gd name="textAreaBottom" fmla="*/ 75960 h 98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2916360" y="4713120"/>
                  <a:ext cx="95040" cy="103320"/>
                </a:xfrm>
                <a:custGeom>
                  <a:avLst/>
                  <a:gdLst>
                    <a:gd name="textAreaLeft" fmla="*/ 21600 w 95040"/>
                    <a:gd name="textAreaRight" fmla="*/ 73440 w 9504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327400" y="4711680"/>
                  <a:ext cx="93600" cy="103320"/>
                </a:xfrm>
                <a:custGeom>
                  <a:avLst/>
                  <a:gdLst>
                    <a:gd name="textAreaLeft" fmla="*/ 21240 w 93600"/>
                    <a:gd name="textAreaRight" fmla="*/ 72360 w 9360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235240" y="4794120"/>
                  <a:ext cx="96840" cy="10332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1911240" y="4711680"/>
                  <a:ext cx="92160" cy="103320"/>
                </a:xfrm>
                <a:custGeom>
                  <a:avLst/>
                  <a:gdLst>
                    <a:gd name="textAreaLeft" fmla="*/ 20880 w 92160"/>
                    <a:gd name="textAreaRight" fmla="*/ 71280 w 9216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1577880" y="4794120"/>
                  <a:ext cx="98640" cy="103320"/>
                </a:xfrm>
                <a:custGeom>
                  <a:avLst/>
                  <a:gdLst>
                    <a:gd name="textAreaLeft" fmla="*/ 22320 w 98640"/>
                    <a:gd name="textAreaRight" fmla="*/ 76320 w 9864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272880" y="4597560"/>
                <a:ext cx="1170000" cy="376200"/>
                <a:chOff x="272880" y="4597560"/>
                <a:chExt cx="1170000" cy="376200"/>
              </a:xfrm>
            </p:grpSpPr>
            <p:grpSp>
              <p:nvGrpSpPr>
                <p:cNvPr id="482" name=""/>
                <p:cNvGrpSpPr/>
                <p:nvPr/>
              </p:nvGrpSpPr>
              <p:grpSpPr>
                <a:xfrm>
                  <a:off x="1187280" y="4603680"/>
                  <a:ext cx="195480" cy="339840"/>
                  <a:chOff x="1187280" y="4603680"/>
                  <a:chExt cx="195480" cy="33984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>
                    <a:off x="1284120" y="4603680"/>
                    <a:ext cx="98640" cy="103320"/>
                  </a:xfrm>
                  <a:custGeom>
                    <a:avLst/>
                    <a:gdLst>
                      <a:gd name="textAreaLeft" fmla="*/ 22320 w 98640"/>
                      <a:gd name="textAreaRight" fmla="*/ 76320 w 9864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1238400" y="4719600"/>
                    <a:ext cx="93600" cy="98640"/>
                  </a:xfrm>
                  <a:custGeom>
                    <a:avLst/>
                    <a:gdLst>
                      <a:gd name="textAreaLeft" fmla="*/ 21240 w 93600"/>
                      <a:gd name="textAreaRight" fmla="*/ 72360 w 93600"/>
                      <a:gd name="textAreaTop" fmla="*/ 22320 h 98640"/>
                      <a:gd name="textAreaBottom" fmla="*/ 76320 h 986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1187280" y="4840200"/>
                    <a:ext cx="96840" cy="10332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6" name=""/>
                <p:cNvGrpSpPr/>
                <p:nvPr/>
              </p:nvGrpSpPr>
              <p:grpSpPr>
                <a:xfrm>
                  <a:off x="1065240" y="4618080"/>
                  <a:ext cx="195120" cy="341280"/>
                  <a:chOff x="1065240" y="4618080"/>
                  <a:chExt cx="195120" cy="341280"/>
                </a:xfrm>
              </p:grpSpPr>
              <p:sp>
                <p:nvSpPr>
                  <p:cNvPr id="487" name=""/>
                  <p:cNvSpPr/>
                  <p:nvPr/>
                </p:nvSpPr>
                <p:spPr>
                  <a:xfrm>
                    <a:off x="1162080" y="4618080"/>
                    <a:ext cx="98280" cy="103320"/>
                  </a:xfrm>
                  <a:custGeom>
                    <a:avLst/>
                    <a:gdLst>
                      <a:gd name="textAreaLeft" fmla="*/ 22320 w 98280"/>
                      <a:gd name="textAreaRight" fmla="*/ 75960 w 9828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1116000" y="4735440"/>
                    <a:ext cx="98280" cy="98640"/>
                  </a:xfrm>
                  <a:custGeom>
                    <a:avLst/>
                    <a:gdLst>
                      <a:gd name="textAreaLeft" fmla="*/ 22320 w 98280"/>
                      <a:gd name="textAreaRight" fmla="*/ 75960 w 98280"/>
                      <a:gd name="textAreaTop" fmla="*/ 22320 h 98640"/>
                      <a:gd name="textAreaBottom" fmla="*/ 76320 h 986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1065240" y="4856040"/>
                    <a:ext cx="96840" cy="10332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0" name=""/>
                <p:cNvSpPr/>
                <p:nvPr/>
              </p:nvSpPr>
              <p:spPr>
                <a:xfrm>
                  <a:off x="1052640" y="4597560"/>
                  <a:ext cx="96840" cy="10296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2960"/>
                    <a:gd name="textAreaBottom" fmla="*/ 79560 h 102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006560" y="4711680"/>
                  <a:ext cx="93600" cy="103320"/>
                </a:xfrm>
                <a:custGeom>
                  <a:avLst/>
                  <a:gdLst>
                    <a:gd name="textAreaLeft" fmla="*/ 21240 w 93600"/>
                    <a:gd name="textAreaRight" fmla="*/ 72360 w 9360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955800" y="4834080"/>
                  <a:ext cx="93600" cy="102960"/>
                </a:xfrm>
                <a:custGeom>
                  <a:avLst/>
                  <a:gdLst>
                    <a:gd name="textAreaLeft" fmla="*/ 21240 w 93600"/>
                    <a:gd name="textAreaRight" fmla="*/ 72360 w 93600"/>
                    <a:gd name="textAreaTop" fmla="*/ 23400 h 102960"/>
                    <a:gd name="textAreaBottom" fmla="*/ 79560 h 102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3" name=""/>
                <p:cNvGrpSpPr/>
                <p:nvPr/>
              </p:nvGrpSpPr>
              <p:grpSpPr>
                <a:xfrm>
                  <a:off x="844560" y="4630680"/>
                  <a:ext cx="195120" cy="343080"/>
                  <a:chOff x="844560" y="4630680"/>
                  <a:chExt cx="195120" cy="34308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>
                    <a:off x="942840" y="4630680"/>
                    <a:ext cx="96840" cy="10332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896760" y="4746600"/>
                    <a:ext cx="96840" cy="10332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844560" y="4870440"/>
                    <a:ext cx="98280" cy="103320"/>
                  </a:xfrm>
                  <a:custGeom>
                    <a:avLst/>
                    <a:gdLst>
                      <a:gd name="textAreaLeft" fmla="*/ 22320 w 98280"/>
                      <a:gd name="textAreaRight" fmla="*/ 75960 w 9828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7" name=""/>
                <p:cNvGrpSpPr/>
                <p:nvPr/>
              </p:nvGrpSpPr>
              <p:grpSpPr>
                <a:xfrm>
                  <a:off x="743040" y="4611600"/>
                  <a:ext cx="191880" cy="338400"/>
                  <a:chOff x="743040" y="4611600"/>
                  <a:chExt cx="191880" cy="338400"/>
                </a:xfrm>
              </p:grpSpPr>
              <p:sp>
                <p:nvSpPr>
                  <p:cNvPr id="498" name=""/>
                  <p:cNvSpPr/>
                  <p:nvPr/>
                </p:nvSpPr>
                <p:spPr>
                  <a:xfrm>
                    <a:off x="838080" y="4611600"/>
                    <a:ext cx="96840" cy="10332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793800" y="4727520"/>
                    <a:ext cx="96840" cy="10332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743040" y="4851360"/>
                    <a:ext cx="95040" cy="98640"/>
                  </a:xfrm>
                  <a:custGeom>
                    <a:avLst/>
                    <a:gdLst>
                      <a:gd name="textAreaLeft" fmla="*/ 21600 w 95040"/>
                      <a:gd name="textAreaRight" fmla="*/ 73440 w 95040"/>
                      <a:gd name="textAreaTop" fmla="*/ 22320 h 98640"/>
                      <a:gd name="textAreaBottom" fmla="*/ 76320 h 986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1" name=""/>
                <p:cNvSpPr/>
                <p:nvPr/>
              </p:nvSpPr>
              <p:spPr>
                <a:xfrm>
                  <a:off x="722160" y="4624560"/>
                  <a:ext cx="98640" cy="102960"/>
                </a:xfrm>
                <a:custGeom>
                  <a:avLst/>
                  <a:gdLst>
                    <a:gd name="textAreaLeft" fmla="*/ 22320 w 98640"/>
                    <a:gd name="textAreaRight" fmla="*/ 76320 w 98640"/>
                    <a:gd name="textAreaTop" fmla="*/ 23400 h 102960"/>
                    <a:gd name="textAreaBottom" fmla="*/ 79560 h 102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76440" y="4740120"/>
                  <a:ext cx="96840" cy="10332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625320" y="4865760"/>
                  <a:ext cx="96840" cy="9828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2320 h 98280"/>
                    <a:gd name="textAreaBottom" fmla="*/ 75960 h 98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4" name=""/>
                <p:cNvGrpSpPr/>
                <p:nvPr/>
              </p:nvGrpSpPr>
              <p:grpSpPr>
                <a:xfrm>
                  <a:off x="514440" y="4597560"/>
                  <a:ext cx="195120" cy="339480"/>
                  <a:chOff x="514440" y="4597560"/>
                  <a:chExt cx="195120" cy="339480"/>
                </a:xfrm>
              </p:grpSpPr>
              <p:sp>
                <p:nvSpPr>
                  <p:cNvPr id="505" name=""/>
                  <p:cNvSpPr/>
                  <p:nvPr/>
                </p:nvSpPr>
                <p:spPr>
                  <a:xfrm>
                    <a:off x="609480" y="4597560"/>
                    <a:ext cx="100080" cy="102960"/>
                  </a:xfrm>
                  <a:custGeom>
                    <a:avLst/>
                    <a:gdLst>
                      <a:gd name="textAreaLeft" fmla="*/ 22680 w 100080"/>
                      <a:gd name="textAreaRight" fmla="*/ 77400 w 100080"/>
                      <a:gd name="textAreaTop" fmla="*/ 23400 h 102960"/>
                      <a:gd name="textAreaBottom" fmla="*/ 79560 h 102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566640" y="4711680"/>
                    <a:ext cx="93600" cy="103320"/>
                  </a:xfrm>
                  <a:custGeom>
                    <a:avLst/>
                    <a:gdLst>
                      <a:gd name="textAreaLeft" fmla="*/ 21240 w 93600"/>
                      <a:gd name="textAreaRight" fmla="*/ 72360 w 9360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514440" y="4834080"/>
                    <a:ext cx="92160" cy="102960"/>
                  </a:xfrm>
                  <a:custGeom>
                    <a:avLst/>
                    <a:gdLst>
                      <a:gd name="textAreaLeft" fmla="*/ 20880 w 92160"/>
                      <a:gd name="textAreaRight" fmla="*/ 71280 w 92160"/>
                      <a:gd name="textAreaTop" fmla="*/ 23400 h 102960"/>
                      <a:gd name="textAreaBottom" fmla="*/ 79560 h 102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390600" y="4618080"/>
                  <a:ext cx="195120" cy="341280"/>
                  <a:chOff x="390600" y="4618080"/>
                  <a:chExt cx="195120" cy="34128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>
                    <a:off x="487440" y="4618080"/>
                    <a:ext cx="98280" cy="103320"/>
                  </a:xfrm>
                  <a:custGeom>
                    <a:avLst/>
                    <a:gdLst>
                      <a:gd name="textAreaLeft" fmla="*/ 22320 w 98280"/>
                      <a:gd name="textAreaRight" fmla="*/ 75960 w 9828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441360" y="4734000"/>
                    <a:ext cx="96840" cy="10296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3400 h 102960"/>
                      <a:gd name="textAreaBottom" fmla="*/ 79560 h 102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390600" y="4856040"/>
                    <a:ext cx="96840" cy="10332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2" name=""/>
                <p:cNvGrpSpPr/>
                <p:nvPr/>
              </p:nvGrpSpPr>
              <p:grpSpPr>
                <a:xfrm>
                  <a:off x="272880" y="4619520"/>
                  <a:ext cx="195480" cy="339840"/>
                  <a:chOff x="272880" y="4619520"/>
                  <a:chExt cx="195480" cy="339840"/>
                </a:xfrm>
              </p:grpSpPr>
              <p:sp>
                <p:nvSpPr>
                  <p:cNvPr id="513" name=""/>
                  <p:cNvSpPr/>
                  <p:nvPr/>
                </p:nvSpPr>
                <p:spPr>
                  <a:xfrm>
                    <a:off x="371520" y="4619520"/>
                    <a:ext cx="96840" cy="9864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2320 h 98640"/>
                      <a:gd name="textAreaBottom" fmla="*/ 76320 h 986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324000" y="4734000"/>
                    <a:ext cx="98280" cy="102960"/>
                  </a:xfrm>
                  <a:custGeom>
                    <a:avLst/>
                    <a:gdLst>
                      <a:gd name="textAreaLeft" fmla="*/ 22320 w 98280"/>
                      <a:gd name="textAreaRight" fmla="*/ 75960 w 98280"/>
                      <a:gd name="textAreaTop" fmla="*/ 23400 h 102960"/>
                      <a:gd name="textAreaBottom" fmla="*/ 79560 h 102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272880" y="4856040"/>
                    <a:ext cx="96840" cy="10332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6" name=""/>
                <p:cNvSpPr/>
                <p:nvPr/>
              </p:nvSpPr>
              <p:spPr>
                <a:xfrm>
                  <a:off x="1343160" y="4746600"/>
                  <a:ext cx="99720" cy="103320"/>
                </a:xfrm>
                <a:custGeom>
                  <a:avLst/>
                  <a:gdLst>
                    <a:gd name="textAreaLeft" fmla="*/ 22680 w 99720"/>
                    <a:gd name="textAreaRight" fmla="*/ 77040 w 9972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7" name=""/>
              <p:cNvGrpSpPr/>
              <p:nvPr/>
            </p:nvGrpSpPr>
            <p:grpSpPr>
              <a:xfrm>
                <a:off x="2549520" y="4764240"/>
                <a:ext cx="1767960" cy="543960"/>
                <a:chOff x="2549520" y="4764240"/>
                <a:chExt cx="1767960" cy="54396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3765600" y="4764240"/>
                  <a:ext cx="399960" cy="13644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9" name=""/>
                <p:cNvGrpSpPr/>
                <p:nvPr/>
              </p:nvGrpSpPr>
              <p:grpSpPr>
                <a:xfrm>
                  <a:off x="3365640" y="4857840"/>
                  <a:ext cx="951840" cy="186840"/>
                  <a:chOff x="3365640" y="4857840"/>
                  <a:chExt cx="951840" cy="186840"/>
                </a:xfrm>
              </p:grpSpPr>
              <p:sp>
                <p:nvSpPr>
                  <p:cNvPr id="520" name=""/>
                  <p:cNvSpPr/>
                  <p:nvPr/>
                </p:nvSpPr>
                <p:spPr>
                  <a:xfrm>
                    <a:off x="3930840" y="4857840"/>
                    <a:ext cx="386640" cy="186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9" y="9343"/>
                        </a:moveTo>
                        <a:arcTo wR="10800" hR="10800" stAng="-10334815" swAng="490675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9" y="9343"/>
                        </a:moveTo>
                        <a:arcTo wR="10800" hR="10800" stAng="-10334815" swAng="4906752"/>
                      </a:path>
                    </a:pathLst>
                  </a:custGeom>
                  <a:noFill/>
                  <a:ln cap="rnd" w="25560">
                    <a:solidFill>
                      <a:srgbClr val="cc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3365640" y="4890240"/>
                    <a:ext cx="57420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595" y="10471"/>
                        </a:moveTo>
                        <a:arcTo wR="10800" hR="10800" stAng="-104721" swAng="48847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595" y="10471"/>
                        </a:moveTo>
                        <a:arcTo wR="10800" hR="10800" stAng="-104721" swAng="4884759"/>
                      </a:path>
                    </a:pathLst>
                  </a:custGeom>
                  <a:noFill/>
                  <a:ln cap="rnd" w="25560">
                    <a:solidFill>
                      <a:srgbClr val="cc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2" name=""/>
                <p:cNvGrpSpPr/>
                <p:nvPr/>
              </p:nvGrpSpPr>
              <p:grpSpPr>
                <a:xfrm>
                  <a:off x="2952720" y="4987800"/>
                  <a:ext cx="952560" cy="186840"/>
                  <a:chOff x="2952720" y="4987800"/>
                  <a:chExt cx="952560" cy="186840"/>
                </a:xfrm>
              </p:grpSpPr>
              <p:sp>
                <p:nvSpPr>
                  <p:cNvPr id="523" name=""/>
                  <p:cNvSpPr/>
                  <p:nvPr/>
                </p:nvSpPr>
                <p:spPr>
                  <a:xfrm>
                    <a:off x="3517920" y="4987800"/>
                    <a:ext cx="387360" cy="186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9" y="9343"/>
                        </a:moveTo>
                        <a:arcTo wR="10800" hR="10800" stAng="-10334815" swAng="490675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9" y="9343"/>
                        </a:moveTo>
                        <a:arcTo wR="10800" hR="10800" stAng="-10334815" swAng="4906752"/>
                      </a:path>
                    </a:pathLst>
                  </a:custGeom>
                  <a:noFill/>
                  <a:ln cap="rnd" w="25560">
                    <a:solidFill>
                      <a:srgbClr val="cc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2952720" y="5020200"/>
                    <a:ext cx="57420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595" y="10471"/>
                        </a:moveTo>
                        <a:arcTo wR="10800" hR="10800" stAng="-104721" swAng="48847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595" y="10471"/>
                        </a:moveTo>
                        <a:arcTo wR="10800" hR="10800" stAng="-104721" swAng="4884759"/>
                      </a:path>
                    </a:pathLst>
                  </a:custGeom>
                  <a:noFill/>
                  <a:ln cap="rnd" w="25560">
                    <a:solidFill>
                      <a:srgbClr val="cc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5" name=""/>
                <p:cNvGrpSpPr/>
                <p:nvPr/>
              </p:nvGrpSpPr>
              <p:grpSpPr>
                <a:xfrm>
                  <a:off x="2549520" y="5121360"/>
                  <a:ext cx="952560" cy="186840"/>
                  <a:chOff x="2549520" y="5121360"/>
                  <a:chExt cx="952560" cy="186840"/>
                </a:xfrm>
              </p:grpSpPr>
              <p:sp>
                <p:nvSpPr>
                  <p:cNvPr id="526" name=""/>
                  <p:cNvSpPr/>
                  <p:nvPr/>
                </p:nvSpPr>
                <p:spPr>
                  <a:xfrm>
                    <a:off x="3114720" y="5121360"/>
                    <a:ext cx="387360" cy="186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9" y="9343"/>
                        </a:moveTo>
                        <a:arcTo wR="10800" hR="10800" stAng="-10334815" swAng="490675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9" y="9343"/>
                        </a:moveTo>
                        <a:arcTo wR="10800" hR="10800" stAng="-10334815" swAng="4906752"/>
                      </a:path>
                    </a:pathLst>
                  </a:custGeom>
                  <a:noFill/>
                  <a:ln cap="rnd" w="25560">
                    <a:solidFill>
                      <a:srgbClr val="cc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2549520" y="5153760"/>
                    <a:ext cx="57420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595" y="10471"/>
                        </a:moveTo>
                        <a:arcTo wR="10800" hR="10800" stAng="-104721" swAng="48847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595" y="10471"/>
                        </a:moveTo>
                        <a:arcTo wR="10800" hR="10800" stAng="-104721" swAng="4884759"/>
                      </a:path>
                    </a:pathLst>
                  </a:custGeom>
                  <a:noFill/>
                  <a:ln cap="rnd" w="25560">
                    <a:solidFill>
                      <a:srgbClr val="cc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8" name=""/>
              <p:cNvGrpSpPr/>
              <p:nvPr/>
            </p:nvGrpSpPr>
            <p:grpSpPr>
              <a:xfrm>
                <a:off x="4159080" y="4581360"/>
                <a:ext cx="1474920" cy="376560"/>
                <a:chOff x="4159080" y="4581360"/>
                <a:chExt cx="1474920" cy="37656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4862520" y="4581360"/>
                  <a:ext cx="96840" cy="10332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4816440" y="4699080"/>
                  <a:ext cx="96840" cy="9828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2320 h 98280"/>
                    <a:gd name="textAreaBottom" fmla="*/ 75960 h 98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4764240" y="4819680"/>
                  <a:ext cx="96840" cy="10332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flipV="1">
                  <a:off x="4159080" y="4800600"/>
                  <a:ext cx="241560" cy="3816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3" name=""/>
                <p:cNvGrpSpPr/>
                <p:nvPr/>
              </p:nvGrpSpPr>
              <p:grpSpPr>
                <a:xfrm>
                  <a:off x="5315040" y="4602240"/>
                  <a:ext cx="191880" cy="339480"/>
                  <a:chOff x="5315040" y="4602240"/>
                  <a:chExt cx="191880" cy="33948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>
                    <a:off x="5411880" y="4602240"/>
                    <a:ext cx="95040" cy="102960"/>
                  </a:xfrm>
                  <a:custGeom>
                    <a:avLst/>
                    <a:gdLst>
                      <a:gd name="textAreaLeft" fmla="*/ 21600 w 95040"/>
                      <a:gd name="textAreaRight" fmla="*/ 73440 w 95040"/>
                      <a:gd name="textAreaTop" fmla="*/ 23400 h 102960"/>
                      <a:gd name="textAreaBottom" fmla="*/ 79560 h 102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5365800" y="4718160"/>
                    <a:ext cx="96840" cy="10296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3400 h 102960"/>
                      <a:gd name="textAreaBottom" fmla="*/ 79560 h 102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5315040" y="4843440"/>
                    <a:ext cx="96840" cy="9828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2320 h 98280"/>
                      <a:gd name="textAreaBottom" fmla="*/ 75960 h 98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7" name=""/>
                <p:cNvSpPr/>
                <p:nvPr/>
              </p:nvSpPr>
              <p:spPr>
                <a:xfrm>
                  <a:off x="5256360" y="4697280"/>
                  <a:ext cx="96840" cy="10332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203800" y="4819680"/>
                  <a:ext cx="98280" cy="103320"/>
                </a:xfrm>
                <a:custGeom>
                  <a:avLst/>
                  <a:gdLst>
                    <a:gd name="textAreaLeft" fmla="*/ 22320 w 98280"/>
                    <a:gd name="textAreaRight" fmla="*/ 75960 w 9828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9" name=""/>
                <p:cNvGrpSpPr/>
                <p:nvPr/>
              </p:nvGrpSpPr>
              <p:grpSpPr>
                <a:xfrm>
                  <a:off x="5094360" y="4614840"/>
                  <a:ext cx="191880" cy="343080"/>
                  <a:chOff x="5094360" y="4614840"/>
                  <a:chExt cx="191880" cy="343080"/>
                </a:xfrm>
              </p:grpSpPr>
              <p:sp>
                <p:nvSpPr>
                  <p:cNvPr id="540" name=""/>
                  <p:cNvSpPr/>
                  <p:nvPr/>
                </p:nvSpPr>
                <p:spPr>
                  <a:xfrm>
                    <a:off x="5192640" y="4614840"/>
                    <a:ext cx="93600" cy="100080"/>
                  </a:xfrm>
                  <a:custGeom>
                    <a:avLst/>
                    <a:gdLst>
                      <a:gd name="textAreaLeft" fmla="*/ 21240 w 93600"/>
                      <a:gd name="textAreaRight" fmla="*/ 72360 w 93600"/>
                      <a:gd name="textAreaTop" fmla="*/ 22680 h 100080"/>
                      <a:gd name="textAreaBottom" fmla="*/ 77400 h 100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5145120" y="4730760"/>
                    <a:ext cx="96840" cy="10332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5094360" y="4854600"/>
                    <a:ext cx="96840" cy="10332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3" name=""/>
                <p:cNvGrpSpPr/>
                <p:nvPr/>
              </p:nvGrpSpPr>
              <p:grpSpPr>
                <a:xfrm>
                  <a:off x="4989600" y="4594320"/>
                  <a:ext cx="196920" cy="342720"/>
                  <a:chOff x="4989600" y="4594320"/>
                  <a:chExt cx="196920" cy="342720"/>
                </a:xfrm>
              </p:grpSpPr>
              <p:sp>
                <p:nvSpPr>
                  <p:cNvPr id="544" name=""/>
                  <p:cNvSpPr/>
                  <p:nvPr/>
                </p:nvSpPr>
                <p:spPr>
                  <a:xfrm>
                    <a:off x="5087880" y="4594320"/>
                    <a:ext cx="98640" cy="104760"/>
                  </a:xfrm>
                  <a:custGeom>
                    <a:avLst/>
                    <a:gdLst>
                      <a:gd name="textAreaLeft" fmla="*/ 22320 w 98640"/>
                      <a:gd name="textAreaRight" fmla="*/ 76320 w 98640"/>
                      <a:gd name="textAreaTop" fmla="*/ 23760 h 104760"/>
                      <a:gd name="textAreaBottom" fmla="*/ 81000 h 1047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5043600" y="4711680"/>
                    <a:ext cx="96840" cy="10332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4989600" y="4834080"/>
                    <a:ext cx="98280" cy="102960"/>
                  </a:xfrm>
                  <a:custGeom>
                    <a:avLst/>
                    <a:gdLst>
                      <a:gd name="textAreaLeft" fmla="*/ 22320 w 98280"/>
                      <a:gd name="textAreaRight" fmla="*/ 75960 w 98280"/>
                      <a:gd name="textAreaTop" fmla="*/ 23400 h 102960"/>
                      <a:gd name="textAreaBottom" fmla="*/ 79560 h 102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7" name=""/>
                <p:cNvGrpSpPr/>
                <p:nvPr/>
              </p:nvGrpSpPr>
              <p:grpSpPr>
                <a:xfrm>
                  <a:off x="4873680" y="4606920"/>
                  <a:ext cx="191880" cy="343080"/>
                  <a:chOff x="4873680" y="4606920"/>
                  <a:chExt cx="191880" cy="343080"/>
                </a:xfrm>
              </p:grpSpPr>
              <p:sp>
                <p:nvSpPr>
                  <p:cNvPr id="548" name=""/>
                  <p:cNvSpPr/>
                  <p:nvPr/>
                </p:nvSpPr>
                <p:spPr>
                  <a:xfrm>
                    <a:off x="4971960" y="4606920"/>
                    <a:ext cx="93600" cy="103320"/>
                  </a:xfrm>
                  <a:custGeom>
                    <a:avLst/>
                    <a:gdLst>
                      <a:gd name="textAreaLeft" fmla="*/ 21240 w 93600"/>
                      <a:gd name="textAreaRight" fmla="*/ 72360 w 9360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4925880" y="4724280"/>
                    <a:ext cx="96840" cy="10332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4873680" y="4846680"/>
                    <a:ext cx="98280" cy="103320"/>
                  </a:xfrm>
                  <a:custGeom>
                    <a:avLst/>
                    <a:gdLst>
                      <a:gd name="textAreaLeft" fmla="*/ 22320 w 98280"/>
                      <a:gd name="textAreaRight" fmla="*/ 75960 w 9828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1" name=""/>
                <p:cNvGrpSpPr/>
                <p:nvPr/>
              </p:nvGrpSpPr>
              <p:grpSpPr>
                <a:xfrm>
                  <a:off x="4638600" y="4599000"/>
                  <a:ext cx="190440" cy="344520"/>
                  <a:chOff x="4638600" y="4599000"/>
                  <a:chExt cx="190440" cy="344520"/>
                </a:xfrm>
              </p:grpSpPr>
              <p:sp>
                <p:nvSpPr>
                  <p:cNvPr id="552" name=""/>
                  <p:cNvSpPr/>
                  <p:nvPr/>
                </p:nvSpPr>
                <p:spPr>
                  <a:xfrm>
                    <a:off x="4737240" y="4599000"/>
                    <a:ext cx="91800" cy="103320"/>
                  </a:xfrm>
                  <a:custGeom>
                    <a:avLst/>
                    <a:gdLst>
                      <a:gd name="textAreaLeft" fmla="*/ 20880 w 91800"/>
                      <a:gd name="textAreaRight" fmla="*/ 70920 w 9180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4691160" y="4719600"/>
                    <a:ext cx="96840" cy="9864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2320 h 98640"/>
                      <a:gd name="textAreaBottom" fmla="*/ 76320 h 986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4638600" y="4840200"/>
                    <a:ext cx="98640" cy="103320"/>
                  </a:xfrm>
                  <a:custGeom>
                    <a:avLst/>
                    <a:gdLst>
                      <a:gd name="textAreaLeft" fmla="*/ 22320 w 98640"/>
                      <a:gd name="textAreaRight" fmla="*/ 76320 w 9864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5" name=""/>
                <p:cNvGrpSpPr/>
                <p:nvPr/>
              </p:nvGrpSpPr>
              <p:grpSpPr>
                <a:xfrm>
                  <a:off x="4522680" y="4599000"/>
                  <a:ext cx="190440" cy="344520"/>
                  <a:chOff x="4522680" y="4599000"/>
                  <a:chExt cx="190440" cy="344520"/>
                </a:xfrm>
              </p:grpSpPr>
              <p:sp>
                <p:nvSpPr>
                  <p:cNvPr id="556" name=""/>
                  <p:cNvSpPr/>
                  <p:nvPr/>
                </p:nvSpPr>
                <p:spPr>
                  <a:xfrm>
                    <a:off x="4619520" y="4599000"/>
                    <a:ext cx="93600" cy="103320"/>
                  </a:xfrm>
                  <a:custGeom>
                    <a:avLst/>
                    <a:gdLst>
                      <a:gd name="textAreaLeft" fmla="*/ 21240 w 93600"/>
                      <a:gd name="textAreaRight" fmla="*/ 72360 w 9360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4573440" y="4719600"/>
                    <a:ext cx="96840" cy="10152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3040 h 101520"/>
                      <a:gd name="textAreaBottom" fmla="*/ 78480 h 101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4522680" y="4840200"/>
                    <a:ext cx="96840" cy="103320"/>
                  </a:xfrm>
                  <a:custGeom>
                    <a:avLst/>
                    <a:gdLst>
                      <a:gd name="textAreaLeft" fmla="*/ 21960 w 96840"/>
                      <a:gd name="textAreaRight" fmla="*/ 74880 w 96840"/>
                      <a:gd name="textAreaTop" fmla="*/ 23400 h 103320"/>
                      <a:gd name="textAreaBottom" fmla="*/ 79920 h 103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9" name=""/>
                <p:cNvSpPr/>
                <p:nvPr/>
              </p:nvSpPr>
              <p:spPr>
                <a:xfrm>
                  <a:off x="4390920" y="4719600"/>
                  <a:ext cx="98640" cy="103320"/>
                </a:xfrm>
                <a:custGeom>
                  <a:avLst/>
                  <a:gdLst>
                    <a:gd name="textAreaLeft" fmla="*/ 22320 w 98640"/>
                    <a:gd name="textAreaRight" fmla="*/ 76320 w 9864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4213080" y="4781520"/>
                  <a:ext cx="96840" cy="10332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4481640" y="4645080"/>
                  <a:ext cx="96840" cy="10296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2960"/>
                    <a:gd name="textAreaBottom" fmla="*/ 79560 h 102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5533920" y="4587840"/>
                  <a:ext cx="100080" cy="103320"/>
                </a:xfrm>
                <a:custGeom>
                  <a:avLst/>
                  <a:gdLst>
                    <a:gd name="textAreaLeft" fmla="*/ 22680 w 100080"/>
                    <a:gd name="textAreaRight" fmla="*/ 77400 w 10008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5492880" y="4703760"/>
                  <a:ext cx="96840" cy="10332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5438880" y="4829040"/>
                  <a:ext cx="98280" cy="98640"/>
                </a:xfrm>
                <a:custGeom>
                  <a:avLst/>
                  <a:gdLst>
                    <a:gd name="textAreaLeft" fmla="*/ 22320 w 98280"/>
                    <a:gd name="textAreaRight" fmla="*/ 75960 w 98280"/>
                    <a:gd name="textAreaTop" fmla="*/ 22320 h 98640"/>
                    <a:gd name="textAreaBottom" fmla="*/ 76320 h 98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5302080" y="4581360"/>
                  <a:ext cx="96840" cy="103320"/>
                </a:xfrm>
                <a:custGeom>
                  <a:avLst/>
                  <a:gdLst>
                    <a:gd name="textAreaLeft" fmla="*/ 21960 w 96840"/>
                    <a:gd name="textAreaRight" fmla="*/ 74880 w 96840"/>
                    <a:gd name="textAreaTop" fmla="*/ 23400 h 103320"/>
                    <a:gd name="textAreaBottom" fmla="*/ 79920 h 103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6" name=""/>
            <p:cNvSpPr/>
            <p:nvPr/>
          </p:nvSpPr>
          <p:spPr>
            <a:xfrm>
              <a:off x="325080" y="5051520"/>
              <a:ext cx="813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516200" y="5051520"/>
              <a:ext cx="813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697760" y="5051520"/>
              <a:ext cx="960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G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1615680" y="6148440"/>
            <a:ext cx="772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IGH acetylation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s a functional characteristic of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PLACEMENT HIST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307440" y="6218280"/>
            <a:ext cx="200160" cy="200160"/>
          </a:xfrm>
          <a:custGeom>
            <a:avLst/>
            <a:gdLst>
              <a:gd name="textAreaLeft" fmla="*/ 45720 w 200160"/>
              <a:gd name="textAreaRight" fmla="*/ 154440 w 200160"/>
              <a:gd name="textAreaTop" fmla="*/ 45720 h 200160"/>
              <a:gd name="textAreaBottom" fmla="*/ 154440 h 200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JH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5T20:57:39Z</dcterms:created>
  <dc:creator>Jakob H. Waterborg</dc:creator>
  <dc:description/>
  <dc:language>en-US</dc:language>
  <cp:lastModifiedBy>Jakob H. Waterborg</cp:lastModifiedBy>
  <cp:lastPrinted>1999-03-10T03:34:38Z</cp:lastPrinted>
  <dcterms:modified xsi:type="dcterms:W3CDTF">1999-03-24T13:31:23Z</dcterms:modified>
  <cp:revision>14</cp:revision>
  <dc:subject/>
  <dc:title>CHROMATIN</dc:title>
</cp:coreProperties>
</file>